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2675-ACBC-4A99-8FAD-521FA291DCC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EC2C-75AF-450C-81BB-1AB3225529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A698-8571-4723-9F15-8A5B9DB553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A629-5868-4E8B-8BFE-5B54B8C0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156F-3E0D-4CA9-9288-505C32F8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74C7-4CC8-41F1-B25B-722330CE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B930-B9AD-49A8-8FDF-0ED997AD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0C4E-7FEB-47FA-A582-8D84672A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C770-7F14-4F13-BFBC-6E694D80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D49E-0678-49D1-A7B2-50C928F3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96C7-3F4F-4F64-9E6D-724A3547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426C-2D9E-4521-AA11-F92DC20D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DFED-0168-4D0C-919C-AF55131C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AD9F-B690-4C6F-A930-1A0CB23A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B071-4DBF-4E1E-AC29-4399AEB1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0541-068D-4B33-89C6-55CF894C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8668-4F28-45BD-9E5C-A25BE05B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D142-9100-40A9-A289-A286D035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B377-C4AB-451D-B1A9-4A2F3B0E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F8F9-0323-44E3-8E88-BC33BCF0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F723-E692-46C3-BB7F-96C21395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6EFF-80B5-4FCB-AC7A-0BB04B6D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8725-AEE5-423B-BC8F-D7F0DFA8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43EF-BE9C-401C-BBF4-A6FAB38E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6B69-8AFC-4971-A1F8-9AAB5A30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DDA0-46B7-485B-9EE9-F94D4E62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340A-F42D-4E0C-BAC6-6A58F5CD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2093-6191-4793-89D5-6EF9121EF3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D135-C789-4845-9BFF-69170E710B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500120"/>
            <a:ext cx="9001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for submission, acceptance and processing of isolates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guidance for all count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carriage of Category A infectious substances should be strictly prohibited on air c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packages containing infectious substances should not be consolidated with unrelated types of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ppers of infectious substances should ensure that packages are prepared so they arrive in good condition and present no hazard during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C878-421D-49CC-BBD7-021F4A15BA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86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iteria for rejection of an isol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process; contact the submitter to resubmit isolate for the following reas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abel on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or leaking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 overgrown with conta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Opening tube with mould can contaminate BSC and other specim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may be processed if minor questions can be clar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pellings between tube and request s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submitter to clarify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0CF4-A565-4DB3-9045-918D18E869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eparation of isolate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0040" y="1599840"/>
            <a:ext cx="8143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isolate as belonging 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the TB isolate is not conta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f molecular or liquid medium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DST in liquid broth in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322D-A77C-4721-A318-2AF9571AFF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14200" y="7632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solate must be identified as MTBC before performing D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5"/>
          <p:cNvSpPr/>
          <p:nvPr/>
        </p:nvSpPr>
        <p:spPr>
          <a:xfrm>
            <a:off x="565308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4"/>
          <p:cNvSpPr/>
          <p:nvPr/>
        </p:nvSpPr>
        <p:spPr>
          <a:xfrm>
            <a:off x="5940360" y="387504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5"/>
          <p:cNvSpPr/>
          <p:nvPr/>
        </p:nvSpPr>
        <p:spPr>
          <a:xfrm>
            <a:off x="5940360" y="459432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0"/>
          <p:cNvSpPr/>
          <p:nvPr/>
        </p:nvSpPr>
        <p:spPr>
          <a:xfrm>
            <a:off x="3276720" y="3514680"/>
            <a:ext cx="2376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3"/>
          <p:cNvSpPr/>
          <p:nvPr/>
        </p:nvSpPr>
        <p:spPr>
          <a:xfrm>
            <a:off x="5005440" y="3154320"/>
            <a:ext cx="2303280" cy="43200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1"/>
          <p:cNvSpPr/>
          <p:nvPr/>
        </p:nvSpPr>
        <p:spPr>
          <a:xfrm>
            <a:off x="2629080" y="1785960"/>
            <a:ext cx="3600360" cy="720720"/>
          </a:xfrm>
          <a:prstGeom prst="ellipse">
            <a:avLst/>
          </a:prstGeom>
          <a:solidFill>
            <a:srgbClr val="ffcc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4"/>
          <p:cNvSpPr/>
          <p:nvPr/>
        </p:nvSpPr>
        <p:spPr>
          <a:xfrm>
            <a:off x="327672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0"/>
          <p:cNvSpPr/>
          <p:nvPr/>
        </p:nvSpPr>
        <p:spPr>
          <a:xfrm>
            <a:off x="1692360" y="3154320"/>
            <a:ext cx="2303280" cy="4320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9"/>
          <p:cNvSpPr/>
          <p:nvPr/>
        </p:nvSpPr>
        <p:spPr>
          <a:xfrm>
            <a:off x="971640" y="459432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68"/>
          <p:cNvSpPr/>
          <p:nvPr/>
        </p:nvSpPr>
        <p:spPr>
          <a:xfrm>
            <a:off x="971640" y="387504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2"/>
          <p:cNvSpPr/>
          <p:nvPr/>
        </p:nvSpPr>
        <p:spPr>
          <a:xfrm>
            <a:off x="2413080" y="5170320"/>
            <a:ext cx="587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0"/>
          <p:cNvSpPr/>
          <p:nvPr/>
        </p:nvSpPr>
        <p:spPr>
          <a:xfrm>
            <a:off x="3708360" y="3083040"/>
            <a:ext cx="720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8"/>
          <p:cNvSpPr/>
          <p:nvPr/>
        </p:nvSpPr>
        <p:spPr>
          <a:xfrm>
            <a:off x="2556000" y="19051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ulture positive for AF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4500720" y="2506680"/>
            <a:ext cx="0" cy="1008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1"/>
          <p:cNvSpPr/>
          <p:nvPr/>
        </p:nvSpPr>
        <p:spPr>
          <a:xfrm>
            <a:off x="3924360" y="2793960"/>
            <a:ext cx="1152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611280" y="260208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lony and Cellular morph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3"/>
          <p:cNvSpPr/>
          <p:nvPr/>
        </p:nvSpPr>
        <p:spPr>
          <a:xfrm>
            <a:off x="5076720" y="263376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owth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 flipH="1">
            <a:off x="291600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7"/>
          <p:cNvSpPr/>
          <p:nvPr/>
        </p:nvSpPr>
        <p:spPr>
          <a:xfrm flipH="1">
            <a:off x="291600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H="1">
            <a:off x="565272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 flipH="1">
            <a:off x="565272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973080" y="39402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Biochemical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971640" y="46674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ntigen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013440" y="39909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ne-probe 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300720" y="46674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NA 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1692360" y="31543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nventional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5221440" y="31543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olecular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9"/>
          <p:cNvSpPr/>
          <p:nvPr/>
        </p:nvSpPr>
        <p:spPr>
          <a:xfrm>
            <a:off x="1143000" y="5572080"/>
            <a:ext cx="6858000" cy="642600"/>
          </a:xfrm>
          <a:prstGeom prst="rect">
            <a:avLst/>
          </a:prstGeom>
          <a:noFill/>
          <a:ln w="19080">
            <a:solidFill>
              <a:srgbClr val="3d3d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uberculous mycobacteria can be resistant to anti-TB drugs, and testing can result in inappropriate patient 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34EE-BA1E-4B11-A08C-15F869ED32D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on solid medi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6360" y="1447920"/>
            <a:ext cx="8239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J medium contains bacteriostatic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chite green inhibits most environmental and normal fl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remove liquid in bottom of LJ before inoculation. Loosen cap fo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ek of incub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exposure to malachite green, so contaminants may eventually grow in this liqu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minated LJ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ontamination is slight, attempt to isolate TB colonies; transfer to new L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tally contaminated, request a new speci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5C8A-17FB-455E-A172-36C6AE8E371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in MGIT tub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2160" y="1447920"/>
            <a:ext cx="686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ed MGIT tubes usually become positive very ear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– 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id growers such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-intracellul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(MAC) may be positive in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obser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ogeneous turb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cid-fast bacteria may be seen in AFB smear of MGIT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or without AF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ulture to blood agar p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in 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rcRect l="0" t="0" r="50031" b="0"/>
          <a:stretch/>
        </p:blipFill>
        <p:spPr>
          <a:xfrm>
            <a:off x="7162920" y="2274840"/>
            <a:ext cx="761760" cy="2568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ST performed using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roblems with egg-based media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cy of drugs may be diminished during inspis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 the eggs (phospholipids, proteins) affect som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agar with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DC i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-to-lot variations in quality have been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on solid media requires 3 to 4 weeks of incu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C5C0-90D9-4DA2-8CEA-B6415E6F24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ld standard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r proportion method using Middlebrook 7H10 with quality assured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the standard method for TB DST in the USA and many Europe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first- and second-line drugs can be accurately tested for susceptibility or resistance using thi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because of the long turn-around time, the method is more appropriate for surveillance than for individual patient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3B91-7BF6-4288-8D53-E73F62FB60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51444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vantages of molecula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liquid medium DS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57120" y="1356840"/>
            <a:ext cx="842976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performed within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TB is included in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MDR TB is quite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results may be obtained even with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not all drugs are currentl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dium DST using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ready within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validated for all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 including PZA and som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8358-1FEA-425B-A84F-79C6C6E8CF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cells for molecular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28400" y="1428480"/>
            <a:ext cx="84294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suspension of cells in steril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on solid medium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cells from slant with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suspension in 300 µl of steril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in liquid medium (MGIT bro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1 ml portion of the suspension to a micro-centrifug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ifuge for 15 min and resuspend pellet in 300 µl of sterile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B08F-A105-425B-B9DF-875BA29980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submission process for isolates receiv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criteria for acceptance or rejection of iso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how TB isolates are prepar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NA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or molecular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599840"/>
            <a:ext cx="7429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20 min in a 9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water bath (kills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15 min in an ultrasonic water bath (optional for isol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 and use approximately 5 µl of the supernatant for PC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7452-C7B7-45F2-8127-3C5A754D02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isolates for MGIT DST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can be grown either on solid or liquid media prior to being tested in the MGIT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healthy cells in logarithmic phase of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airly light inoculum so that drug concentrations are not overwhel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should be AFB-positive and identified as a pure culture of the MTB complex before furthe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C1E0-FFAF-46F2-AD43-659B0F7C90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oculum from the MGIT tub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ing to the following recommended timeframe is important for accu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ay a MGIT tube is positive by the instrument is consider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ube should be kept incubated for at least one more day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before D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be incubated in a separate incubator at 37 ºC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 º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positive tube may be used for DST up to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tube that has been positive for more than 5 days should be subcultured into a fresh MGIT tube and incubated until it is positive;  use this tube from 1 to 5 days of instrument positivity as described ab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n a tube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use the supernatant undiluted for inoculation of the drug s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3, 4 or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then dilute 1.0 ml of the positive broth with 4.0 ml of sterile saline.  This will be a 1:5 dilution.  Use this well-mixed diluted culture for inocul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64CD-3557-4536-8F8E-84640306B4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920" y="228600"/>
            <a:ext cx="8067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oculum from growth on solid medi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2920" y="1428480"/>
            <a:ext cx="8391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growth on solid medium within 15 days of appearance of positive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a large amount of growth into a tube with broth or saline and glass beads; vortex the tube for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inutes to break the clumps – the turbidity should be &gt; McFarland #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suspension stand undisturbed for 20 minutes, then transfer the supernatant into another sterile tub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is tube stand undisturbed for another 15 minutes then transfer the supernatant into another sterile tube – the turbidity should &gt; McFarland #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the turbidity of this suspension down to McFarland #0.5 by adding sterile saline; do not make it below this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lute the above suspension 1:5 by adding 1.0 ml of the suspension to 4.0 ml of sterile saline;  mix well and use it as the inoculum for drug susceptibilit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1C4D-00D0-4258-A5BF-C0F13F4CC2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: Isolates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13840" y="1481040"/>
            <a:ext cx="86439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can either be grown in the DST testing laboratory or referred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of isolates to the DST testing laboratory must be safe, timely, efficient and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should not be tested if they are unlabelled, leaked, or overgrown with m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using molecular or MGIT system methods have much shorter turn-around times than DST using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henotypic DST, growth should be AFB-positive, and identified as a pure culture of the MTB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9694-532F-48F6-BF9A-9FF2937984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8F3A-4FD0-43B7-BA24-99905C31262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499760"/>
            <a:ext cx="80010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of isol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red to DST testing laboratory from another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n in DST testing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to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ort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 for acceptance or rejection of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ling, lea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ing the isolate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lecular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qu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Ex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referred to DST testing laboratory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to process sputum specimens and perform culture in laboratories near to where specimen is 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minants may overgrow TB in sputum specimens during transport time and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olates more likely to survive transportation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ever, biosafety requirements must be strictly followed to transport iso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 identification and DST are best performed at National TB Reference Laboratory or other Quality Assured referral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time and need to re-grow isolate delays DST report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s and relevant and patient information must be accurately transcribed and transported to the NTRL for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0319-1B16-4E1B-A27E-41AB0D5BCF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In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grown in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on patient has already been documented when specimen received for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database or log books provide information on previous tests performed on this same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mear results on current iso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 on tests performed on specimens from this pat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 issues seen with previous specimens or isolates can be add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34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: growth found only on either liquid or solid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for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er turn-around time for reporting DS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es contained within same laboratory; biosafety issues easier to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3859-9B38-4209-AC8B-D9FCBED747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portation to DST testing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s suspected of being TB must be transported to the DST testing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ly – protect transport agents from risk of inf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y – ensure viable isolates fo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ly – delivery to appropriate labora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ly – according to national and international transportation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F7A7-CDA3-482B-8C7E-3447C5ADF6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portation guid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Guidance on Regulations for the Transport of Infectious Substances 2009-20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ycobacterium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lassified as Infectious substance, Category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causing life-threatening or fatal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name is UN2814 – INFECTIOUS SUBSTANCE AFFECTING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1BDF-FB93-4C67-9C53-24CF76A90A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000760" y="6357960"/>
            <a:ext cx="314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/HSE/EPR/2008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triple packaging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920" y="1571760"/>
            <a:ext cx="4929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recep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ly marked and labelled with appropriate shipping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DE0A-42D0-481B-8354-93756D44C2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rcRect l="7491" t="12002" r="3884" b="0"/>
          <a:stretch/>
        </p:blipFill>
        <p:spPr>
          <a:xfrm>
            <a:off x="3714840" y="1714680"/>
            <a:ext cx="5286240" cy="3276360"/>
          </a:xfrm>
          <a:prstGeom prst="rect">
            <a:avLst/>
          </a:prstGeom>
          <a:ln w="9360">
            <a:solidFill>
              <a:srgbClr val="3d3dd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t all countries have adopted the United Nations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499760"/>
            <a:ext cx="792504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guidelines apply whenever the UN system for the transport of infectious substances has been ado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encourages all countries to adopt thi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the principles described are not intended to supersede national or loc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8D50-84AA-4D04-ACBF-3E3A46C7CD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7:48Z</dcterms:modified>
  <cp:revision>175</cp:revision>
  <dc:subject/>
  <dc:title>PowerPoint Presentation</dc:title>
</cp:coreProperties>
</file>