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D3E3-0D5A-45A7-90E0-E1DF32E9D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FFA2-8ACD-4588-8ED5-EF547707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587A-C2FD-481A-B75C-A68E9B34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E353-7894-411F-A9B6-7C6FFAD5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7D24-F646-4A7D-8264-77505540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BDD7-90BF-4F21-BA0D-62AE4BAF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C63C-867B-4463-80E7-89B2D495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3C37-EB74-4C16-B7F6-F30B5F96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E604-CCC7-43FA-A948-A78E6DCF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A6E0-EDC5-4802-9A88-DE0B404F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5945-AA6F-4164-AA24-82CF37B9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4AB-5866-4FA9-AF74-FAB5F0CB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A8F7-F1F1-4D64-95F5-163DF364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F7A6-7426-4E7C-89C3-417981D9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4494-B17F-410B-A2CD-E408013F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83A9-1953-4FE4-9307-9E974B0D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B892-6DDB-48F6-AC38-EA8894FE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6ADD-53D6-47B1-ACDE-FB400744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C7FA-A3C1-4C59-A185-E7E256B4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D06D-B3D1-46C8-AF31-99536E01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3EB0-0EDC-4F95-A90E-3AFF0C21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7F39-D877-48E7-B12A-91CCA105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F749-71C1-4861-B155-0DFF56C1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0151-C4A4-4E60-A384-BC238082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43B5-5562-46E5-A948-7BC179AB88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F361-B951-410B-B863-C593E358EA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6D65-757B-4A51-9E14-593ACE3C72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BACTEC MGIT 960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quality contro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AF3D-CFDF-490B-A4AB-718AA2E40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65DE-64E5-483C-A872-5EACC335E4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y QC reagent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D thoroughly tests all BACTEC MGIT 960 DST products prior to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y test at your fac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may be mishandled during sh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biotic potency may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 ability of laboratory to perform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F94C-B306-4F79-B4F4-BE1B484253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™ MGIT™ 960 DST </a:t>
            </a:r>
            <a:br>
              <a:rPr sz="4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qual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hipment or lot number of drug kits before use with patient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SIRE and PZA DST Q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validated, otherwise set up a QC DST set each time DSTs are inoc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rgan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CC 27294 (H37R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E dru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concentrations tested should be the same as those used for routin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oncentrations of INH used for patients; QC both concent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1E42-1F19-4D12-B8E7-13D60ECC94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organis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cultur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CC 27294 (H37RV) or well-characterized pan-susceptible MTB s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IT 960 tub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days after flagged positive by instru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organisms may be tested to supplement BD QC recommend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nt to inoculate a known mono-resistant strain of M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17FE-EEC9-4EB7-9F67-C0AF0F0428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200" spc="-1" strike="noStrike">
                <a:solidFill>
                  <a:srgbClr val="ffffff"/>
                </a:solidFill>
                <a:latin typeface="Arial"/>
              </a:rPr>
              <a:t>Drug and organis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should be taken to ensure proper reconstitution of lyophilized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 drug concen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preparation significantly impacts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 dilution of organism for drug and growth control tube is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nsion must be well mixed and homogeneous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QC organism suspension in the same way as patient isolate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e SIRE and PZA DS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hydrate drugs with sterile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liquots of prepared drugs from free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expiration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inoculum and di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BB28-15C5-453E-A54D-4277B7ACE7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2241-881D-450B-AE5B-6BD16147FA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y of tubes into MGIT 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DST set carrier into the BACTEC MGIT 960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pretation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will interpret results between         days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should read susceptible for all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oper results are not observed, repeat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E92F-968C-480C-9B3F-F4DD7E6D31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 rec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lot numbers of MGIT 960 tubes, drugs and drug supp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QC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 for a minimum of two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04A4-62A0-4243-A7C5-390A5D48E8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performed on all new lots or new shipment of SIRE and PZA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 suspension can be prepared from MGIT tube or sol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homogeneous, i.e. without clu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librated pipettes to inoculate drugs to media tubes, not disposable transfer pip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8:44Z</dcterms:modified>
  <cp:revision>26</cp:revision>
  <dc:subject/>
  <dc:title>BACTEC MGIT 960 DST Quality Control</dc:title>
</cp:coreProperties>
</file>