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CA8-2D24-41B8-945A-1F9F130E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5D6-61B5-4768-8AFD-13200D4E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8C92-7028-4EA7-8E52-76B12901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A8F6-5259-44C4-9A3A-CC2B081D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5BEB-A35B-499D-8402-8C5D99BE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1232-B468-495D-898B-4D7AB4DD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F078-621B-4CAF-87F5-BA0DF8A1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5F00-B069-4A61-B9E0-2EB30E71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D954-7FF1-4773-AD06-BCF9AFAA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E28D-43EA-482E-A729-DFC430C9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5054-C672-4E3C-9C85-01209212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4852-C168-4450-B36C-50289D46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0A2A-DC7C-475E-A0E9-B4AB1610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7507-6C82-474A-994E-6DF14B5E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8214-DE3A-4300-9492-3D95B968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6BC3-4B0B-4F31-8185-D8E26728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88D9-9179-445E-BC79-0D58C6DC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B6402-EE8A-41E4-B76F-DEE5E27A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936DA-33CA-4FBA-AF43-BB8AEC2C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8F19C-8C5F-4C9D-99F1-44BB6594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B60E1-E24F-4476-908C-3A2AC886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E0032-AEFA-4A05-A86B-0E8AB9DA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12D-B14E-4BBC-A993-EB375ECE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3AC83-3907-4FF4-B8DF-69E12112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A02EB-6135-49AB-974A-A6C3FCCD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06359-C6F1-4F8D-B492-B95FD985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F472C-4F38-4F7A-ACA4-6A318CCB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9FB5D-81BB-4E13-923E-7DE7560E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D7F8C-87D6-4F94-849A-75A3956A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E2B20-BDE9-44A9-8AF6-2192FEEC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DB8F-B7B7-4BCF-A239-71610364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E57-FBAA-4334-9D78-74F628BE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6D8-1512-44E1-8F9A-07FA27E2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B52-EEAE-4DF7-A130-C504A57E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C43-A6B1-47C0-82AE-A21FE8FD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DF9-3DA0-44A3-A6AD-2D5302C4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1F0A-58A5-479B-A579-1081CD74D4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9CEE-5DB5-4F28-9B2D-6492EF9473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6" descr="LogoColour"/>
          <p:cNvPicPr/>
          <p:nvPr/>
        </p:nvPicPr>
        <p:blipFill>
          <a:blip r:embed="rId2"/>
          <a:stretch/>
        </p:blipFill>
        <p:spPr>
          <a:xfrm>
            <a:off x="6572160" y="621504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36B7-3F86-4B55-9A49-8D44CC62D1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8820000" cy="14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cription - transl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5C0E-2B38-4CD6-8C32-40E1F49150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666880" y="2190600"/>
            <a:ext cx="3810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passes through the sections of the ribo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reads the code in 3 letter words (codon) in the genet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chain is built as amino acids are added to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made and have variou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3D45-30DA-436F-867B-FE2F118B9A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86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5434200" cy="13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503F-BCF0-45DC-A450-71B1A3E849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714760" y="3429000"/>
            <a:ext cx="2928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rial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 every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loop of stable chromosomal DNA stored in the nucleoid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double-str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DNA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-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few millio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7DF1-D11D-4291-B497-85720DD013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4648320" y="2228760"/>
            <a:ext cx="3886200" cy="3162240"/>
          </a:xfrm>
          <a:prstGeom prst="rect">
            <a:avLst/>
          </a:prstGeom>
          <a:ln w="0">
            <a:noFill/>
          </a:ln>
        </p:spPr>
      </p:pic>
      <p:sp>
        <p:nvSpPr>
          <p:cNvPr id="186" name="Up Arrow 10"/>
          <p:cNvSpPr/>
          <p:nvPr/>
        </p:nvSpPr>
        <p:spPr>
          <a:xfrm rot="19715400">
            <a:off x="6519600" y="4074840"/>
            <a:ext cx="484200" cy="13953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myco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nserved regions of DNA allow for species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es are conserved within a species or complex, but differ from othe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 with sequence differences that are used fo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– 23S ITS (internal transcribed spacer)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AC4D-6F80-4F5E-809D-3CF573DF87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2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TB complex can be differentiated from other mycobacterial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the TB complex have identical DNA sequences in these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ycobacterial species have sequence differences in these regions and this is the basis for molecula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45F5-5583-46F7-9F18-AF6634DC32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identification metho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to DNA or RNA from growth-amplified cells (need isolates for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Probe AccuProbes bind ribosomal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T (nucleic acid amplification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nzymatic amplification of DNA or RNA (P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brew assays, other commercial 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8D90-4E76-49E8-AF30-E38537285E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rget and prob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nucleic acid sequences or amplified product (amplicon) from the specimen or isolate to b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molecule of nucleic acid (DNA or RNA) used to identify complementary nucleic acid sequences in the target by 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14B9-2B2C-4E64-8266-CF16A3C04C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e: Target dete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e is in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labelled during amplification by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py is labe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cons are in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B74C-A7D8-475C-9ABE-56BAED96E5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60BD-4BA0-4B9A-B261-B9DE112C5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oxyrib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lei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d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co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08D0-2D4C-40FD-9D39-0B29BCB02B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at is DN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two strands of nucleotide units boun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 of the nucleic subunits in the structure represents all of the genetic information carried by a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ntains genetic information and instructions for the development and functioning of all living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–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–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654B-545D-4B07-A76F-EE0F9D6E8B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letters in the code: A T C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is stored in the sequence of bases in the DNA st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: the bases (letters) are arranged in specific  orders and functional s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 may have thousands of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 strand has thousands of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quence of bases are interpreted into instructions for every action that happens in the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B578-F781-4E9C-88FB-C4D91D16CC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s of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storage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build necessary components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mission of genetic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D5E1-C30C-4D74-A8B7-D63D4E2C4A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68360" y="4724280"/>
            <a:ext cx="33894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made of two long strands of polymers called nucleo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tides are monomers, the building blocks of DNA and are composed of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base or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ic nitrogen-containing comp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ypes: Adenine (A), cytosine (C), Guanine (G), and Thymin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e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carbon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ate 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NA has the same composition but a different 5-carbon sugar- 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6C40-B7F5-44E9-9ACA-0B7B1324E8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067280" y="4437000"/>
            <a:ext cx="409392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1" name="Curved Connector 7"/>
          <p:cNvCxnSpPr/>
          <p:nvPr/>
        </p:nvCxnSpPr>
        <p:spPr>
          <a:xfrm flipV="1" rot="10800000">
            <a:off x="6155640" y="4508280"/>
            <a:ext cx="864360" cy="28944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Curved Connector 18"/>
          <p:cNvCxnSpPr/>
          <p:nvPr/>
        </p:nvCxnSpPr>
        <p:spPr>
          <a:xfrm rot="10800000">
            <a:off x="6155640" y="4796640"/>
            <a:ext cx="937440" cy="432720"/>
          </a:xfrm>
          <a:prstGeom prst="curvedConnector5">
            <a:avLst>
              <a:gd name="adj1" fmla="val 28121"/>
              <a:gd name="adj2" fmla="val 49958"/>
              <a:gd name="adj3" fmla="val 2812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base per nucleotide (A,T,G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bases are classified into two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ines (A,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rimidines (T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se can be next to each other on the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NA strands bind together to form a double 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only binds t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only binds to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strands are complementary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A1D2-590A-44B3-A7A0-D9531716FD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dna-2"/>
          <p:cNvPicPr/>
          <p:nvPr/>
        </p:nvPicPr>
        <p:blipFill>
          <a:blip r:embed="rId1"/>
          <a:srcRect l="0" t="5764" r="6378" b="0"/>
          <a:stretch/>
        </p:blipFill>
        <p:spPr>
          <a:xfrm>
            <a:off x="4786200" y="2286000"/>
            <a:ext cx="3567240" cy="3786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6866280" y="1643040"/>
            <a:ext cx="171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quence of nucleoti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8"/>
          <p:cNvCxnSpPr/>
          <p:nvPr/>
        </p:nvCxnSpPr>
        <p:spPr>
          <a:xfrm flipH="1">
            <a:off x="6357600" y="1999080"/>
            <a:ext cx="10008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Straight Arrow Connector 11"/>
          <p:cNvCxnSpPr>
            <a:stCxn id="157" idx="2"/>
          </p:cNvCxnSpPr>
          <p:nvPr/>
        </p:nvCxnSpPr>
        <p:spPr>
          <a:xfrm flipH="1">
            <a:off x="6143040" y="1905120"/>
            <a:ext cx="1580040" cy="45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3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usually found as a double helix where two strands of nucleotides are wrapped around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nds are anti-parall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runs 5’ to 3’, the complementary strand runs 3’ to 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B937-3ABB-4238-8725-0B86819715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3340080" cy="4419360"/>
          </a:xfrm>
          <a:prstGeom prst="rect">
            <a:avLst/>
          </a:prstGeom>
          <a:ln w="0">
            <a:noFill/>
          </a:ln>
        </p:spPr>
      </p:pic>
      <p:sp>
        <p:nvSpPr>
          <p:cNvPr id="164" name="Right Arrow 9"/>
          <p:cNvSpPr/>
          <p:nvPr/>
        </p:nvSpPr>
        <p:spPr>
          <a:xfrm flipV="1">
            <a:off x="4714920" y="1785240"/>
            <a:ext cx="331920" cy="968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ight Arrow 10"/>
          <p:cNvSpPr/>
          <p:nvPr/>
        </p:nvSpPr>
        <p:spPr>
          <a:xfrm>
            <a:off x="4572000" y="52862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11"/>
          <p:cNvSpPr/>
          <p:nvPr/>
        </p:nvSpPr>
        <p:spPr>
          <a:xfrm>
            <a:off x="7643880" y="1928880"/>
            <a:ext cx="500040" cy="71280"/>
          </a:xfrm>
          <a:prstGeom prst="leftArrow">
            <a:avLst>
              <a:gd name="adj1" fmla="val 50000"/>
              <a:gd name="adj2" fmla="val 5011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Arrow 12"/>
          <p:cNvSpPr/>
          <p:nvPr/>
        </p:nvSpPr>
        <p:spPr>
          <a:xfrm>
            <a:off x="7929720" y="5286240"/>
            <a:ext cx="642960" cy="142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tion is coded in DNA in the order of the chemical letters of which DNA is made (A T 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tion of DNA is transcribed into RNA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NA is a working copy of the DNA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 G C where U replace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is translated into amino acids at the rib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quence of three nucleotide letters (triplets) codes for a specific amino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: a sequence of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de is based on the order of nucleotide triplets (CTT, ATT CTG etc.) in a gene, which specify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particular amino acids in a 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33CD-23B3-46B0-B754-39226083F3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AGENA, Jean de Dieu</cp:lastModifiedBy>
  <dcterms:modified xsi:type="dcterms:W3CDTF">2012-10-24T22:14:14Z</dcterms:modified>
  <cp:revision>631</cp:revision>
  <dc:subject/>
  <dc:title>PowerPoint Presentation</dc:title>
</cp:coreProperties>
</file>