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2888-0351-422B-953F-84ACEDEEA6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61A3-8C63-4CAD-8718-F0A3C1899E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written checklists avoids the unnecessary interruption of work in the BSC that can compromise the quality of the specimen testing or the biosafety of laboratory sta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6327-F3F0-4B21-A3DB-CCEEA6A4E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EB61-D40B-4138-BB0E-235C8C61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15F5-A35C-4C96-AEC5-A39E28832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00E1-99B4-4C52-99DC-560D8F046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21EC-2CB9-46E4-927A-598D42615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F2F56-B906-4730-B0BF-2726006C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8554C-D27B-40DF-B3BF-BA4761DA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4545-4622-4D44-A4AF-A27A0ABF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66D2-8729-4DF7-BAC9-B7621E7A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37F2B-6B28-433C-B74A-337BF8F0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8331-A0AC-43EB-8F4A-2E501770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1323-0756-4F30-BBF9-FA629994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95D4E-21A7-4154-9A5F-BF1402A4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DDF2-0A65-426A-B26D-FC0C0716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2292F-FD39-4877-BDF3-89C66EF5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F3E3-E5E3-4D33-A67F-AD551C21B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50FB-884C-49E7-8A1A-4AFCA15FC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402F-EF56-4A15-9A5B-89BBFDEC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7F6D-2044-44F9-8C55-3879CBA0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BDD6-BD49-4F36-8321-7DE7ABB9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C502-7DF5-4EC5-856C-446DF848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3D29-D884-41D3-8EEE-40BA05FC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997F-1CC6-4C25-BFE4-0F67CD0A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7DAB-4A9B-4C3E-A41A-527C987A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4D06-9008-4044-BB3C-E6A3470ABB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2D70-EDD5-406D-944D-306425E60F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120" y="1413000"/>
            <a:ext cx="8915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GenoType</a:t>
            </a:r>
            <a:r>
              <a:rPr b="0" lang="en-US" sz="3600" spc="-1" strike="noStrike" baseline="30000">
                <a:solidFill>
                  <a:srgbClr val="ffff99"/>
                </a:solidFill>
                <a:latin typeface="Arial"/>
              </a:rPr>
              <a:t>®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MTBDR</a:t>
            </a:r>
            <a:r>
              <a:rPr b="0" i="1" lang="en-US" sz="3600" spc="-1" strike="noStrike">
                <a:solidFill>
                  <a:srgbClr val="ffff99"/>
                </a:solidFill>
                <a:latin typeface="Arial"/>
              </a:rPr>
              <a:t>plus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VER 2.0</a:t>
            </a:r>
            <a:br>
              <a:rPr sz="3600"/>
            </a:b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GenoType</a:t>
            </a:r>
            <a:r>
              <a:rPr b="0" lang="en-US" sz="3600" spc="-1" strike="noStrike" baseline="30000">
                <a:solidFill>
                  <a:srgbClr val="ffff99"/>
                </a:solidFill>
                <a:latin typeface="Arial"/>
              </a:rPr>
              <a:t>®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MTBDR</a:t>
            </a:r>
            <a:r>
              <a:rPr b="0" i="1" lang="en-US" sz="3600" spc="-1" strike="noStrike">
                <a:solidFill>
                  <a:srgbClr val="ffff99"/>
                </a:solidFill>
                <a:latin typeface="Arial"/>
              </a:rPr>
              <a:t>sl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VER 2.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Reagent preparation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gent preparation are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412640"/>
            <a:ext cx="7707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ools and instruments that are used here have to be labelled accordingly and cannot be used else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CR tubes can only be taken to specimen preparation area in an aluminum foil-covered beak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 not bring back this beaker to reagent preparation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0.5 ml or 0.2 ml individual PCR tubes instead of 0.2 ml str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a PCR hood with U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laboratory pract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hange shoes or use shoe cover before entering clean room  Autoclave and calibrate pipettes regula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fter you have finished working in the specimen preparation area, do not come back and clean the reagent preparation area work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gent preparatio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6481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876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g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ways prepare fresh Na-hypochlorite 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heck undiluted bleach concen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nal concentration of hypochlorite should not fall below 1.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orking solutions of 5 g/l are necessary for dealing with biohazard spi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ontainers containing bleach CANNOT be autoclaved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o avoid contamination of distilled water stocks, use 70% alcohol instead of distilled water for clea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 an Eppendorf repeat pipettor with individually wrapped sterile combi tips for aliquoting, if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876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ry clea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ways properly clean the work area after completing the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stablish a regular (e.g. weekly) and thorough laboratory cleaning protocol (floors, doors, wal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6688080" y="2133720"/>
            <a:ext cx="2033640" cy="236520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pic>
        <p:nvPicPr>
          <p:cNvPr id="159" name="Picture 5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rganize your work (use checkl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ork unidirectionally (laboratory lay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velop and follow SOP for procedure and instrument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eep tools and workplace cle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B2A3-1FCD-47D6-87B9-CD894C48D81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3440" y="12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99"/>
                </a:solidFill>
                <a:latin typeface="Arial"/>
              </a:rPr>
              <a:t>Content outl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7416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PCR laboratory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Check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Calculation of volume of master mix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Personal protective equipment (P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Reagent preparation for 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Optimal PCR laboratory layou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553080" cy="5267160"/>
          </a:xfrm>
          <a:prstGeom prst="rect">
            <a:avLst/>
          </a:prstGeom>
          <a:ln w="0">
            <a:noFill/>
          </a:ln>
        </p:spPr>
      </p:pic>
      <p:sp>
        <p:nvSpPr>
          <p:cNvPr id="110" name="Oval 4"/>
          <p:cNvSpPr/>
          <p:nvPr/>
        </p:nvSpPr>
        <p:spPr>
          <a:xfrm rot="5400000">
            <a:off x="1943640" y="224640"/>
            <a:ext cx="2592360" cy="4968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414160" y="4797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“dirty”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078640" y="285264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fr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221880" y="501336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plicon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ty”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LogoColour"/>
          <p:cNvPicPr/>
          <p:nvPr/>
        </p:nvPicPr>
        <p:blipFill>
          <a:blip r:embed="rId2"/>
          <a:stretch/>
        </p:blipFill>
        <p:spPr>
          <a:xfrm>
            <a:off x="8532720" y="6551640"/>
            <a:ext cx="611280" cy="306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"/>
          <p:cNvPicPr/>
          <p:nvPr/>
        </p:nvPicPr>
        <p:blipFill>
          <a:blip r:embed="rId3"/>
          <a:stretch/>
        </p:blipFill>
        <p:spPr>
          <a:xfrm>
            <a:off x="0" y="6554880"/>
            <a:ext cx="841320" cy="303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"/>
          <p:cNvPicPr/>
          <p:nvPr/>
        </p:nvPicPr>
        <p:blipFill>
          <a:blip r:embed="rId4"/>
          <a:stretch/>
        </p:blipFill>
        <p:spPr>
          <a:xfrm>
            <a:off x="4284720" y="6566040"/>
            <a:ext cx="43164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1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ation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3959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Prepare a written checklist of materials and tool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pare a worksheet with list of specimens (identifiers) to be tes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orksheets used in Specimen Preparation area should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be brought over to this are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pare a worksheet to calculate the volume master mix ingred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18"/>
          <p:cNvGraphicFramePr/>
          <p:nvPr/>
        </p:nvGraphicFramePr>
        <p:xfrm>
          <a:off x="4552920" y="1657440"/>
          <a:ext cx="3921120" cy="416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2920" y="1657440"/>
                    <a:ext cx="3921120" cy="41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20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1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2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2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ion of component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0" y="1628640"/>
            <a:ext cx="39607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termine the number of specimens and controls (number of samples to be analyzed plus control samp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0µl AM-A; 35µl AM-B; 5 µl DNA (after DNA extraction with GenoLyse) or 10µl DNA (after DNA extraction with GXT DNA/RNA Extraction K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inal volume: 50µl (GenoLyse) or 55 µl (GXT DNA/R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volume of master mix is 45 µl per speci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29" name="Grafik 2" descr="Ein Bild, das Tasse, Zahnbürste, klein, Tisch enthält.&#10;&#10;Automatisch generierte Beschreibung"/>
          <p:cNvPicPr/>
          <p:nvPr/>
        </p:nvPicPr>
        <p:blipFill>
          <a:blip r:embed="rId4"/>
          <a:stretch/>
        </p:blipFill>
        <p:spPr>
          <a:xfrm>
            <a:off x="520560" y="2266920"/>
            <a:ext cx="40514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3)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ting up workplac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ut on gloves and laboratory c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contaminate work area with freshly diluted 1.5% bleach (20 min), followed by 70% 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ver the work area with clean paper tow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4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ter mix preparation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1327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tore molecular grade water, and other reagents, in the DNA-free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mpletely thaw all re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ipette calculated amount of different components of master mix into 1.5 ml conical screw-cap vial using filtered t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hange tips between re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ways use a new aliquot of molecular grade water for negative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pare a master mix containing AM-A and AM-B and mix carefully but thoroughly (do not vorte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ways open only one reagent vial at a time, and place vials back in mini cooler after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lease note that the master mix needs to be prepared freshly each time and needs to be processed quick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5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ensing master mix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4220640"/>
            <a:ext cx="79200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Label PCR tubes in line with numbers of specimens and controls on your work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lace PCR tubes onto the PCR tube r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pense 45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µl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master mix into each PCR tube using filtered t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dd 5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µl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of same sterile, molecular grade water used to prepare master mix into negative control PCR tu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lose PCR tubes with PCR tube caps and place them in a sterile tube r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45" name="Grafik 2" descr="Ein Bild, das Essen, Messer enthält.&#10;&#10;Automatisch generierte Beschreibung"/>
          <p:cNvPicPr/>
          <p:nvPr/>
        </p:nvPicPr>
        <p:blipFill>
          <a:blip r:embed="rId4"/>
          <a:stretch/>
        </p:blipFill>
        <p:spPr>
          <a:xfrm>
            <a:off x="1476360" y="1436760"/>
            <a:ext cx="56167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6)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an-up of workplac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2104920"/>
            <a:ext cx="792468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5000"/>
              </a:lnSpc>
              <a:spcBef>
                <a:spcPts val="119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fter each use, clean pipettes, racks, instruments and the workstation with freshly diluted 1.5% bleach (20 minutes), followed by 70% alcohol and UV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9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 area-dedicated wash bottles or beakers (separate beakers for surface cleaning and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gliani Elisa</cp:lastModifiedBy>
  <dcterms:modified xsi:type="dcterms:W3CDTF">2020-06-12T10:04:15Z</dcterms:modified>
  <cp:revision>374</cp:revision>
  <dc:subject/>
  <dc:title>PowerPoint Presentation</dc:title>
</cp:coreProperties>
</file>