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9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20.png" ContentType="image/png"/>
  <Override PartName="/ppt/media/image1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704A-8251-4D2A-9D56-75DFD69FB5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A919-C9D2-4967-834E-5191949304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written checklists avoids the unnecessary interruption of work in the BSC that can compromise the quality of the specimen testing or the biosafety of laboratory sta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81F8-FD4E-4062-B182-25A145AA57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99"/>
                </a:solidFill>
                <a:latin typeface="Arial"/>
              </a:rPr>
              <a:t>Place absorbent paper towelling on the work surface to minimize the potential of exposure to infectious material or cross contamination in case of a sp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ocking the grill disrupts the integrity of the cabinet air barrier and  can compromise both staff and product prote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eeping clean materials at least 12 cm away from aerosol-generating activities will minimise the potential for cross-contamin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D84A-FB87-4594-81A1-BAEC1064C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F52E-BE66-43DE-9E6C-E30D6BAB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7311-9713-415C-A79C-9FEDE438E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543C-A60E-4421-A546-D50878F5E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C0C4-1FBC-466D-9E18-EEEC9464B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67CC-DB26-42BB-B929-5E8F353F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D13D-E647-493D-894A-87D76B21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29C0-5D19-44CD-BDF6-D5BDF654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9A56-FA17-4B56-BE0D-5ED98037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4BB47-8705-4295-9452-7F1DBAB7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2CB9-A74C-44E4-9D8A-66E4FF07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314C-0D96-426B-8C65-D0DE1FFA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C1B3-A3C9-434E-9849-30F40E1E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1208-5C55-4D30-8009-EEA74918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0978-6862-4A2D-8305-620E5388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8732-A846-4CC1-BF9F-C9A8C56D8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DA3D-FA43-4B9C-A16A-89EC115C6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EB4B-6D48-444F-BD20-F63A8F7F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3D5D-4E5C-41F0-BCA5-3A3406C6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8D2E-7EEA-45C1-9E90-155A8A53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81ED-1C65-4E33-AE08-8637885A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5198-4D55-4C4E-9898-2E11382A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B91E-8C29-4280-8FCB-7F6310E5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9EEE-E29D-428F-AA76-582923E2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0118-14B1-490E-9D93-7AE5F032C5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5FA8-3FD1-406A-BFE6-F0948ED8FF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5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9.jpeg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1.png"/><Relationship Id="rId7" Type="http://schemas.openxmlformats.org/officeDocument/2006/relationships/image" Target="../media/image2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59080"/>
            <a:ext cx="8915400" cy="14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oTyp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TBDR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plu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VER 2.0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oTyp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TBDR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s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VER 2.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pecimen preparati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320" y="282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preparation of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quid cultures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2914560" y="1413000"/>
            <a:ext cx="54738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5000"/>
              </a:lnSpc>
              <a:spcBef>
                <a:spcPts val="1349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bel 1.5 ml screw-cap conical tubes (not the caps) for each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788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349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ortex liquid culture tube to homogenize sample for 1 minute. Let tube stand for 10 minutes before opening to allow aerosols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788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349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nsfer 1 ml of liquid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M. tuberculosis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ulture into 1.5 ml conical tubes; change transfer pipettes between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6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113760" y="75888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biohazardsign"/>
          <p:cNvPicPr/>
          <p:nvPr/>
        </p:nvPicPr>
        <p:blipFill>
          <a:blip r:embed="rId1"/>
          <a:stretch/>
        </p:blipFill>
        <p:spPr>
          <a:xfrm>
            <a:off x="7596360" y="260280"/>
            <a:ext cx="57600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9" name="Picture 10" descr="LogoColour"/>
          <p:cNvPicPr/>
          <p:nvPr/>
        </p:nvPicPr>
        <p:blipFill>
          <a:blip r:embed="rId2"/>
          <a:stretch/>
        </p:blipFill>
        <p:spPr>
          <a:xfrm>
            <a:off x="8317080" y="6442200"/>
            <a:ext cx="826920" cy="415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"/>
          <p:cNvPicPr/>
          <p:nvPr/>
        </p:nvPicPr>
        <p:blipFill>
          <a:blip r:embed="rId3"/>
          <a:stretch/>
        </p:blipFill>
        <p:spPr>
          <a:xfrm>
            <a:off x="971640" y="2205000"/>
            <a:ext cx="1222200" cy="318924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pic>
        <p:nvPicPr>
          <p:cNvPr id="171" name="Picture 13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4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extraction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ct DNA in BSL3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 kill samples in a dry oven at 80 °C for 1 hour or incubate for 15min at 95°C in a water ba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samples to BSL2 lab for DNA extraction and remainder of LPA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480" y="-270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NA extraction: Option On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640" y="1465200"/>
            <a:ext cx="792000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ellet bacteria by centrifuging specimen for 15 min at 10,000 x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 table top centrifuge with an aerosol-tight ro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 the BSL3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ark the top side of the tubes as they are placed in the rotor. Pellet is located on the bottom of the tube, opposite to mark on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et the vials stand in the rack for 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 min to avoid aerosol generation when opening tubes under a B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refully aspirate the supernatant (without removing the pellet) with a 1 ml pipette with filtered tips; change tips between sampl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 100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µl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ysis buffer (A-Lys) to pellet using a 200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 pipette with filtered tips; change tip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ortex tubes until pellet is completely resuspend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5760" y="78588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5" descr="biohazardsign"/>
          <p:cNvPicPr/>
          <p:nvPr/>
        </p:nvPicPr>
        <p:blipFill>
          <a:blip r:embed="rId1"/>
          <a:stretch/>
        </p:blipFill>
        <p:spPr>
          <a:xfrm>
            <a:off x="7524720" y="26028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79" name="Picture 16" descr="LogoColour"/>
          <p:cNvPicPr/>
          <p:nvPr/>
        </p:nvPicPr>
        <p:blipFill>
          <a:blip r:embed="rId2"/>
          <a:stretch/>
        </p:blipFill>
        <p:spPr>
          <a:xfrm>
            <a:off x="7792920" y="6248520"/>
            <a:ext cx="1008360" cy="506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9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0" descr=""/>
          <p:cNvPicPr/>
          <p:nvPr/>
        </p:nvPicPr>
        <p:blipFill>
          <a:blip r:embed="rId5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1" descr=""/>
          <p:cNvPicPr/>
          <p:nvPr/>
        </p:nvPicPr>
        <p:blipFill>
          <a:blip r:embed="rId6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grpSp>
        <p:nvGrpSpPr>
          <p:cNvPr id="184" name="Gruppieren 6"/>
          <p:cNvGrpSpPr/>
          <p:nvPr/>
        </p:nvGrpSpPr>
        <p:grpSpPr>
          <a:xfrm>
            <a:off x="1671480" y="4444920"/>
            <a:ext cx="3811320" cy="1722960"/>
            <a:chOff x="1671480" y="4444920"/>
            <a:chExt cx="3811320" cy="1722960"/>
          </a:xfrm>
        </p:grpSpPr>
        <p:pic>
          <p:nvPicPr>
            <p:cNvPr id="185" name="Grafik 4" descr="Ein Bild, das Tisch, klein, weiß, sitzend enthält.&#10;&#10;Automatisch generierte Beschreibung"/>
            <p:cNvPicPr/>
            <p:nvPr/>
          </p:nvPicPr>
          <p:blipFill>
            <a:blip r:embed="rId7"/>
            <a:srcRect l="0" t="0" r="0" b="15521"/>
            <a:stretch/>
          </p:blipFill>
          <p:spPr>
            <a:xfrm>
              <a:off x="1671480" y="4444920"/>
              <a:ext cx="2443320" cy="1708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6" name="Gruppieren 5"/>
            <p:cNvGrpSpPr/>
            <p:nvPr/>
          </p:nvGrpSpPr>
          <p:grpSpPr>
            <a:xfrm>
              <a:off x="3971160" y="5331240"/>
              <a:ext cx="1511640" cy="836640"/>
              <a:chOff x="3971160" y="5331240"/>
              <a:chExt cx="1511640" cy="836640"/>
            </a:xfrm>
          </p:grpSpPr>
          <p:sp>
            <p:nvSpPr>
              <p:cNvPr id="187" name="Text Box 10"/>
              <p:cNvSpPr/>
              <p:nvPr/>
            </p:nvSpPr>
            <p:spPr>
              <a:xfrm>
                <a:off x="4284360" y="58608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ell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11"/>
              <p:cNvSpPr/>
              <p:nvPr/>
            </p:nvSpPr>
            <p:spPr>
              <a:xfrm>
                <a:off x="4284000" y="5331240"/>
                <a:ext cx="1198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upernata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12"/>
              <p:cNvSpPr/>
              <p:nvPr/>
            </p:nvSpPr>
            <p:spPr>
              <a:xfrm flipH="1" flipV="1">
                <a:off x="3971160" y="5343480"/>
                <a:ext cx="28728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9"/>
              <p:cNvSpPr/>
              <p:nvPr/>
            </p:nvSpPr>
            <p:spPr>
              <a:xfrm>
                <a:off x="4087080" y="5946480"/>
                <a:ext cx="215640" cy="71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981080" y="1499760"/>
            <a:ext cx="6624720" cy="50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Wipe tubes with disinfectant before removing them from the BS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Incubate tubes in a heat block or water bath at 95 </a:t>
            </a:r>
            <a:r>
              <a:rPr b="0" lang="en-US" sz="1700" spc="-1" strike="noStrike">
                <a:solidFill>
                  <a:srgbClr val="000066"/>
                </a:solidFill>
                <a:latin typeface="Arial"/>
                <a:ea typeface="Arial"/>
              </a:rPr>
              <a:t>°</a:t>
            </a: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C for 5 min to kill MTBC and disrupt cell w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Always check temperature before incubation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Water bath temperature is more accurate than temperature in heat block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Heat block diminishes the chance of contamination from the wa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Discard water after each u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Clean water bath with 1.5% freshly prepared bleach (20 min) followed by 70% alcoho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7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MTB in drops inside vial caps may remain viable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Use of a small oven may be the best and safest solution (80 </a:t>
            </a:r>
            <a:r>
              <a:rPr b="0" lang="en-US" sz="1700" spc="-1" strike="noStrike">
                <a:solidFill>
                  <a:srgbClr val="ff3300"/>
                </a:solidFill>
                <a:latin typeface="Arial"/>
                <a:ea typeface="Arial"/>
              </a:rPr>
              <a:t>°C for 1h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If heat-kill was properly carried out, specimen is considered non-infectious after this poi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40000" y="34401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b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5760" y="76500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87480" y="-2700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cimen preparation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1" descr="biohazardsign"/>
          <p:cNvPicPr/>
          <p:nvPr/>
        </p:nvPicPr>
        <p:blipFill>
          <a:blip r:embed="rId1"/>
          <a:stretch/>
        </p:blipFill>
        <p:spPr>
          <a:xfrm>
            <a:off x="7451640" y="26028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96" name="Picture 13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4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5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99" name="Grafik 2" descr="Ein Bild, das Tisch, Anzeige, Telefon enthält.&#10;&#10;Automatisch generierte Beschreibung"/>
          <p:cNvPicPr/>
          <p:nvPr/>
        </p:nvPicPr>
        <p:blipFill>
          <a:blip r:embed="rId5"/>
          <a:srcRect l="0" t="16495" r="0" b="14154"/>
          <a:stretch/>
        </p:blipFill>
        <p:spPr>
          <a:xfrm>
            <a:off x="468360" y="1503360"/>
            <a:ext cx="148104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000" y="1341360"/>
            <a:ext cx="8015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Briefly spin dow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100 µl Neutralization Buffer (A-NB) and vortex sample for 5 se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pin down for 5 min at full speed in a table top centrifu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 table top centrifuge with an aerosol-tight ro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ransfer supernatant containing DNA to new 1.5 ml screw-cap vials using a 1 ml pipette with filtered tips; change tip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stir up pellet – cell debris to dis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reeze leftover specimens at -20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°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Specimens may be kept at 4 °C for 24 - 48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DNA ready for addition to master mi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cimen preparatio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5"/>
          <p:cNvSpPr/>
          <p:nvPr/>
        </p:nvSpPr>
        <p:spPr>
          <a:xfrm>
            <a:off x="4646520" y="4813200"/>
            <a:ext cx="2232000" cy="763560"/>
          </a:xfrm>
          <a:prstGeom prst="rect">
            <a:avLst/>
          </a:prstGeom>
          <a:solidFill>
            <a:srgbClr val="d9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!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Always use screw-cap, not flip-cap, vials in order to avoid conta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8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9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206" name="Grafik 2" descr="Ein Bild, das Tisch, klein, Mann, blau enthält.&#10;&#10;Automatisch generierte Beschreibung"/>
          <p:cNvPicPr/>
          <p:nvPr/>
        </p:nvPicPr>
        <p:blipFill>
          <a:blip r:embed="rId4"/>
          <a:srcRect l="0" t="0" r="0" b="13783"/>
          <a:stretch/>
        </p:blipFill>
        <p:spPr>
          <a:xfrm>
            <a:off x="1128600" y="4665600"/>
            <a:ext cx="341640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39640" y="1413000"/>
            <a:ext cx="388944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econtaminate any materials (vials, tubes, etc.) before removal from the B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ean pipettes, racks, instruments and the BSC with freshly diluted 1.5% bleach (20 minutes), followed by 70% alcohol w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rea-dedicated wash bottles or beakers (separate beakers for surface cleaning and instrum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take anything from this area to Reagent Preparation A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nsider performing specimen preparation on a separate day to enable unidirectional workflow between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277920" y="24768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orking in a BSC (Clean-up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biohazardsign"/>
          <p:cNvPicPr/>
          <p:nvPr/>
        </p:nvPicPr>
        <p:blipFill>
          <a:blip r:embed="rId1"/>
          <a:stretch/>
        </p:blipFill>
        <p:spPr>
          <a:xfrm>
            <a:off x="7524720" y="27936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10" name="Picture 7" descr="IMG_4057"/>
          <p:cNvPicPr/>
          <p:nvPr/>
        </p:nvPicPr>
        <p:blipFill>
          <a:blip r:embed="rId2"/>
          <a:stretch/>
        </p:blipFill>
        <p:spPr>
          <a:xfrm>
            <a:off x="4572000" y="1989000"/>
            <a:ext cx="3887640" cy="3246480"/>
          </a:xfrm>
          <a:prstGeom prst="rect">
            <a:avLst/>
          </a:prstGeom>
          <a:ln w="38160">
            <a:solidFill>
              <a:srgbClr val="ff5050"/>
            </a:solidFill>
            <a:miter/>
          </a:ln>
        </p:spPr>
      </p:pic>
      <p:pic>
        <p:nvPicPr>
          <p:cNvPr id="211" name="Picture 9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1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NA extraction: Option Tw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-kill samples in BSL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ifu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DNA supernatant to new 1.5 ml conical screw cap tu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ze DNA until ready to add to master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men prepara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ools and instruments used here have to be labelled accordingly and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should not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be used elsew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ever take anything from this site to the Reagent Preparation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You may only take the PCR tubes in an aluminum foil-covered beaker to Amplification/Detection Are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bring this beaker back to Specimen or Reagent Preparation Area. Wash and autoclave before reu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use filtered t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try to put cotton plugs into unfiltered t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Do not use flip-cap tubes, always use screw-cap tub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Laboratory Pract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specimen preparation on a separate day (earlier) and freeze extracted D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roceed with reagent preparation and amplification/detection on the following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is way work can be unidirec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DNA extract to PCR tubes in a PCR hood, use BSC only for DNA ext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f applicable, dedicate a BSC only for molecular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hange gloves if they get contaminated by speci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men prepara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79945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g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e 70% alcohol instead of distilled water for cleaning to avoid contamination of distilled water st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iquot sterile molecular grade water into 15 ml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e an Eppendorf repeat pipette with individually wrapped, sterile combi-tips for aliquoting, if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lea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ways properly clean the work area after completing the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stablish a regular (e.g. weekly) and thorough laboratory cleaning protocol (floors, doors, wal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00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rganize your work (use check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ork unidirectionally (laboratory lay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velop and follow SOP for procedure and instrument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eep tools and workplace cle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ontent out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PCR laboratory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Check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Personal protective equipment (P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Working in a Biological Safety Cabinet (B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Specimen preparation for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D234-409D-411A-A961-96ACAF8FFBA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timal PCR laboratory layou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116000" y="1346040"/>
            <a:ext cx="6553080" cy="5267520"/>
          </a:xfrm>
          <a:prstGeom prst="rect">
            <a:avLst/>
          </a:prstGeom>
          <a:ln w="0">
            <a:noFill/>
          </a:ln>
        </p:spPr>
      </p:pic>
      <p:sp>
        <p:nvSpPr>
          <p:cNvPr id="110" name="Oval 4"/>
          <p:cNvSpPr/>
          <p:nvPr/>
        </p:nvSpPr>
        <p:spPr>
          <a:xfrm>
            <a:off x="1116000" y="4581360"/>
            <a:ext cx="1224000" cy="2160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414160" y="4797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“dirty”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844640" y="27874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221880" y="501336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plicon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ty”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LogoColour"/>
          <p:cNvPicPr/>
          <p:nvPr/>
        </p:nvPicPr>
        <p:blipFill>
          <a:blip r:embed="rId2"/>
          <a:stretch/>
        </p:blipFill>
        <p:spPr>
          <a:xfrm>
            <a:off x="8388360" y="6478560"/>
            <a:ext cx="755640" cy="379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"/>
          <p:cNvPicPr/>
          <p:nvPr/>
        </p:nvPicPr>
        <p:blipFill>
          <a:blip r:embed="rId3"/>
          <a:stretch/>
        </p:blipFill>
        <p:spPr>
          <a:xfrm>
            <a:off x="0" y="6554880"/>
            <a:ext cx="841320" cy="303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4"/>
          <a:stretch/>
        </p:blipFill>
        <p:spPr>
          <a:xfrm>
            <a:off x="4284720" y="6566040"/>
            <a:ext cx="43164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orking in BS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34560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pare a written checklist of materials and tool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pare a worksheet with list of specimens (identifiers) to be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9"/>
          <p:cNvGraphicFramePr/>
          <p:nvPr/>
        </p:nvGraphicFramePr>
        <p:xfrm>
          <a:off x="4067280" y="1539720"/>
          <a:ext cx="5618160" cy="491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539720"/>
                    <a:ext cx="5618160" cy="49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11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42696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e appropriate BSL3 PPE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ow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ust have solid front and can be tied in th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ong-sleeved with elastic cu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ust be either autoclavable/washable (soak in bleach) or dispo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pi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-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lo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ngle-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5154480" y="1434960"/>
            <a:ext cx="3430440" cy="2590920"/>
            <a:chOff x="5154480" y="1434960"/>
            <a:chExt cx="3430440" cy="2590920"/>
          </a:xfrm>
        </p:grpSpPr>
        <p:pic>
          <p:nvPicPr>
            <p:cNvPr id="127" name="Picture 5" descr="camice"/>
            <p:cNvPicPr/>
            <p:nvPr/>
          </p:nvPicPr>
          <p:blipFill>
            <a:blip r:embed="rId1"/>
            <a:srcRect l="15999" t="0" r="10264" b="0"/>
            <a:stretch/>
          </p:blipFill>
          <p:spPr>
            <a:xfrm>
              <a:off x="5154480" y="1752120"/>
              <a:ext cx="1541160" cy="19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6" descr="surgical gown2"/>
            <p:cNvPicPr/>
            <p:nvPr/>
          </p:nvPicPr>
          <p:blipFill>
            <a:blip r:embed="rId2"/>
            <a:stretch/>
          </p:blipFill>
          <p:spPr>
            <a:xfrm>
              <a:off x="6854760" y="1434960"/>
              <a:ext cx="1730160" cy="2590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9" name="Picture 7" descr="masks"/>
          <p:cNvPicPr/>
          <p:nvPr/>
        </p:nvPicPr>
        <p:blipFill>
          <a:blip r:embed="rId3"/>
          <a:srcRect l="14273" t="20464" r="14538" b="14125"/>
          <a:stretch/>
        </p:blipFill>
        <p:spPr>
          <a:xfrm>
            <a:off x="5003640" y="3932280"/>
            <a:ext cx="2681280" cy="2252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LogoColour"/>
          <p:cNvPicPr/>
          <p:nvPr/>
        </p:nvPicPr>
        <p:blipFill>
          <a:blip r:embed="rId6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"/>
          <p:cNvPicPr/>
          <p:nvPr/>
        </p:nvPicPr>
        <p:blipFill>
          <a:blip r:embed="rId7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"/>
          <p:cNvPicPr/>
          <p:nvPr/>
        </p:nvPicPr>
        <p:blipFill>
          <a:blip r:embed="rId8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82760" y="228600"/>
            <a:ext cx="696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SL 3 PPE is suitable for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ecimen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ecimen ino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nipulating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entrifu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oculation of D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king smears from cultures and processed specim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iochemical testing to identify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eparing samples for PCR (before heat-ki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12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orking in BS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360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contaminate the BSC with freshly diluted 1.5% bleach (20 min), followed by 70% alcoh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788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ver the working area with paper towels and use suitable disinfect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 discard container with a plastic bag and freshly diluted 1.5% bl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O NOT block the gr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erform all operations at least 12 cm away from the front grill on the work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lace all materials and aerosol-generating equipment away from the front gr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IMG_4028"/>
          <p:cNvPicPr/>
          <p:nvPr/>
        </p:nvPicPr>
        <p:blipFill>
          <a:blip r:embed="rId1"/>
          <a:stretch/>
        </p:blipFill>
        <p:spPr>
          <a:xfrm>
            <a:off x="4140360" y="1916280"/>
            <a:ext cx="4392360" cy="3295440"/>
          </a:xfrm>
          <a:prstGeom prst="rect">
            <a:avLst/>
          </a:prstGeom>
          <a:ln w="38160">
            <a:solidFill>
              <a:srgbClr val="ff5050"/>
            </a:solidFill>
            <a:miter/>
          </a:ln>
        </p:spPr>
      </p:pic>
      <p:pic>
        <p:nvPicPr>
          <p:cNvPr id="143" name="Picture 6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760" y="43920"/>
            <a:ext cx="8337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paration of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ical specimens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1360440" cy="321156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sp>
        <p:nvSpPr>
          <p:cNvPr id="148" name="Text Box 16"/>
          <p:cNvSpPr/>
          <p:nvPr/>
        </p:nvSpPr>
        <p:spPr>
          <a:xfrm>
            <a:off x="2914560" y="1989000"/>
            <a:ext cx="5473800" cy="38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abel 1.5 ml screw-cap conical tubes (</a:t>
            </a:r>
            <a:r>
              <a:rPr b="0" i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not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caps) for each speci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Vortex decontaminated clinical specimen for 1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ocess only one specimen at a time; do not leave open containers or centrifuge tubes in the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ransfer 500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 decontaminated clinical specimen into 1.5 ml conical screw-capped vial; change tip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5760" y="76500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9"/>
          <p:cNvSpPr/>
          <p:nvPr/>
        </p:nvSpPr>
        <p:spPr>
          <a:xfrm flipH="1">
            <a:off x="1835280" y="3068640"/>
            <a:ext cx="107928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682560" y="134136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linical specimens have to be decontaminated by N-acetyl-L-cysteine/NaOH method before specimen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2" descr="biohazardsign"/>
          <p:cNvPicPr/>
          <p:nvPr/>
        </p:nvPicPr>
        <p:blipFill>
          <a:blip r:embed="rId2"/>
          <a:stretch/>
        </p:blipFill>
        <p:spPr>
          <a:xfrm>
            <a:off x="7596360" y="333360"/>
            <a:ext cx="57600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3" name="Picture 23" descr="LogoColour"/>
          <p:cNvPicPr/>
          <p:nvPr/>
        </p:nvPicPr>
        <p:blipFill>
          <a:blip r:embed="rId3"/>
          <a:stretch/>
        </p:blipFill>
        <p:spPr>
          <a:xfrm>
            <a:off x="8317080" y="6442200"/>
            <a:ext cx="826920" cy="415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4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5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9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1176480" cy="293364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56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ple preparation of isolates on solid cultur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2986200" y="1596960"/>
            <a:ext cx="5473440" cy="45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abel 1.5 ml screw cap conical tubes (not the caps) for each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llect bacteria with an inoculation loop and suspend in 100 μl of Lysis Buffer (A-LYS); change loops between samples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scrape the surface of the medium since components of egg-based medium can inhibit PCR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ortex suspension for 1 minute to break up clu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entrifuge for 15 min at 10,000 x g or 1 ml liquid medi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13760" y="75888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6"/>
          <p:cNvSpPr/>
          <p:nvPr/>
        </p:nvSpPr>
        <p:spPr>
          <a:xfrm flipH="1">
            <a:off x="1834920" y="3789360"/>
            <a:ext cx="117612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biohazardsign"/>
          <p:cNvPicPr/>
          <p:nvPr/>
        </p:nvPicPr>
        <p:blipFill>
          <a:blip r:embed="rId2"/>
          <a:stretch/>
        </p:blipFill>
        <p:spPr>
          <a:xfrm>
            <a:off x="7667640" y="26028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2" name="Picture 8" descr="LogoColour"/>
          <p:cNvPicPr/>
          <p:nvPr/>
        </p:nvPicPr>
        <p:blipFill>
          <a:blip r:embed="rId3"/>
          <a:stretch/>
        </p:blipFill>
        <p:spPr>
          <a:xfrm>
            <a:off x="8317080" y="6442200"/>
            <a:ext cx="826920" cy="415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gliani Elisa</cp:lastModifiedBy>
  <dcterms:modified xsi:type="dcterms:W3CDTF">2020-06-12T09:52:40Z</dcterms:modified>
  <cp:revision>394</cp:revision>
  <dc:subject/>
  <dc:title>PowerPoint Presentation</dc:title>
</cp:coreProperties>
</file>