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AE5-054C-459D-8770-05789A31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53AD-48D9-4CAC-86E5-F5DB0628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5E7A-EF9C-4FBA-90D0-8CD59965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FC13-B493-4934-BB76-928837A7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1702-42B1-48DB-A15D-B4CCDF14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6900-631C-405B-A51B-20012210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A063-074B-4025-A880-55E9B855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4B75-F273-4A75-B514-34E8DFFC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1F90-5552-4671-837F-59E61DF6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653D-116E-4B52-BF5E-86A9E720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ADA8-3CE3-45E1-85E1-84972348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5D9-46A1-4D24-8FBC-72D746BF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192C-AEC2-46A9-8BEE-5B871DEF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AFDA-1F3D-4F32-8CD5-9C668F73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53D0-F5AE-431F-9838-C83CE4C5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5F5B-EAD5-4D3A-B3C1-BDAB9263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A7B7-0634-4760-9374-28036573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C02-5F34-49DB-BBE0-EDEFAA77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50BB-6F71-4BDA-8C2F-D617AF08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7E4-A2F5-4DA0-B412-A612CEB0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D388-C887-4EEF-957C-8D50ABBE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923-B8F1-40D5-8ABC-E06EA4D8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0F58-94B3-404C-B9D5-95A4EF93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D4C-5BFB-4E7C-8485-98E27F08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8EF4-226D-43DB-AA2D-551F3CE4BF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A513-B72E-4FAE-9D85-FC47A1DA56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9582-405D-4055-8DB4-568AA704F0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427040"/>
            <a:ext cx="800100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 MGIT 960 DST troubleshoo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F7C7-40E1-479A-8232-1D42CE30EB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re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is contaminated or mixed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was not properly dil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was not homogeneous or had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stor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added 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IT tube was not mixed properly after the addition of the organism susp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troubleshooting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A8D1-E24E-4D15-8BD5-DB4DBF19BB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rform 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ZN smear on positive MGIT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T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NTMs show resistance to anti-mycobacterial 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51A1-F07B-4D22-9680-DC3C6F794C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purity of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inoculum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m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ellular morphology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BC mixed with N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(fungus and bac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late for contamination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ut mixed mycobacterial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EFF8-CAF0-405E-A397-2EABA6C9F5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resistance pro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sistance to a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not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0.1 ml of drug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selected from the bottom of seed tube or clumps were not allowed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a MGIT 960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DST panel with resistant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4FD5-FB0A-4FC7-A71A-784E386638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ZN on growing drug-containing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iddlebrook 7H10 is not available to confirm mycobacteria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on resistant drug-containing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only one type of cellular morphology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reset DST to verify drug was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EAFC-1A20-4814-9213-879116F9CE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677F-DF86-4D63-BE65-234852E105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ST troubleshooting: When to re-t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-interpre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-resistance (especially RIF, EMB &amp; P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disagree with previous testing from the sam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line resistance/suscept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is a new untreated case and shows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s fail to giv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xpected high number of resistant isolates in a 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97FF-E804-4D6F-AA01-E37634FC35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oubleshooting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homogeneous,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must be taken when preparing di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must be reconstituted and stored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pipettes must be used, not disposable transfer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performed on all new lots of DST reagents and MGIT tubes and weekly with each batch of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CAFF-79AB-40AF-B36A-4F55A6E23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7DAA-2880-4267-8E58-6E0E05DCE1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ght equipment used correct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equipment/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ly sterile tubes and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glass beads to break up clumps in inoculum from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ed pipet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addition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McFarland standard with same tube diameter as inoculum tube and same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 7H9, use 7H9 blank in densit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tex well and allow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select inoculum from bottom of tube or over inoculate tubes with clumps of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7CDE-13D8-49CA-AD98-3D1881DC5E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reag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test medium and MGIT 7 ml tubes are not interchangeable when testing SIRE and PZA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supplement and SIRE supplement are not interchang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supplement other than that supplied with the drugs – no PANTA or other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reconstit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distilled/deionize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drug dissolves comple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reconstituted drug at -2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up to 6 months, but do not exceed original expir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awed, reconstituted drug the same day; discard any unused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E8D3-F4B7-4339-9887-7CD6E3E5E8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ino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cultur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MGIT tu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MGIT 960 called ‘positive’ plus 1 day to 5 days from date of po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eous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glass beads and vortex to break up organism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supernatant for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igh or too low an inoculum may give erroneous results or un-interpretabl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dilutions according to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curate pipette to add inoculum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rror report for DST s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ditions occur that may affect the test results; the instrument will report this as an error 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become positive in less than 4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he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remain negative up to 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9C4D-A643-4B8D-A64C-B02E05CDAC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alid DST sets ‘X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not positive within 13 days (SIRE) or 21 days (PZ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under-inocu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positive too soon (&lt; 4 day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over-inoculated or conta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ANY tube is missing in 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12C0-87D4-4E64-89D5-815E027049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48FB-4EF9-4D67-9BB2-AAE7A96F5C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ST interpretation of DST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 results ‘X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was too he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MGIT tube, ‘Day’ 3 to 5 must be 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solid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 must be allowed to settle – over-inoculation and minimize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suspension from solid to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pecimen not vortex-mixed completely; clumps still present in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ontrol suspensions for SIRE and PZA are different (1:100 vs 1: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1353-3D34-4AEC-BDE5-C2FEC4B4E2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ST troubleshooting: Non-interprete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 took too long to interpret results (SIRE &gt;14 days; PZA &gt;21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too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pipettes must be used for dilutions and addition to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ransfer pip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with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may have been picked up, which interferes with reading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ulture too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proper growth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DC36-8D57-4FC0-AA08-33728D143A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i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suspension must be &gt; 1.0 McFa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not hom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too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proper amount of supplement added to tub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supplement properly sto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uch drug added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ube caps on tight? If not, oxygen can leak in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PZA medium and PZA supplement can be used for PZA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9:00Z</dcterms:modified>
  <cp:revision>33</cp:revision>
  <dc:subject/>
  <dc:title>BACTEC MGIT 960 DST Quality Control</dc:title>
</cp:coreProperties>
</file>