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18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8BB2A75-A85E-47FD-A858-1933BB0D3A8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D0BF53A-39C2-4482-BEF8-BBD1CC5612C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18D221C-6C50-41DA-908D-C858B3F19B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599-EBAB-4230-88E4-12BD2443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667-CEEB-4898-B4C6-D813812C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3D4A-EFA6-4F5C-97D5-B9083260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0BA9-0D5C-401B-8CBA-9D3729E4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0DA2-FDCD-40DB-8E83-B5FAC03C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B384-9C75-4CAE-B010-E6F2BF6B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5E14-49D5-49CC-A7F6-966991A5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66FF-EE0D-4347-9A0D-25A69F1D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46EA-77E1-493F-9E93-B899CA17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2B08-AB63-4CA1-97EE-99844100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B6AE-2671-4A22-BEEB-33F01C34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EBE-E2AB-4E74-8FAA-8A4F6324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B049-072A-427E-82FB-72D6CCCF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D568-6176-4FEF-BCF8-2E428027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A99B-4305-4797-AA7A-6864C6CC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AA23-5879-4B68-8EAA-C058FEE9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3E0E-7889-43EE-A18A-4AAACA56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1E7-9B66-4B7E-91FA-C3EAB1DD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3071-4046-43C4-B6F1-09C0C39A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BE59-1D45-4956-B45B-3A2A9A6B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980-BB72-4C23-BDD4-75DA1D19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A15-82C9-4D35-BB2D-F940B0A3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0CE-BDC2-4741-A3DB-892F4ACB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F74-46A0-454F-B0BB-69F22BF7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462C-5C3A-4178-9081-E53094FB47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9BB1-E3FC-4FD5-8D2A-60E83612D5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sheets and labelling for BACTEC™ MGIT™ 960 drug susceptibility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0" y="5443560"/>
            <a:ext cx="8512200" cy="1338120"/>
            <a:chOff x="0" y="5443560"/>
            <a:chExt cx="8512200" cy="1338120"/>
          </a:xfrm>
        </p:grpSpPr>
        <p:sp>
          <p:nvSpPr>
            <p:cNvPr id="100" name="Text Box 7"/>
            <p:cNvSpPr/>
            <p:nvPr/>
          </p:nvSpPr>
          <p:spPr>
            <a:xfrm>
              <a:off x="1949400" y="6189840"/>
              <a:ext cx="6562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a15d70"/>
                  </a:solidFill>
                  <a:latin typeface="Arial"/>
                </a:rPr>
                <a:t>Content adapted from standardized Becton Dickinson, WHO, GLI, CDC and NHLS Training Materials for use by the African Centre for Integrated Laboratory Training, 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443560"/>
              <a:ext cx="1981080" cy="1338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5341-0A66-4078-9791-E45EF0CCFD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55640" y="1536840"/>
            <a:ext cx="7202520" cy="4000320"/>
          </a:xfrm>
          <a:prstGeom prst="rect">
            <a:avLst/>
          </a:prstGeom>
          <a:ln w="0">
            <a:noFill/>
          </a:ln>
        </p:spPr>
      </p:pic>
      <p:sp>
        <p:nvSpPr>
          <p:cNvPr id="190" name="Oval 9"/>
          <p:cNvSpPr/>
          <p:nvPr/>
        </p:nvSpPr>
        <p:spPr>
          <a:xfrm>
            <a:off x="5105520" y="3556080"/>
            <a:ext cx="1130040" cy="124452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4088160" y="4881600"/>
            <a:ext cx="1387080" cy="3909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in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7"/>
          <p:cNvCxnSpPr/>
          <p:nvPr/>
        </p:nvCxnSpPr>
        <p:spPr>
          <a:xfrm flipV="1">
            <a:off x="4685400" y="4469760"/>
            <a:ext cx="178200" cy="36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56B6-CA3C-456A-BB51-59E0910564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96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98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9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00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1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6413400" y="3708360"/>
            <a:ext cx="20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Will a 1:5 dilution need to be made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6311880" y="4788000"/>
            <a:ext cx="210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the seed tube is 1 - 2 days old, no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seed tube is 3 - 5 days old, 1:5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25"/>
          <p:cNvCxnSpPr>
            <a:stCxn id="215" idx="1"/>
          </p:cNvCxnSpPr>
          <p:nvPr/>
        </p:nvCxnSpPr>
        <p:spPr>
          <a:xfrm flipH="1" flipV="1">
            <a:off x="4736880" y="3644640"/>
            <a:ext cx="1676880" cy="294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4798-5DA7-412A-9042-DF7B0A7E6D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21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23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4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25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4521240" y="3530520"/>
            <a:ext cx="35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3"/>
          <p:cNvSpPr/>
          <p:nvPr/>
        </p:nvSpPr>
        <p:spPr>
          <a:xfrm>
            <a:off x="4533840" y="3720960"/>
            <a:ext cx="33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6324480" y="3594240"/>
            <a:ext cx="212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If  a PZA drug set is inoculated, a 1:10 dilution is needed to inoculate the PZA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 flipH="1" flipV="1">
            <a:off x="5104800" y="3657240"/>
            <a:ext cx="1168920" cy="534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784680" y="25401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Look here to see if PZA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29"/>
          <p:cNvCxnSpPr>
            <a:stCxn id="244" idx="1"/>
          </p:cNvCxnSpPr>
          <p:nvPr/>
        </p:nvCxnSpPr>
        <p:spPr>
          <a:xfrm flipH="1">
            <a:off x="3782160" y="2676960"/>
            <a:ext cx="2520" cy="3056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974B-6CEF-4FCE-A3CE-7072C47237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49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51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2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53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4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2"/>
          <p:cNvSpPr/>
          <p:nvPr/>
        </p:nvSpPr>
        <p:spPr>
          <a:xfrm>
            <a:off x="4559400" y="3556080"/>
            <a:ext cx="27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3"/>
          <p:cNvSpPr/>
          <p:nvPr/>
        </p:nvSpPr>
        <p:spPr>
          <a:xfrm>
            <a:off x="4572000" y="374652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4965840" y="335268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5"/>
          <p:cNvSpPr/>
          <p:nvPr/>
        </p:nvSpPr>
        <p:spPr>
          <a:xfrm>
            <a:off x="4965840" y="37083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6"/>
          <p:cNvSpPr/>
          <p:nvPr/>
        </p:nvSpPr>
        <p:spPr>
          <a:xfrm>
            <a:off x="7061040" y="358128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7"/>
          <p:cNvSpPr/>
          <p:nvPr/>
        </p:nvSpPr>
        <p:spPr>
          <a:xfrm>
            <a:off x="4978440" y="355608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set-up and label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hecklist to gather suppl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09480" y="1447920"/>
          <a:ext cx="7543800" cy="4635360"/>
        </p:xfrm>
        <a:graphic>
          <a:graphicData uri="http://schemas.openxmlformats.org/drawingml/2006/table">
            <a:tbl>
              <a:tblPr/>
              <a:tblGrid>
                <a:gridCol w="1052640"/>
                <a:gridCol w="5438880"/>
                <a:gridCol w="1052280"/>
              </a:tblGrid>
              <a:tr h="389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heck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elling and set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code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ured dot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arriers (5 and 2 tub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Transport 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anent marker fine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ne blanks (9.9 ml, 4.5 ml and 4.0 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d agar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H10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ZA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F2EB-420B-4AAB-B5E6-3110831DD5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initions for set-up and lab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Content Placeholder 7" descr="DSCN0714.jpg"/>
          <p:cNvPicPr/>
          <p:nvPr/>
        </p:nvPicPr>
        <p:blipFill>
          <a:blip r:embed="rId1"/>
          <a:srcRect l="0" t="0" r="3467" b="34659"/>
          <a:stretch/>
        </p:blipFill>
        <p:spPr>
          <a:xfrm>
            <a:off x="609480" y="1419120"/>
            <a:ext cx="3137040" cy="15922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5B79-2B15-465F-BD64-7B6D9B8EA5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DSCN0718.jpg"/>
          <p:cNvPicPr/>
          <p:nvPr/>
        </p:nvPicPr>
        <p:blipFill>
          <a:blip r:embed="rId2"/>
          <a:srcRect l="1394" t="17522" r="13489" b="32869"/>
          <a:stretch/>
        </p:blipFill>
        <p:spPr>
          <a:xfrm>
            <a:off x="5423040" y="2387520"/>
            <a:ext cx="3079440" cy="134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DSCN0720.jpg"/>
          <p:cNvPicPr/>
          <p:nvPr/>
        </p:nvPicPr>
        <p:blipFill>
          <a:blip r:embed="rId3"/>
          <a:srcRect l="5095" t="9410" r="63534" b="30002"/>
          <a:stretch/>
        </p:blipFill>
        <p:spPr>
          <a:xfrm>
            <a:off x="685800" y="3138480"/>
            <a:ext cx="104148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DSCN0722.jpg"/>
          <p:cNvPicPr/>
          <p:nvPr/>
        </p:nvPicPr>
        <p:blipFill>
          <a:blip r:embed="rId4"/>
          <a:srcRect l="0" t="22671" r="3002" b="30676"/>
          <a:stretch/>
        </p:blipFill>
        <p:spPr>
          <a:xfrm>
            <a:off x="4533840" y="4343400"/>
            <a:ext cx="4048200" cy="14605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3695760" y="1765440"/>
            <a:ext cx="41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1892160" y="326376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1739880" y="428004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code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1854360" y="51181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set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DST log sheet to determine which sets (SIRE and/or PZA) to ino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needed DST carriers on the transport r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 and PZA tubes in th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testing requires the use of PZA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Content Placeholder 5" descr="DSCN0740.jpg"/>
          <p:cNvPicPr/>
          <p:nvPr/>
        </p:nvPicPr>
        <p:blipFill>
          <a:blip r:embed="rId1"/>
          <a:srcRect l="0" t="14797" r="0" b="18814"/>
          <a:stretch/>
        </p:blipFill>
        <p:spPr>
          <a:xfrm>
            <a:off x="5054760" y="1587600"/>
            <a:ext cx="3060720" cy="152388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CD98-7009-4B4B-B92A-2DFE3B64E9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DSCN0742.jpg"/>
          <p:cNvPicPr/>
          <p:nvPr/>
        </p:nvPicPr>
        <p:blipFill>
          <a:blip r:embed="rId2"/>
          <a:srcRect l="0" t="22261" r="0" b="0"/>
          <a:stretch/>
        </p:blipFill>
        <p:spPr>
          <a:xfrm>
            <a:off x="4952880" y="3479760"/>
            <a:ext cx="359424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el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ST set is given 1 barcode la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bel is placed vertically on the Growth Control (GC)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1C68-1B97-45CB-9F0E-D0E7CDDD53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DSCN0720.jpg"/>
          <p:cNvPicPr/>
          <p:nvPr/>
        </p:nvPicPr>
        <p:blipFill>
          <a:blip r:embed="rId1"/>
          <a:stretch/>
        </p:blipFill>
        <p:spPr>
          <a:xfrm>
            <a:off x="4660920" y="2946240"/>
            <a:ext cx="223848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decod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Content Placeholder 4" descr="dot definitions.jpg"/>
          <p:cNvPicPr/>
          <p:nvPr/>
        </p:nvPicPr>
        <p:blipFill>
          <a:blip r:embed="rId1"/>
          <a:stretch/>
        </p:blipFill>
        <p:spPr>
          <a:xfrm>
            <a:off x="4368960" y="523800"/>
            <a:ext cx="3603600" cy="571176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39EB-4C04-4549-886B-9A61EA38DC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BCF8-58AA-45A3-A8A2-3D10671B3C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T work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 the age of a MGIT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what dilutions need to be prep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rcode and Dot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lab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9440" y="17049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pecimen ID number on each growth control dot label (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irst initial of each drug and set serial number on the appropriate coloured 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serial number is found in the far left column of the MTB MGIT DST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ots to the tops of the MGIT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ontent Placeholder 8" descr="DSCN0726.jpg"/>
          <p:cNvPicPr/>
          <p:nvPr/>
        </p:nvPicPr>
        <p:blipFill>
          <a:blip r:embed="rId1"/>
          <a:srcRect l="43441" t="0" r="0" b="487"/>
          <a:stretch/>
        </p:blipFill>
        <p:spPr>
          <a:xfrm>
            <a:off x="5956200" y="1352520"/>
            <a:ext cx="2286000" cy="301644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FAEF-C3EA-48FB-9D30-036133C26A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DSCN0729.jpg"/>
          <p:cNvPicPr/>
          <p:nvPr/>
        </p:nvPicPr>
        <p:blipFill>
          <a:blip r:embed="rId2"/>
          <a:stretch/>
        </p:blipFill>
        <p:spPr>
          <a:xfrm>
            <a:off x="4521240" y="389268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IRE DST sets will need a 9.9 ml saline blank (1:10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ZA DST sets will need a 4.5 ml saline blank (1:1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seed tubes that are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days old will need a 4.0 saline blank (1:5 dilution) (check worksh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F913-054C-44E4-8D1F-AFC199CE87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DSCN0731.jpg"/>
          <p:cNvPicPr/>
          <p:nvPr/>
        </p:nvPicPr>
        <p:blipFill>
          <a:blip r:embed="rId1"/>
          <a:srcRect l="17506" t="-902" r="10565" b="0"/>
          <a:stretch/>
        </p:blipFill>
        <p:spPr>
          <a:xfrm>
            <a:off x="5803920" y="1092240"/>
            <a:ext cx="2679840" cy="28195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DSCN0736.jpg"/>
          <p:cNvPicPr/>
          <p:nvPr/>
        </p:nvPicPr>
        <p:blipFill>
          <a:blip r:embed="rId2"/>
          <a:srcRect l="16993" t="11654" r="-1950" b="9919"/>
          <a:stretch/>
        </p:blipFill>
        <p:spPr>
          <a:xfrm>
            <a:off x="4584600" y="3681360"/>
            <a:ext cx="334008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09480" y="15998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saline blank or dilution tube with the Specimen ID number and the dilu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in a rack as shown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the front row empty for the seed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C3BA-DA2F-4614-BF70-84961515E6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Content Placeholder 6" descr="dilution diagram.jpg"/>
          <p:cNvPicPr/>
          <p:nvPr/>
        </p:nvPicPr>
        <p:blipFill>
          <a:blip r:embed="rId1"/>
          <a:stretch/>
        </p:blipFill>
        <p:spPr>
          <a:xfrm>
            <a:off x="4432320" y="1746360"/>
            <a:ext cx="4049640" cy="20257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3251160" y="3936960"/>
            <a:ext cx="1917720" cy="824040"/>
          </a:xfrm>
          <a:prstGeom prst="rect">
            <a:avLst/>
          </a:prstGeom>
          <a:noFill/>
          <a:ln w="38160">
            <a:solidFill>
              <a:srgbClr val="304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0 ml saline blank is used to prepare the 1:5 dilution needed if the MGIT seed tube is 3-5 days ol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***This tube is not needed if the MGIT seed tube is 1-2 days 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9"/>
          <p:cNvCxnSpPr/>
          <p:nvPr/>
        </p:nvCxnSpPr>
        <p:spPr>
          <a:xfrm flipV="1">
            <a:off x="4102200" y="3301560"/>
            <a:ext cx="660600" cy="635760"/>
          </a:xfrm>
          <a:prstGeom prst="straightConnector1">
            <a:avLst/>
          </a:prstGeom>
          <a:ln w="38160">
            <a:solidFill>
              <a:srgbClr val="3044b5"/>
            </a:solidFill>
            <a:miter/>
            <a:tailEnd len="med" type="arrow" w="med"/>
          </a:ln>
        </p:spPr>
      </p:cxnSp>
      <p:sp>
        <p:nvSpPr>
          <p:cNvPr id="317" name="TextBox 10"/>
          <p:cNvSpPr/>
          <p:nvPr/>
        </p:nvSpPr>
        <p:spPr>
          <a:xfrm>
            <a:off x="4216320" y="4902120"/>
            <a:ext cx="2146320" cy="6112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5 ml saline blank is needed to prepare the 1:10 diluti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ll be used to inoculate the PZA growth control (GC) tu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Straight Arrow Connector 12"/>
          <p:cNvCxnSpPr/>
          <p:nvPr/>
        </p:nvCxnSpPr>
        <p:spPr>
          <a:xfrm flipH="1" flipV="1">
            <a:off x="4978080" y="2577600"/>
            <a:ext cx="699120" cy="23378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19" name="TextBox 15"/>
          <p:cNvSpPr/>
          <p:nvPr/>
        </p:nvSpPr>
        <p:spPr>
          <a:xfrm>
            <a:off x="5816520" y="3962520"/>
            <a:ext cx="2197080" cy="703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9.9 ml saline blank is needed to prepare the 1:100 dilution that will be used to inoculate the SIRE growth control (GC)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7"/>
          <p:cNvCxnSpPr/>
          <p:nvPr/>
        </p:nvCxnSpPr>
        <p:spPr>
          <a:xfrm flipH="1" flipV="1">
            <a:off x="5016240" y="2133360"/>
            <a:ext cx="1257840" cy="18165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F0E6-005E-418D-B3A1-3AFC60C9B2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34680" y="1612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formation on the Unloaded Positives Report to fill out the DST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/PZA tubes in carriers in the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he appropriate barcode label on each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drug tube and GC tube with the correct dot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and place the necessary saline blanks in a rack; refer to the DST worksheet to determine which dilutions a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D85D-04FE-475F-9847-E49791D0A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0FB5-FC0E-4E6D-AA44-5C8516EA7C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11D8-F6EF-4DC0-9F0B-1BF05A9012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1085760" y="1436760"/>
            <a:ext cx="611532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581880" y="1576440"/>
            <a:ext cx="22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Enter the date inoculated and init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7"/>
          <p:cNvCxnSpPr>
            <a:stCxn id="115" idx="1"/>
          </p:cNvCxnSpPr>
          <p:nvPr/>
        </p:nvCxnSpPr>
        <p:spPr>
          <a:xfrm flipH="1" flipV="1">
            <a:off x="6152400" y="1675800"/>
            <a:ext cx="429480" cy="1004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80C5-70AD-48AC-8330-4DD9ADF436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5529240" y="1457280"/>
            <a:ext cx="10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06440" y="3678120"/>
            <a:ext cx="98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List laboratory serial numbers for D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7"/>
          <p:cNvCxnSpPr/>
          <p:nvPr/>
        </p:nvCxnSpPr>
        <p:spPr>
          <a:xfrm flipV="1">
            <a:off x="1042920" y="3642840"/>
            <a:ext cx="629280" cy="2008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5" name="Straight Arrow Connector 9"/>
          <p:cNvCxnSpPr/>
          <p:nvPr/>
        </p:nvCxnSpPr>
        <p:spPr>
          <a:xfrm flipV="1">
            <a:off x="1042560" y="3857040"/>
            <a:ext cx="615240" cy="3150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D725-F270-4E43-B648-0721C454A3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1071720" y="1407960"/>
            <a:ext cx="6114960" cy="4692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6200" y="3532320"/>
            <a:ext cx="115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533600" y="3728880"/>
            <a:ext cx="10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14360" y="3943440"/>
            <a:ext cx="1042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dditional information – TB register no., referred from another laborat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 flipV="1">
            <a:off x="1269720" y="3696480"/>
            <a:ext cx="1033920" cy="90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DEFD-E462-42E0-A158-5E36B2A95E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551600" y="35640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539000" y="37227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flipV="1" rot="10800000">
            <a:off x="6172200" y="3700800"/>
            <a:ext cx="211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Indicate what type of media the seed inoculum is growing on, usually MGIT or 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1"/>
          <p:cNvCxnSpPr>
            <a:stCxn id="146" idx="3"/>
          </p:cNvCxnSpPr>
          <p:nvPr/>
        </p:nvCxnSpPr>
        <p:spPr>
          <a:xfrm flipH="1" flipV="1">
            <a:off x="3228480" y="3571560"/>
            <a:ext cx="2944080" cy="546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970B-1971-45BB-A1E4-3774F2EF5C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5498640" y="150660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577160" y="35514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564560" y="37353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771640" y="3586320"/>
            <a:ext cx="57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767680" y="339264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2781720" y="376380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386400" y="3743280"/>
            <a:ext cx="13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ick test(s) to be inoc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15"/>
          <p:cNvCxnSpPr/>
          <p:nvPr/>
        </p:nvCxnSpPr>
        <p:spPr>
          <a:xfrm flipH="1" flipV="1">
            <a:off x="3499560" y="3485520"/>
            <a:ext cx="2915640" cy="10580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63" name="Straight Arrow Connector 16"/>
          <p:cNvCxnSpPr>
            <a:stCxn id="161" idx="1"/>
          </p:cNvCxnSpPr>
          <p:nvPr/>
        </p:nvCxnSpPr>
        <p:spPr>
          <a:xfrm flipH="1" flipV="1">
            <a:off x="3857760" y="3466440"/>
            <a:ext cx="2529000" cy="8722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8B74-7248-4F03-A9A3-74090D982E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67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0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1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2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Box 24"/>
          <p:cNvSpPr/>
          <p:nvPr/>
        </p:nvSpPr>
        <p:spPr>
          <a:xfrm>
            <a:off x="6286680" y="3606840"/>
            <a:ext cx="2234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Record age of MGIT seed tubes. Use the Unloaded Positives Report to determine the age of each MGIT and write it in the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5"/>
          <p:cNvSpPr/>
          <p:nvPr/>
        </p:nvSpPr>
        <p:spPr>
          <a:xfrm>
            <a:off x="5867280" y="5448240"/>
            <a:ext cx="2146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Arial"/>
              </a:rPr>
              <a:t>***Remember that the day the MGIT instrument indicated that it is positive is day 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7"/>
          <p:cNvCxnSpPr/>
          <p:nvPr/>
        </p:nvCxnSpPr>
        <p:spPr>
          <a:xfrm flipH="1" flipV="1">
            <a:off x="4355280" y="3682800"/>
            <a:ext cx="2019960" cy="1156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Philip</cp:lastModifiedBy>
  <cp:lastPrinted>2001-02-05T14:45:01Z</cp:lastPrinted>
  <dcterms:modified xsi:type="dcterms:W3CDTF">2012-01-26T09:48:23Z</dcterms:modified>
  <cp:revision>475</cp:revision>
  <dc:subject>Growth and Detection: Marketing Overview and DATA</dc:subject>
  <dc:title>BACTEC® MGIT 960 System</dc:title>
</cp:coreProperties>
</file>