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2331-9377-4F27-8658-8B7E9FF68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39D5-6C0C-4E0C-9303-12450E34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7FDE-B721-4C9C-95E8-D1F820E08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3806-E522-4F05-8649-F60A362B6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AEF2-A02F-4880-AF5C-8AF3C7209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D3A8-6329-4F4D-ACC6-9C61EF55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958E-F7D6-4C4B-B8B4-E3354102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A4E1-0F5D-4EF4-8977-6E8C73D2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A0DC-BC12-4F2F-BABC-045FF30E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99BE-9B58-4C97-8E03-C38696B2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21BA-2698-4B60-8F1D-8468B135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6124-774A-4D82-95C3-777EC947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15D2-DD96-4BAB-9C2A-5C29807E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2CD5-8E05-4145-9406-40B46D03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1A25-7271-4E19-A049-12DEF74F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5C26-23AD-48B8-93B8-7A024A6A5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F166-679F-4E8A-9CA5-2051E66D5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AE7E-EA65-478B-809F-73ED0481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F81A-AD8C-42D5-8922-520B8C12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EBDE-D44B-4F78-A551-B5014660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EC25-511B-49F7-B926-2048B2B0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7E97-0B73-4231-9C81-2A071B23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5E8A-E80D-44D4-B417-F3F61BAD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4C8D-8617-4F45-986A-B033DE61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2AAD-0E3C-4CB5-90CB-910916996A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43D1-5BE3-446F-83AA-2CF4C7721E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PCR laboratory layou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practice for placing laboratory equipment for molecula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How would you designate each space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6" descr="0 PCR Laboratory with Answers empty"/>
          <p:cNvPicPr/>
          <p:nvPr/>
        </p:nvPicPr>
        <p:blipFill>
          <a:blip r:embed="rId1"/>
          <a:stretch/>
        </p:blipFill>
        <p:spPr>
          <a:xfrm>
            <a:off x="1676520" y="1523880"/>
            <a:ext cx="5521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rea 1: Reagent preparation room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6" descr="0 a PCR Laboratory with Answers w defines spaces"/>
          <p:cNvPicPr/>
          <p:nvPr/>
        </p:nvPicPr>
        <p:blipFill>
          <a:blip r:embed="rId1"/>
          <a:stretch/>
        </p:blipFill>
        <p:spPr>
          <a:xfrm>
            <a:off x="1905120" y="1523880"/>
            <a:ext cx="563868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a 2: Specimen preparation room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12" descr="Area 1 reagent prep"/>
          <p:cNvPicPr/>
          <p:nvPr/>
        </p:nvPicPr>
        <p:blipFill>
          <a:blip r:embed="rId1"/>
          <a:stretch/>
        </p:blipFill>
        <p:spPr>
          <a:xfrm>
            <a:off x="1600200" y="1432080"/>
            <a:ext cx="594360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a 3: Amplification/detection roo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7" descr="Area 2 specimen prep"/>
          <p:cNvPicPr/>
          <p:nvPr/>
        </p:nvPicPr>
        <p:blipFill>
          <a:blip r:embed="rId1"/>
          <a:stretch/>
        </p:blipFill>
        <p:spPr>
          <a:xfrm>
            <a:off x="1523880" y="1447920"/>
            <a:ext cx="58676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nteroom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9" descr="Area 3 amplification-detection"/>
          <p:cNvPicPr/>
          <p:nvPr/>
        </p:nvPicPr>
        <p:blipFill>
          <a:blip r:embed="rId1"/>
          <a:stretch/>
        </p:blipFill>
        <p:spPr>
          <a:xfrm>
            <a:off x="1600200" y="1371600"/>
            <a:ext cx="594360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e are the major pieces of laboratory equipment necessary to run molecular assays for TB ident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7" descr="Anteroom"/>
          <p:cNvPicPr/>
          <p:nvPr/>
        </p:nvPicPr>
        <p:blipFill>
          <a:blip r:embed="rId1"/>
          <a:stretch/>
        </p:blipFill>
        <p:spPr>
          <a:xfrm>
            <a:off x="1676520" y="1447920"/>
            <a:ext cx="586728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…movement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ne dire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samples and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914400" y="1600200"/>
            <a:ext cx="5334120" cy="114300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gent preparation room / Clea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990720" y="3124080"/>
            <a:ext cx="5181480" cy="1219320"/>
          </a:xfrm>
          <a:prstGeom prst="rect">
            <a:avLst/>
          </a:prstGeom>
          <a:noFill/>
          <a:ln w="9360">
            <a:solidFill>
              <a:srgbClr val="707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preparatio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1295280" y="3657600"/>
            <a:ext cx="11430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men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1905120" y="2133720"/>
            <a:ext cx="9144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gent 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3124080" y="2133720"/>
            <a:ext cx="11430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gent 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4419720" y="2133720"/>
            <a:ext cx="121896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ter Mix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2743200" y="3657600"/>
            <a:ext cx="106668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A 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4343400" y="3657600"/>
            <a:ext cx="152388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samples to master m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Straight Arrow Connector 16"/>
          <p:cNvCxnSpPr>
            <a:stCxn id="108" idx="3"/>
            <a:endCxn id="112" idx="1"/>
          </p:cNvCxnSpPr>
          <p:nvPr/>
        </p:nvCxnSpPr>
        <p:spPr>
          <a:xfrm>
            <a:off x="2437920" y="392436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Straight Arrow Connector 18"/>
          <p:cNvCxnSpPr>
            <a:stCxn id="112" idx="3"/>
            <a:endCxn id="113" idx="1"/>
          </p:cNvCxnSpPr>
          <p:nvPr/>
        </p:nvCxnSpPr>
        <p:spPr>
          <a:xfrm>
            <a:off x="3809880" y="3924360"/>
            <a:ext cx="534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Rectangle 19"/>
          <p:cNvSpPr/>
          <p:nvPr/>
        </p:nvSpPr>
        <p:spPr>
          <a:xfrm>
            <a:off x="990720" y="4800600"/>
            <a:ext cx="5333760" cy="1066680"/>
          </a:xfrm>
          <a:prstGeom prst="rect">
            <a:avLst/>
          </a:prstGeom>
          <a:noFill/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0"/>
          <p:cNvSpPr/>
          <p:nvPr/>
        </p:nvSpPr>
        <p:spPr>
          <a:xfrm>
            <a:off x="1447920" y="5257800"/>
            <a:ext cx="144756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plification (PC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4419720" y="525780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brid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2"/>
          <p:cNvSpPr/>
          <p:nvPr/>
        </p:nvSpPr>
        <p:spPr>
          <a:xfrm>
            <a:off x="1224000" y="480060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plification and detectio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Straight Arrow Connector 24"/>
          <p:cNvCxnSpPr>
            <a:stCxn id="117" idx="3"/>
            <a:endCxn id="118" idx="1"/>
          </p:cNvCxnSpPr>
          <p:nvPr/>
        </p:nvCxnSpPr>
        <p:spPr>
          <a:xfrm>
            <a:off x="2895480" y="5524560"/>
            <a:ext cx="1524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Down Arrow 28"/>
          <p:cNvSpPr/>
          <p:nvPr/>
        </p:nvSpPr>
        <p:spPr>
          <a:xfrm>
            <a:off x="4267080" y="2819520"/>
            <a:ext cx="4572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Down Arrow 29"/>
          <p:cNvSpPr/>
          <p:nvPr/>
        </p:nvSpPr>
        <p:spPr>
          <a:xfrm>
            <a:off x="4343400" y="4419720"/>
            <a:ext cx="38088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Up Arrow 30"/>
          <p:cNvSpPr/>
          <p:nvPr/>
        </p:nvSpPr>
        <p:spPr>
          <a:xfrm>
            <a:off x="2209680" y="2819520"/>
            <a:ext cx="457200" cy="228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Up Arrow 31"/>
          <p:cNvSpPr/>
          <p:nvPr/>
        </p:nvSpPr>
        <p:spPr>
          <a:xfrm>
            <a:off x="2286000" y="4419720"/>
            <a:ext cx="457200" cy="228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urved Right Arrow 41"/>
          <p:cNvSpPr/>
          <p:nvPr/>
        </p:nvSpPr>
        <p:spPr>
          <a:xfrm flipH="1" flipV="1">
            <a:off x="6324480" y="1828800"/>
            <a:ext cx="1447920" cy="3733920"/>
          </a:xfrm>
          <a:custGeom>
            <a:avLst/>
            <a:gdLst>
              <a:gd name="textAreaLeft" fmla="*/ 193680 w 1447920"/>
              <a:gd name="textAreaRight" fmla="*/ 1254240 w 1447920"/>
              <a:gd name="textAreaTop" fmla="*/ 797760 h 3733920"/>
              <a:gd name="textAreaBottom" fmla="*/ 275544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30" stAng="-5400000" swAng="-5400000"/>
                <a:lnTo>
                  <a:pt x="0" y="11324"/>
                </a:lnTo>
                <a:arcTo wR="21600" hR="9230" stAng="10800000" swAng="-3531405"/>
                <a:lnTo>
                  <a:pt x="16200" y="21307"/>
                </a:lnTo>
                <a:lnTo>
                  <a:pt x="21600" y="19506"/>
                </a:lnTo>
                <a:lnTo>
                  <a:pt x="16200" y="17119"/>
                </a:lnTo>
                <a:lnTo>
                  <a:pt x="16200" y="18166"/>
                </a:lnTo>
                <a:arcTo wR="21600" hR="9230" stAng="7268595" swAng="3363820"/>
                <a:lnTo>
                  <a:pt x="139" y="10277"/>
                </a:lnTo>
                <a:arcTo wR="21600" hR="9230" stAng="-10632415" swAng="5232415"/>
                <a:close/>
              </a:path>
              <a:path fill="darkenLess" w="21600" h="21600">
                <a:moveTo>
                  <a:pt x="21600" y="0"/>
                </a:moveTo>
                <a:arcTo wR="21600" hR="9230" stAng="-5400000" swAng="-5400000"/>
                <a:lnTo>
                  <a:pt x="0" y="9230"/>
                </a:lnTo>
                <a:arcTo wR="21600" hR="9230" stAng="10800000" swAng="-167585"/>
                <a:lnTo>
                  <a:pt x="139" y="10277"/>
                </a:lnTo>
                <a:arcTo wR="21600" hR="9230" stAng="-10632415" swAng="523241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ave 42"/>
          <p:cNvSpPr/>
          <p:nvPr/>
        </p:nvSpPr>
        <p:spPr>
          <a:xfrm>
            <a:off x="7162920" y="137160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6F50-AFC2-4CC7-8EF4-54D8FE81481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19:10:40Z</dcterms:created>
  <dc:creator>kyle tholen</dc:creator>
  <dc:description/>
  <dc:language>en-US</dc:language>
  <cp:lastModifiedBy>Philip</cp:lastModifiedBy>
  <dcterms:modified xsi:type="dcterms:W3CDTF">2012-01-26T09:50:10Z</dcterms:modified>
  <cp:revision>13</cp:revision>
  <dc:subject/>
  <dc:title>PCR Laboratory Layout</dc:title>
</cp:coreProperties>
</file>