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012B28-BC7D-45B0-9073-35C090279F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752D5-10CF-4E0B-A059-220652BEA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55ADFC-2300-4FBD-B81E-2595CDE795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89BBBA-5948-4D3D-B5CC-9E59822701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D6EB1D-7340-4327-B1CD-EE8A7282CE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4AEA6E-834C-48EE-A721-25940DA345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2BBF4B-89A3-431F-A01E-2259149425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23273E-8C25-44C8-A2C3-315BC0899B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A7BACD-98F0-4623-86E0-AC6B1758F2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107AD8-9AD4-4DB7-A40F-EA8630BF72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1A9FF-FA96-480B-9348-CF888ECA06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025A0-D74C-4B97-B704-AAF410816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9D872-6041-4C5D-8270-6ADD4FBCB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64C0CB-0558-43CE-AFDB-B2B6CC2DAA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FF5708-F03D-41A5-98C6-713CF27873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5D1A3F-E6F6-4811-B34C-6CD61D1A70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EE0C05-90C0-46D6-8489-A494EF1F06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7F332-FBBA-4678-924D-0EB993B6A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C4360-E53A-405E-8608-641276C61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C1357-17C7-4E6D-B4DD-DAF72AD81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06CBC-4FF7-4E1E-A251-A8F257EB4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A3E43-61E3-4AEA-8A0F-3B8381741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5DB23-785A-4B05-B80D-584612A81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6531B-54D3-42C8-830B-B46042CB9B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705720" y="640080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77DC1-34A3-4803-86EE-5991D4133A1C}"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6AD93-2BEE-48AD-907A-EAC1D891EEE3}"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edit the title text format</a:t>
            </a:r>
            <a:endParaRPr b="1" lang="en-US" sz="3600" spc="-1" strike="noStrike">
              <a:solidFill>
                <a:srgbClr val="ffffcc"/>
              </a:solidFill>
              <a:latin typeface="Tahoma"/>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1916280"/>
            <a:ext cx="7772400" cy="1008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ountry Progress</a:t>
            </a:r>
            <a:endParaRPr b="1" lang="en-US" sz="5400" spc="-1" strike="noStrike">
              <a:solidFill>
                <a:srgbClr val="ffffcc"/>
              </a:solidFill>
              <a:latin typeface="Tahoma"/>
            </a:endParaRPr>
          </a:p>
        </p:txBody>
      </p:sp>
      <p:sp>
        <p:nvSpPr>
          <p:cNvPr id="83" name=""/>
          <p:cNvSpPr/>
          <p:nvPr/>
        </p:nvSpPr>
        <p:spPr>
          <a:xfrm>
            <a:off x="395280" y="3444480"/>
            <a:ext cx="8497800" cy="1556280"/>
          </a:xfrm>
          <a:prstGeom prst="rect">
            <a:avLst/>
          </a:prstGeom>
          <a:noFill/>
          <a:ln w="0">
            <a:noFill/>
          </a:ln>
        </p:spPr>
        <p:style>
          <a:lnRef idx="0"/>
          <a:fillRef idx="0"/>
          <a:effectRef idx="0"/>
          <a:fontRef idx="minor"/>
        </p:style>
        <p:txBody>
          <a:bodyPr lIns="90000" rIns="90000" tIns="46800" bIns="46800" anchor="b"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Report from break-out session 1</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08:30 – 12:15                      14 October 2004   </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ISAC</a:t>
            </a:r>
            <a:endParaRPr b="1" lang="en-US" sz="3600" spc="-1" strike="noStrike">
              <a:solidFill>
                <a:srgbClr val="ffffff"/>
              </a:solidFill>
              <a:latin typeface="Tahoma"/>
            </a:endParaRPr>
          </a:p>
        </p:txBody>
      </p:sp>
      <p:sp>
        <p:nvSpPr>
          <p:cNvPr id="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	</a:t>
            </a:r>
            <a:r>
              <a:rPr b="0" lang="en-GB" sz="2800" spc="-1" strike="noStrike">
                <a:solidFill>
                  <a:srgbClr val="720000"/>
                </a:solidFill>
                <a:latin typeface="Tahoma"/>
              </a:rPr>
              <a:t>ISAC is a crucial set of complimentary activities that is needed in countries to meet the increasing demand for technical assistance.</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echnical agencies cannot meet the demands from countries for technical assistance due to shortage of fund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the vital continuity of ISAC funded activities, sustainable long-term funding must be explored, including GFATM.</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for better Advocacy &amp; Communications strategy for ISAC.</a:t>
            </a:r>
            <a:r>
              <a:rPr b="0" lang="en-US" sz="2400" spc="-1" strike="noStrike">
                <a:solidFill>
                  <a:srgbClr val="720000"/>
                </a:solidFill>
                <a:latin typeface="Tahoma"/>
              </a:rPr>
              <a:t> </a:t>
            </a:r>
            <a:endParaRPr b="0" lang="en-US" sz="24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GFATM</a:t>
            </a:r>
            <a:endParaRPr b="1" lang="en-US" sz="3600" spc="-1" strike="noStrike">
              <a:solidFill>
                <a:srgbClr val="ffffff"/>
              </a:solidFill>
              <a:latin typeface="Tahoma"/>
            </a:endParaRPr>
          </a:p>
        </p:txBody>
      </p:sp>
      <p:sp>
        <p:nvSpPr>
          <p:cNvPr id="87" name="PlaceHolder 2"/>
          <p:cNvSpPr>
            <a:spLocks noGrp="1"/>
          </p:cNvSpPr>
          <p:nvPr>
            <p:ph/>
          </p:nvPr>
        </p:nvSpPr>
        <p:spPr>
          <a:xfrm>
            <a:off x="395280" y="1412640"/>
            <a:ext cx="8229600" cy="511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	</a:t>
            </a:r>
            <a:r>
              <a:rPr b="0" lang="en-GB" sz="2800" spc="-1" strike="noStrike">
                <a:solidFill>
                  <a:srgbClr val="720000"/>
                </a:solidFill>
                <a:latin typeface="Tahoma"/>
              </a:rPr>
              <a:t>Proportion of TB among all GFATM successful proposals is stable at 30%, but funds for TB is only 15%. </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sustainable support for countries, technical agencies should negotiate with GFATM and other donors their added value for good proposals and most effective use of fund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Publish a "model" proposal on the web for learn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GFATM's Technical Review Panel (TRP) needs to be informed on new policy and strategie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DOTS Expansion Working Group estimates that approx. USD. 500,000 is needed to provide TA-support to countries for Round 5.</a:t>
            </a:r>
            <a:endParaRPr b="0" lang="en-US" sz="2400" spc="-1" strike="noStrike">
              <a:solidFill>
                <a:srgbClr val="72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TB &amp; Poverty</a:t>
            </a:r>
            <a:endParaRPr b="1" lang="en-US" sz="3600" spc="-1" strike="noStrike">
              <a:solidFill>
                <a:srgbClr val="ffffff"/>
              </a:solidFill>
              <a:latin typeface="Tahoma"/>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 Poverty focus in TB control must be expanded following the current strategy (Network and WHO Guide).</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Stop TB CB to issue a statement on its long-term commitment for the mainstreaming of poverty related issues in TB control activities.</a:t>
            </a:r>
            <a:endParaRPr b="0" lang="en-US" sz="2400" spc="-1" strike="noStrike">
              <a:solidFill>
                <a:srgbClr val="72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National Partnerships</a:t>
            </a:r>
            <a:endParaRPr b="1" lang="en-US" sz="3600" spc="-1" strike="noStrike">
              <a:solidFill>
                <a:srgbClr val="ffffff"/>
              </a:solidFill>
              <a:latin typeface="Tahoma"/>
            </a:endParaRPr>
          </a:p>
        </p:txBody>
      </p:sp>
      <p:sp>
        <p:nvSpPr>
          <p:cNvPr id="91"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National partnerships, created with strong political support, are successful in mobilizing additional resources (both domestic and international).</a:t>
            </a:r>
            <a:endParaRPr b="0" lang="en-US" sz="2800" spc="-1" strike="noStrike">
              <a:solidFill>
                <a:srgbClr val="72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to measure the impact of the STB partnerships in countries, as to justify the costs and efforts.</a:t>
            </a:r>
            <a:endParaRPr b="0" lang="en-US" sz="24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HIV/AIDS programmes and activities must be included in  national partnerships to stop TB.</a:t>
            </a:r>
            <a:endParaRPr b="0" lang="en-US" sz="24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High Level Missions</a:t>
            </a:r>
            <a:endParaRPr b="1" lang="en-US" sz="3600" spc="-1" strike="noStrike">
              <a:solidFill>
                <a:srgbClr val="ffffff"/>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re is need to improve the structure and the procedures for High Level Missions to ensure its optimal strategic benefit for countries and to address decision makers in the global political area.</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Create a CB sub-committee to formulate the procedures for High Level Missions.</a:t>
            </a:r>
            <a:r>
              <a:rPr b="0" lang="en-US" sz="3200" spc="-1" strike="noStrike">
                <a:solidFill>
                  <a:srgbClr val="720000"/>
                </a:solidFill>
                <a:latin typeface="Tahoma"/>
              </a:rPr>
              <a:t> </a:t>
            </a:r>
            <a:endParaRPr b="0" lang="en-US" sz="3200" spc="-1" strike="noStrike">
              <a:solidFill>
                <a:srgbClr val="72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steenbergeng</cp:lastModifiedBy>
  <cp:lastPrinted>2004-03-17T17:37:17Z</cp:lastPrinted>
  <dcterms:modified xsi:type="dcterms:W3CDTF">2004-10-14T14:09:01Z</dcterms:modified>
  <cp:revision>177</cp:revision>
  <dc:subject/>
  <dc:title>Secretariat, 2003 Progress Report</dc:title>
</cp:coreProperties>
</file>