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59B0-40CA-4F3B-9254-C44B9B83E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A5BA-2673-457B-9A22-4A129C497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4445-1FBF-48C8-A578-D909D7DF0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1FF6-639D-4D9E-B0EC-B8E2AD2A9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8FD75-E22E-47D1-AF37-204723BE2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3F4EB-C274-4CCA-A02C-583F99652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1614A-6695-47C0-8F31-42604693B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F5CDD-DFD6-4924-8C60-404855905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9B05F-578F-45BA-B9D7-D88237286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8CD9F-F03B-4008-BDEF-4364BEE80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758EE-0DA7-40E6-A444-763D7228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EA75-DCF3-4C41-81A9-DC143A8F1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F762E-B850-40BB-8FC5-FFC4411B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82BB0-5433-411A-B09D-FD1A4F94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4E215-74E2-4C2B-9E8C-7A6339B04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B569D-2B44-4604-92EB-1ECD2B527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1CFC5-B4EC-414A-AEA5-4921C38CC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9737-6A76-4D0B-B539-9E4C30743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70C3-1B05-4ACA-8453-917225D15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71F5-E2F7-4091-BC4E-E82A4420C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2036-4CD1-41FD-A802-D79055DD9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C27A-1726-47DF-B634-371D665E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91B5-B485-414E-BE5A-BD85B26E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B284-B77B-4AEF-9EC9-D8BB94F5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FC47C-0BCE-44C8-9E79-2E2E36BFB335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8067F-DA84-4DBD-A3FB-B3A23A757062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4920" y="2060640"/>
            <a:ext cx="8496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宋体"/>
              </a:rPr>
              <a:t>Advocacy and Communications Working Group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宋体"/>
              </a:rPr>
              <a:t>Plenary Discussio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Joanne Carter, Chair A.I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15 October 2004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7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964720" cy="475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Progress since last CB meeting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Basic Framework draft (main objectives, functions, structure, main work stream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Proposed roster of initial members (65</a:t>
            </a:r>
            <a:r>
              <a:rPr b="0" lang="en-GB" sz="2400" spc="-1" strike="noStrike" u="sng">
                <a:solidFill>
                  <a:srgbClr val="720000"/>
                </a:solidFill>
                <a:uFillTx/>
                <a:latin typeface="Tahoma"/>
                <a:ea typeface="宋体"/>
              </a:rPr>
              <a:t>+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Development of new alliances – HIV/AIDS, MDGs Campaig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First formal meeting of ACWG set for Dec 04/Jan 05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Informal pre-meeting at IUATLD conference to discuss agenda and expected outcom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  <a:ea typeface="宋体"/>
              </a:rPr>
              <a:t> 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727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58560" y="1484280"/>
            <a:ext cx="8785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Proposed structural featur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1. Chair with permanent seat on C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2. Two initial sub-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Global advocacy for resource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Country level advocacy, communication and social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3. Focal points for all 6 technical W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Critical to ensure close coordination in cross-cutting rol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4. Stronger representation for patients  and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Basic Framework to be approved and Chair/vice-chairs elected in first formal meeting of W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608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1413000"/>
            <a:ext cx="8526600" cy="76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Key immediate prior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Resource mob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enerate more robust numbers on funding g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Close collaboration with Resource Mobilization Task Fo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Target key national, multilateral and private sector don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2.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Develop short-and long-term advocacy strategy aroun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2005 targets and MDG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lobal Plan 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World TB D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3.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Rapid scale up of support to countries for AC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TA for GFATM proposals/ISAC – Nov 04 worksh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uidance, tools, training for emerging national partnershi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Mobilization of new advocacy partners at regional and country lev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119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1844640"/>
            <a:ext cx="8381880" cy="39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Request for C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Feedback on formation process, structure, key prior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2.  Technical WG chairs need to assign focal points to ACW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luhanm</cp:lastModifiedBy>
  <dcterms:modified xsi:type="dcterms:W3CDTF">2004-10-19T10:55:09Z</dcterms:modified>
  <cp:revision>21</cp:revision>
  <dc:subject/>
  <dc:title>Financial situation,  Budget &amp; plans 2005</dc:title>
</cp:coreProperties>
</file>