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9B53-BAB6-4201-B64B-02E16434441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CC1B-C709-49D1-8191-1607F1235F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59B6-68B7-4ACA-9E0A-C6B25EFD876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7B2E-20AD-4AEE-A137-85DDB5D3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E711-25F2-441A-ABC7-C01A5A12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24CF-3D21-4E73-B5D4-6080BAF7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C126-4E6D-4AFA-93CC-4654F6B8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1C7D-C5AF-4552-BE50-90E808E6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675C-E5F8-485C-8D27-C6A09074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A821-95CB-48C3-A209-C528FAF0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0589-18BB-43CC-9CBD-314FE8A3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9FD5-1220-4392-90DB-CB3B922D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34D9-E6F2-49BE-B329-C7C9A606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91D3-A9C8-4822-B131-13317393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BD3C-EF01-4E12-91EE-BF7CE316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C3F8-41A8-4202-9A2A-04DEA7A0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5706-2160-429C-9FC1-638499F6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2CB5-FA50-4B4C-917A-A7897FF1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154B-3941-4EC6-99BD-EEF81A7A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343B-90A2-496C-943D-AB8079EA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0527-29F6-4AE3-B3A7-3B4886FE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4B12-8A04-4761-B8FC-46B01611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20AF-ADF3-4391-80E2-94BB3CC8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BA8-C087-4F10-85C5-74D6551B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FD31-BA7A-429A-AD80-3CEFE520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AD82-3429-4176-8457-620003C8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5FAA-0247-473E-85DC-7E2EF871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63C8-639D-40B4-ADD2-DE281E8B6FF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C9FB-2B66-4A93-A556-64D8346E548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xpanding Regional, National and sub-national Partnership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124720" y="2202840"/>
            <a:ext cx="47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ogress Repor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920" y="4046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sks for 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gain additional social &amp; political support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hance public and political perception of TB-DO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TB awareness throughout Pakistan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gage non-traditional partners in the fight against TB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build alliances with other health and development initiativ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049760" y="5734080"/>
            <a:ext cx="73602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Times New Roman"/>
              </a:rPr>
              <a:t>TO GET TB ON THE AGENDA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HO Pakistan has offered support to host organiz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ACC members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n the future: Associations/institutions named by at least 2 members     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sues to be address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o reach the targe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52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community involvem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advocacy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integration with other programm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Still limited Public-public mix and private-public mix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human resources at al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commitment at District level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structured supply management system at all leve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DOTS yet to be implemented in urban areas and at periphera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TOP TB PAKISTA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52872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kistan's own national enhanced response to the challenge of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 further support initiatives for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'Communication Handbook'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s Assessment Program : Uganda, Brazil, Indonesia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kistan + ISAC countri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/ISAC Country-level Partnership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nding Partnership IT Package (web services, online discussion forum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ance on Resource Mobilization (ethical guidelines, link with CCMs and the business sector, innovative approaches for fund rais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engthen relationships with all Stop TB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Regional Partnerships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pean Partnership to Stop TB (Stop TB Europe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 Sub-Regional Partnership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ARO / AFRO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oost the Advocacy, Communication and Social Mobiliz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 a strategy plan and join forces with other partnerships (GFATM, 3by5, RBM.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political forums to empower global, national and regional partnerships building (ASEAN, SAARC, ADEAN, African Union, NEPAD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546200"/>
            <a:ext cx="772164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Stop TB Pakistan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86920" y="2707920"/>
            <a:ext cx="6913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The answer to a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broader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and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more intensified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collaboration involving other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2806560"/>
            <a:ext cx="142560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ghting TB requires more than just the NTP and the IACC collaborating partn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 has many and diverse resources that have not yet been tapp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case detection and treatment success diverse and additional partners are need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265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National TB Programme Managers Meeting, Lahore, 29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 April 2004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01880" y="2657520"/>
            <a:ext cx="5413320" cy="3724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600" y="178200"/>
            <a:ext cx="41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ilestone for STOP T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akistan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" y="115560"/>
            <a:ext cx="44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ded valu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17884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Political advocacy and social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nnovative approaches and interven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road participation from Pakistani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Sharing inform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sletters and information materi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ata base on activities &amp;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Resource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 and other expertise/experie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human resources from new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nancial resources from other 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4T00:29:22Z</dcterms:modified>
  <cp:revision>252</cp:revision>
  <dc:subject/>
  <dc:title>Secretariat, 2003 Progress Report</dc:title>
</cp:coreProperties>
</file>