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1FF3-3C5A-426B-8DD9-629980482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you can see, some very practical improvements in TB control have been achieved through the work of the GD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 me just highlight that 100 country evaluations is an amazing amount of work for a small t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evaluations are one of the reasons why the GDF should not be thought of as another drug wholesal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country receiving grants is examined to ensure they are able to use the drugs properly and then examined to ensure they did use the drugs proper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process any area of weakness in the programme is identified and appeals made, on behalf of the country, to technical partners for help in making improv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ountry ends up with a better program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E50E-ABD5-4C61-BF8D-F0F928723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07BA-73A9-41B1-B41C-B649B71F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A864-CC0B-45B8-856D-E488AA5E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7643-54E2-470B-89F6-2391213D8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1C63-1BA8-40A3-A924-AEDC9C02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59BE-52DD-41D7-9C3C-AB94DBAA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A222-00F2-49D7-98AC-347F0530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1843-C28B-44EC-B55C-F2A1CB1B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708F-4D06-416D-97A4-8A086D41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ACF2-CC4E-4640-AAFF-70CCA491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BB24-584E-4E74-A782-F61F507D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AAF8-A9A6-473D-988E-6D23F6FE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B913-448C-4D37-8C69-AFC8AE89C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55280" y="260280"/>
            <a:ext cx="83883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ugs delivered to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5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untrie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.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illion pati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0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evaluations organized by GDF/STB Partne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TS Coverage - average increas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 GDF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ity -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88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DF recipients increased expenditure on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- Average drug cost per patient: ~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$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urement -  lead time met for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77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count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ty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DF batches passed independent Q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164360" y="4005360"/>
          <a:ext cx="1830240" cy="220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4360" y="4005360"/>
                    <a:ext cx="1830240" cy="22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971640" y="404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GDF Achieve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Arial"/>
              </a:rPr>
              <a:t>GDF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Maintain the Gai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coverage, program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price, quality and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Fill new ga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transitional grants, non-traditional u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Provide new servic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ediatrics, diagnostics, expanded monito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Improve Drug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2005 Training in AFRO, SEARO, EMRO,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812000" y="5084640"/>
          <a:ext cx="1332000" cy="177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0" y="5084640"/>
                    <a:ext cx="133200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11:49:27Z</dcterms:created>
  <dc:creator>evansp</dc:creator>
  <dc:description/>
  <dc:language>en-US</dc:language>
  <cp:lastModifiedBy>heitkampp</cp:lastModifiedBy>
  <dcterms:modified xsi:type="dcterms:W3CDTF">2004-10-04T13:46:13Z</dcterms:modified>
  <cp:revision>9</cp:revision>
  <dc:subject/>
  <dc:title>Slide 1</dc:title>
</cp:coreProperties>
</file>