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9E6AB0-AAEB-48C8-A7C7-58E127E3DA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403280" y="4632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25DD79-7875-4FC7-8409-2455870BDC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0328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324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55D3D1-DEF7-4700-AF66-FA127A2AF7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67240" y="3716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731560" y="3716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403280" y="4632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67240" y="4632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731560" y="4632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A609B7-5ABF-4C25-9395-1245C88DF6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40328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40328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40328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E4CC0D-B550-48FD-8073-7F59302EFC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8324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403280" y="4632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403280" y="4632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40328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8324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67240" y="3716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731560" y="3716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403280" y="4632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567240" y="4632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731560" y="4632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10CA12-6B48-4F91-9495-BD80C4B25E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516BAA-E0A1-475F-AFC4-0770629FD0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8B36FA-FEF1-403F-8E25-43274F85F9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4770B7-CC58-4BCE-932A-F506CAE31D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40328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E23279-6D6F-4096-8709-90529116B0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324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B436C9-3A5D-4D14-B028-5C77A11C32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03280" y="4632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0D35BB-9EAD-4797-9079-349264238B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124000" y="6237000"/>
            <a:ext cx="5688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top TB Coordinating Board Meeting, Beijing 14 – 15 October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459280" y="6308280"/>
            <a:ext cx="522360" cy="4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(#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top TB Coordinating Board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Beijing 14 – 15 October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11280" y="2060280"/>
            <a:ext cx="77724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Arial"/>
              </a:rPr>
              <a:t>Country Progress</a:t>
            </a:r>
            <a:br>
              <a:rPr sz="4000"/>
            </a:br>
            <a:endParaRPr b="1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0" name=""/>
          <p:cNvSpPr/>
          <p:nvPr/>
        </p:nvSpPr>
        <p:spPr>
          <a:xfrm>
            <a:off x="684360" y="4252320"/>
            <a:ext cx="7488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Chair Dr. Miaka Bilen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Rapporteur Dr. Karam Sha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09:46:41Z</dcterms:created>
  <dc:creator>MudasiaE</dc:creator>
  <dc:description/>
  <dc:language>en-US</dc:language>
  <cp:lastModifiedBy>steenbergeng</cp:lastModifiedBy>
  <cp:lastPrinted>2004-03-17T17:37:17Z</cp:lastPrinted>
  <dcterms:modified xsi:type="dcterms:W3CDTF">2004-10-13T23:33:41Z</dcterms:modified>
  <cp:revision>178</cp:revision>
  <dc:subject/>
  <dc:title>Secretariat, 2003 Progress Report</dc:title>
</cp:coreProperties>
</file>