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598F755-2BBE-41A2-B6A2-F505BDB6F5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78960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410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Intensified Support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&amp; Action Countries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(ISAC)</a:t>
            </a:r>
            <a:br>
              <a:rPr sz="4800"/>
            </a:b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A StopTB initiative to be implemented through the DOTS Expansion W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8840" y="-17640"/>
            <a:ext cx="888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Budget Requir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68280" y="9208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9208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0" y="1306440"/>
          <a:ext cx="9029880" cy="5262480"/>
        </p:xfrm>
        <a:graphic>
          <a:graphicData uri="http://schemas.openxmlformats.org/drawingml/2006/table">
            <a:tbl>
              <a:tblPr/>
              <a:tblGrid>
                <a:gridCol w="1579680"/>
                <a:gridCol w="1479600"/>
                <a:gridCol w="1477800"/>
                <a:gridCol w="1600200"/>
                <a:gridCol w="1425600"/>
                <a:gridCol w="1467000"/>
              </a:tblGrid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Year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ledged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53,500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4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3,3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10,5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Ken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8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akist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3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8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er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11,1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9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24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86,4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ussian F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Uga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,885,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876,5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,694,8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,571,4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314,2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04520" y="1650600"/>
            <a:ext cx="82105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GFATM – Principal recipient (China, Indonesia, Roman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USAID (global bureau and country miss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CIDA (grant to Stop T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taly government and region of Lomb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Japan, DFID, Nor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ctivities and estimate potential outcomes (at 6 and 12 month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confirm the list of 2</a:t>
            </a:r>
            <a:r>
              <a:rPr b="1" lang="en-GB" sz="2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 year ISAC activ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start tier 2 countries (September 0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Phase out ISAC and incorporate technical support to countries as part of plans to scale up TB control (during 2005 for 2006 implementatio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Keep ISAC as an emergency mechanism to intensify actions in special cases in the fu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Next st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2nd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577880" y="1959120"/>
            <a:ext cx="610236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2nd Tier (for discussio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Banglades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DR Cong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Ethiop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Hait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Mozambiq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Myanm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w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Tan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Zamb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Sri Lan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5840" y="1600200"/>
            <a:ext cx="810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467160" y="374652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67160" y="459756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68960" y="4286160"/>
            <a:ext cx="88920" cy="311400"/>
          </a:xfrm>
          <a:prstGeom prst="upDownArrow">
            <a:avLst>
              <a:gd name="adj1" fmla="val 50000"/>
              <a:gd name="adj2" fmla="val 69716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67160" y="320040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095800">
            <a:off x="2793600" y="322560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79760" y="5562720"/>
            <a:ext cx="1841400" cy="64656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Times New Roman"/>
              </a:rPr>
              <a:t>I S A C</a:t>
            </a: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(additional capacit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SAC increases absorptive capacit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510800">
            <a:off x="5413680" y="3346200"/>
            <a:ext cx="4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Purpos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 special emergency initiative to accelerate DOTS expansion and reach the 2005 targets, within the Global Plan to Stop TB, and ultimately the 2015 MD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A key Clarific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The DEWG (and WHO) is fully committed to continue its regular efforts to support all 22 HBCs and other countries in ne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SAC is an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EXTRAORDINARY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ADDITIONAL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ffort to accelerate TB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6040" y="13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Objectiv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69644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dentify countries for immediate acceleration of TB control efforts through a variety of interven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ctively and intensively support such countries to achieve the 2005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3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riteria for Country Selec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1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Burden of disease and/or of TB/HIV dual infection (absolute number and/or rat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resence of, or desire to have, in-country WHO or Stop TB partners’ staff and intensified sup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lear commitment and potential capacity to implement at country level and enabling environ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Availability of funding for TB or TB/HIV control activities from GFATM, bilaterals and bank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otential for collaboration with GDF for drug procure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</a:t>
            </a: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1st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63840" y="1958760"/>
            <a:ext cx="588960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1st Tier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ia (already ISAC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hi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ones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Keny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akista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om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ussian Feder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Ug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eru*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*plan not yet 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Massive increase in managerial capacity at district level (more than 100 additional qualified staff: WHO local consulta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WHO intensified support to strengthening and implement PPM DOTS pr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Ind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assive increase in managerial capacity (additional qualified staff) at central and provincial units of NTP (WHO-CDC on the job train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O intensified support to strengthening link with hospitals and implement PPM DOTS 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creasing WHO technical support to prepare and implement training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Ch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stablish National STB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and expand monitoring and supervision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technical capacity to expand community based TB care and  laboratory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ncrease WHO technical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– Ugan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diazv</cp:lastModifiedBy>
  <cp:lastPrinted>2004-01-30T14:19:50Z</cp:lastPrinted>
  <dcterms:modified xsi:type="dcterms:W3CDTF">2004-10-08T15:51:24Z</dcterms:modified>
  <cp:revision>527</cp:revision>
  <dc:subject/>
  <dc:title>Progress in Global Tuberculosis Control 1995-97</dc:title>
</cp:coreProperties>
</file>