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CCB8-B2F4-45D3-9374-89612B019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F3C0-3350-465F-85DB-B3FED1C1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D318-8C3A-4146-AC3D-E09AE11A2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1E5C-C1EA-403E-9D71-395AFBBB7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8853-26F5-40D1-8713-868732D1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1F51-F1A1-4B8D-A7CB-0D84E5C7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6DBA-4303-4FAB-9E82-E59E5134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734E-134A-4DC4-8CB4-9C59DB62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A1FE-A8DB-4DF6-B390-49F3AA34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8AF5-8A95-4B32-8394-94675403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A83E-9FCD-4967-87AF-93E93975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0B32-17E8-477F-8A8E-E1C232C2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9F22-4AC7-4211-91D0-757F05BF2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ghlights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1341000"/>
            <a:ext cx="76327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B approved Financial Policy being applied which led to better control through  improved financial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transactions of GDF streaml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Working Groups given resources to catalyse their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lk of the contributions from Bilateral Government sources-85.5% of the total income of US$13.8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total expenditure of US$10.8 million TB Control Drugs cost 78% while other partnership activities cost 23% of the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ed income for the whole year US$23.1 million, projected expenditure US$ 23.6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ghlights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55640" y="1341360"/>
            <a:ext cx="7704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jected shortfall for 2005 25 million based on Targeted Workpl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erted effort to be made for mobilising more resources by targeting more donors in the current donor segments and by exploring new donor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inued catalytic support to all Working Grou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st draft of the Global Plan to control TB to provide overall business plan for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boration with GFATM to become clo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ocacy and Communication effort to be intensified considerable to increase political support and enhance public awarenes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08:56:30Z</dcterms:created>
  <dc:creator>vijaya</dc:creator>
  <dc:description/>
  <dc:language>en-US</dc:language>
  <cp:lastModifiedBy>vijaya</cp:lastModifiedBy>
  <dcterms:modified xsi:type="dcterms:W3CDTF">2004-10-04T09:49:34Z</dcterms:modified>
  <cp:revision>6</cp:revision>
  <dc:subject/>
  <dc:title>Highlights</dc:title>
</cp:coreProperties>
</file>