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B244-8D1D-4ED9-B339-20AAD8FBB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4418-381F-4AE6-929C-1269FEC4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D14A-9456-4D38-AFBE-89A77D9F0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2A3C-1E10-41D9-B252-52B70D211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7215-3365-42D4-8072-D4F095B4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2880-6419-4199-86E2-4C44D5B2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BA62-A362-4C14-A4F1-4A936693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7E59-A7E9-40C9-BB00-E9382F4F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E4C4-6051-4F2D-9801-0872014A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8A6B-3783-43F0-ADAA-BB7DCB5F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D7BF-E442-4469-B465-C887AA59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7A95-BB19-4704-BB44-854AFFF1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3054-088B-415C-8CFC-147CC5F4E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14-15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Report back on discussion of 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1108080"/>
            <a:ext cx="89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(2000-05)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 (2006-15), leading to 2015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pports national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each WG's work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052640"/>
            <a:ext cx="870588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ard endo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)  key fea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) development of projections to inform plan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Board requests each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velop its plan (2006-2015) in contribution to the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a focal point from the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resource needs for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Board proposes launch of Global Pla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ither a) between WHA (May) and UNGASS (Sep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 b)  late 2005, e.g. November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8120" y="1125360"/>
            <a:ext cx="87058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Board endorses approach of advocacy champ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lson Mandela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rtya Sen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fi An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*preference to write foreword by 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Board endorses dissemination of Global Plan advocacy messages to key constituencies, including HIV/A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14T10:19:41Z</dcterms:modified>
  <cp:revision>97</cp:revision>
  <dc:subject/>
  <dc:title>Africa: HIV is driving the TB epidemic TB notification rates, 1980-1998</dc:title>
</cp:coreProperties>
</file>