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1942-A24F-47F0-A636-F0F5609F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DF32-2FC7-463A-AB8F-5B6288B1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A490-2082-4126-87E7-561C7D263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C43D-5A7B-4440-A16C-537F0F09C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1CBF-8127-4B4C-986E-9E1AE6B5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B5EC-4B8D-4787-AC35-1BA3EF2E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79BF-004C-4C59-94A0-2D2C0130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169C-DB3D-4C22-A866-D1355C1A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0FEE-FA14-45FA-A322-C95C6BAB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5E4E-F748-4AF3-8828-4DD2A82D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33ED-5F16-46B3-9545-99D75CCF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9793-4E77-488A-A48F-5092CB72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B48C-71DF-45EB-8972-EE7D054E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1B9C-B214-4A6E-A8AD-BE520C8E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53B3-7E42-418E-87E7-DF2B70E9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6001-FD3F-4E80-AD46-DF65F11E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1BB2-3C46-493A-ACF1-C7796884C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DDE2-2EC0-4A23-919A-34CB0EB0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8839-E8C4-42D2-82D8-9B35E2C1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EA88-7A21-4447-90EF-FF4FE79A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CD47-EB65-499D-B84B-5886A9C4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1D38-C622-4DD0-BB3B-D0A2741A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7850-2E89-43D1-8812-199D4BFE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D081-51E0-42B1-8674-FA072B1D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BA36-FE2E-4B34-9601-F5F5E831FFD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6787-DED0-4159-9BAB-7FF9ACAE67D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  <a:ea typeface="宋体"/>
              </a:rPr>
              <a:t>Overview of the Advocacy and Communications Working Grou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Michael Luhan, Communications Advise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October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1. Antecedents: 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d hoc Task Force created in 2001 to "prioritize, plan, develop and coordinate advocacy and communication activities" to support Global Plan and six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ork broadly guided by Strategic Plan for Advocacy and Communications (2002-2005) budgeted at $20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F meetings held in Atlanta (May 01), Geneva (Jan 02), Newark (Apr 02), Johannesburg (Sep 03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Implementation hampered by unstable and HQ-centric Secretariat, inconstant partners, informal charact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Lack of strategic framework, evidence base, pedagogy and specialized partners for country level communic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Main achievements: Strengthened cooperation with selected partners, increased level of global advocacy focused on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84280"/>
            <a:ext cx="8526600" cy="79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ndate to form 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cun experts' consultation, Jun 03: Urges creation of more formal entity for strategic guidance in programme communication to support DOTS expa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ohannesburg TF meeting, Sep 03: Recommends Board upgrade TF to full WG status, establishes main work strea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ternal STB evaluation, Dec 03: Supports recommendation to create more formal entity for A&amp;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authorizes formation of new WG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5922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m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 Carter elected chair of TF Core Group in Joburg meeting, Sep 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endorses J Carter as chair a.i. for new WG and directs Secretariat to support formation process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ing of Basic Framework and initial members' roster by Secretariat, review by Core Group, Sep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rst WG meeting proposed for Dec 04 or Jan 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50752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posed WG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G chair with permanent seat on the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wo vice-chairs to lead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representative from each of the other 6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re funding from Secretariat ($100k/yr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annual WG meeting, two meetings for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Global advocacy for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nalysis of funding needs; setting of strategic advocacy agenda; mapping of advocacy opportunities; coordination of planning, implementation and evaluation of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Program communication and country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rategic framework and guidance; communication pedagogy and tools; operational research; strengthening NTP capacities; support for national partnership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unc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 strategic approaches for scaling up effective A&amp;C interventions and propagate evidence-based best practi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mpower Stop TB partners to develop, implement and evaluation A&amp;C activities at global, regional and country leve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dvise the Coordinating Board on all matters pertaining to advocacy, in-country programme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557360"/>
            <a:ext cx="8640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Infuse a sense of urgency in the Stop TB movement and accelerate efforts of all stakeholders to meet the 2005 targets and 2015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Sustain the increased flow of resources into TB control and ensure that resources are appropriately targeted and utiliz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Catalyze participation of civil society and build a genuine social movement against TB at glob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1T09:08:19Z</dcterms:modified>
  <cp:revision>18</cp:revision>
  <dc:subject/>
  <dc:title>Financial situation,  Budget &amp; plans 2005</dc:title>
</cp:coreProperties>
</file>