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CCE01D-A118-4FD3-81B0-7BCBB9DA3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4C9AAB-67E5-4B8D-B83E-6018C0210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38D74B-990C-4898-985A-0F238EF1A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7013E2-8683-4651-945E-7884AEF59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58B2E7-9CF7-4A34-B9B2-3138D4FF9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333546-F370-4C37-BBCE-5700841F1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0ECACF-3C8F-4CC0-B683-F9B849AF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BA0B92-B5E5-4158-B465-705D0A19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7F924C-4932-4C14-A26A-BE4C8D10B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135881-2C55-47D6-B415-21DE73415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159BB2-427A-49E6-8795-F731EF424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16572C-A5B4-4544-82FC-B9B8F8933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16360" y="6248520"/>
            <a:ext cx="540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op TB Coordination Board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ahoma"/>
              </a:rPr>
              <a:t>14 October Beij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4"/>
          </p:nvPr>
        </p:nvSpPr>
        <p:spPr>
          <a:xfrm>
            <a:off x="2843280" y="6165720"/>
            <a:ext cx="3184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op TB Coordination Board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4 October Beij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B1F24-0642-4F8F-ABDF-640B42F10E7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1280" y="3499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national and regional initiatives</a:t>
            </a:r>
            <a:endParaRPr b="1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1039320" y="2202840"/>
            <a:ext cx="689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Partnerships to Stop TB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xisting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artnership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ational Partnership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Canada (Feb' 01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Indonesia (Jan' 02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Pakistan (April' 04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Mexico (Sept '04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nergize Partnerships in countries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cretariat develops support products for countrie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Advocacy &amp; Communication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Communication Handbook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B Control and DOTS Expansion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eeds Assessment : Uganda, Brazil, Indonesia, Pakistan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DF &amp; ISAC country suppor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ship IT product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ternet, online discussion etc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source Mobilization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Tahoma"/>
              <a:buChar char="—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thical guidelines, how link with CCMs, donors and business sector, innovative approaches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Tahoma"/>
              <a:buChar char="—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ngaging non-traditional partners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ccelerate Progress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2004-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w National Partnerships to Stop TB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ganda, Nigeria, Brazil, Russian Federation, France and Croatia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Sub-) Regional Partnerships to Stop TB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Europ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879560" indent="-50796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uropean Partnership to Stop TB (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top TB Europ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879560" indent="-50796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entral Asian Republics Sub-Regional Partnership under development with stakeholder analysi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South East Asia and Afric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: under developmen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Future Plans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teraction of the Advocacy and Communication Working Group with the various partnership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onal Workshop on Advocacy and Communic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ffective use of the Stop TB '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Champion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'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Join forces with other initiatives and partnerships (GFATM, 3by5, RBM etc.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se national and international political platforms to get TB on the agenda (European Union, ASEAN, SAARC, ADEAN, African Union, NEPAD etc.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steenbergeng</cp:lastModifiedBy>
  <cp:lastPrinted>2004-03-17T17:37:17Z</cp:lastPrinted>
  <dcterms:modified xsi:type="dcterms:W3CDTF">2004-10-07T11:32:42Z</dcterms:modified>
  <cp:revision>206</cp:revision>
  <dc:subject/>
  <dc:title>Secretariat, 2003 Progress Report</dc:title>
</cp:coreProperties>
</file>