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D3FA-9FEF-450E-A433-CCB3997F9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re competitive and uncertain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cording to the Bank, health ODA in 2002 is about $ 8.1 bill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iven new health funding initiatives (GFATM, PEPFAR, MCA ), health funding is expected to continue to rise in the coming years BUT there is no grante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around 80 global health initiatives at this mo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/AIDS is drawing the most significant atten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caling up resource mobilization eff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have to do more – The estimated financial gap for Stop TB is about $25 million in 2005 and getting wider in the coming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eting the overall MDG needs requires an annual ODA average of $156 billion from 2005 through 2007 and $188 billion from 2013 through 2015. (In 2003, the total amount of ODA worldwide was $68 bill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uilding public trust and confidence on the Partn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ublic and donor expectation is high and multidimensional, including an ethical aspect of performa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y down a set of basic princip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aim to set out minimum principles for establishing system-wide standards for resource mobilization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unicate with all stakeholder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are a mean to communicate with our beneficiaries, partners, donors, supporters, and all other stakeholders to promote a better understanding of the Stop TB resource mobilization operation.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sure resource mobilization is mission-driven and aligned with the Partnership's vision and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 a quality-control and accountability promotion measu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aim to hold our resource mobilization effort to a higher quality standard and establish it in a wider framework of the mission, vision, and values of the Stop TB Partnership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 must be accountable not only financially but also technically: be accountable for utilising the resources entrusted to it for achieving stated results and goal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cooperation with the Resource Mobilization Task Force, the Donation review committee will monitor the implementation of the Guidelines at the Secretariat level.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view committee will be composed of 3-4 members from a community of our stakehold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imary functions are twofold: To review donation practice at the Secretariat; and to monitor and evaluate the overall implementation process for further improv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ugh a detailed implementation plan has to be prepared later, some of the key actions we need to tak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disseminate the Guidelines for comments and "buy-in" from partners engaged in resource mobilization with potential TA from the 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prepare a TOR for the Donation Review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circulate the Guidelines to a wider groups of stakeholders and pee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DA6D-DD40-471C-8EEA-82246F83D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B79D-31B9-4167-92F1-45356356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A03B-8ED8-4BED-BA09-AA0322F99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5E84-ABBC-4DAD-9043-9AF1436A2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CD51-486B-4F0B-81E3-550CF57B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3F3D-53B6-40D5-8385-AC47F6D1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97A2-3A1D-4763-8F37-2C78969B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BD60-9608-4DA8-AF3F-563CE5E4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09BC-E99F-4ED8-89B1-A9A2D76E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69BB-735B-4C86-9999-FFFCFEB2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95F5-B719-4E7E-AC15-C5260F39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594F-8F3A-4CB1-9E6B-B64E7FB4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E0C0-81C5-4533-B27B-C149AEE2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6152-2423-46FF-B3C9-E9EB034A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8D57-FB07-4D1D-893F-748E6F02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1476-E802-4EDC-A7AC-993135C3E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0FB5-FB14-4A01-8EEB-C05A5B62D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7EF8-41B4-4A0E-836A-47937013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603D-B8DF-443E-AD21-3F799B7D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3AF6-B3A6-4AF0-81BE-8ED115E7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E6CB-16F8-4141-B2E2-9A99FD2D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E0C6-7357-4D2D-AC9C-6D6E6116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4560-F259-49A4-813C-5215D87C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1544-83E2-4A74-A3AE-80075B36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33A1-8655-44E0-A18B-13C920639EE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7888-7C6C-4B2D-9980-3E693225D74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713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</a:rPr>
              <a:t>Ethical Guidelines for Resource Mobilization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宋体"/>
              </a:rPr>
              <a:t>Irene Koe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sation Task Forc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Need for Guidelin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Purpos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Key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Implementation and Review Proces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What are Next Steps?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Need for Guidelin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quested by Coordinating Bo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mand for accountability and transparency  from regulatory bodies and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More competitive and uncertain environ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Scaling up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More donors from the existing donor seg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w Donor Segment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uilding public trust and confidence on the Partnership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urpose of Ethical Guidelin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Lay down a set of readily understood basic principl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municate the agreed principles that underpin resource mobilisation to all stakeholders  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resource mobilization i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mission-drive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ligned to Partnership valu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Key Principles of Ethical Guidelin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iance with legal requirements in countries where resources are being mobilis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 donations from profits resulting from illegal activities or from products that contribute to lung diseas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maining within the scope of the mandate of the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Key Principles of Ethical Guidelines (Contd.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mislead with incorrect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o be open in all activities and address any conflict of intere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over, or understate the situation with respect to financial requirements or the burden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WHO guidelines for donations in kind, drug donations and working with the Private Sec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view Committe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small, flexible review committee to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Provide advice on acceptance of contributions from new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eview the guidelines on a routine basis and make recommendations to the Coordinating Board for further rev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commendations for the Coordinating Board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 the guidelin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pply the endorsed guidelines with immediate effec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irculate the Guidelines to those involved in resource mobilisation and peer bod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vijaya</cp:lastModifiedBy>
  <dcterms:modified xsi:type="dcterms:W3CDTF">2004-10-21T14:43:00Z</dcterms:modified>
  <cp:revision>70</cp:revision>
  <dc:subject/>
  <dc:title>Slide 1</dc:title>
</cp:coreProperties>
</file>