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853560" y="74412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77964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1573E-1D46-4D31-AD65-DA853141905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377964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E0D9C-FF71-44CE-AF54-946298B1633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132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377964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41C05-4DB4-4130-BC20-5F55CBBDF3B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132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6678-5E5C-403D-ACBA-A3A839763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03280" y="4632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C1AB-5A3F-47A4-B38A-DCBD3FD54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0328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324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0573-6F99-4A92-8C32-08169F6BC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7240" y="3716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31560" y="3716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03280" y="4632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7240" y="4632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31560" y="4632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5E4D-893D-4034-A750-6760D38FC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C4F68-DC71-4FE8-8AAE-8E0A2CEC2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0328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45D1B-7835-4218-9004-CC8E07236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206F3-3A97-4C4A-BF63-4C125C2E6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CD525-0850-4C35-B815-DF1DB433F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21DDA-3D3F-47DA-AE2F-493B61941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FC228-72E5-4591-843E-91D98AB07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40328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2410C-3093-493B-830C-B854CB226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0328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1880-0AE6-4ED2-A155-C908D8CED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324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0F9D1-5B5A-40D1-9965-A20D56737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403280" y="4632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AC718-D544-4929-AFED-7BDD254CC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403280" y="4632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3A550-59DB-42E5-BFBE-0705F2D62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0328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324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B309D-41A5-4B5E-9A92-ECFABEA43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7240" y="3716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31560" y="3716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403280" y="4632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7240" y="4632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31560" y="4632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F910D-9619-41CE-B907-DFB8E7827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9F06-7898-4580-A463-C8F10AF5D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0152-CEB6-4D19-B9E7-F0712358A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EE20-D3F8-439A-96F3-81D06E75A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818E-9994-4CFD-946A-56CCF42A4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0328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3ADD-0A2D-4C04-9230-A3384E1DF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324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1FBB-90F3-4C72-A72A-FDD2E7C74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03280" y="4632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60A4-4653-4CE9-A481-2AB931D5B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9B3CD-7B5E-46DF-AB9A-5FDD5A7295B6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A6D91-1DD4-4D9C-8327-6DB98660817E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11280" y="349992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Expanding Regional, National and sub-national Partnerships</a:t>
            </a:r>
            <a:endParaRPr b="1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2124720" y="2202840"/>
            <a:ext cx="471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Progress Report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920" y="404640"/>
            <a:ext cx="7772400" cy="6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asks for Stop TB Pakistan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39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o gain additional social &amp; political support.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o enhance public and political perception of TB-DOT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o increase TB awareness throughout Pakistan.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o engage non-traditional partners in the fight against TB.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o build alliances with other health and development initiatives.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1049760" y="5734080"/>
            <a:ext cx="7360200" cy="7034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ff0000"/>
                </a:solidFill>
                <a:latin typeface="Times New Roman"/>
              </a:rPr>
              <a:t>TO GET TB ON THE AGENDA 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TOP TB Pakistan: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he Partner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Ex officio: MOH represented by NTP Pakistan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WHO Pakistan has offered support to host organization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IACC members willing to adhere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Pakistani partners of the Global Partnership willing to adhere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In the future: Associations/institutions named by at least 2 members      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4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Issues to be addressed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to reach the target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352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Weak community involvement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Weak advocacy activiti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Weak integration with other programm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Still limited Public-public mix and private-public mix activities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Lack of human resources at all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Lack of commitment at District level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Lack of structured supply management system at all level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DOTS yet to be implemented in urban areas and at peripheral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STOP TB PAKISTAN</a:t>
            </a: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447920" y="352872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Pakistan's own national enhanced response to the challenge of TB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Existing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Partnership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00000"/>
              </a:lnSpc>
              <a:spcBef>
                <a:spcPts val="7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National Partnership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1168560" indent="-71136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op TB Canada (Feb' 01)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1168560" indent="-71136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op TB Indonesia (Jan' 02)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1168560" indent="-71136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op TB Pakistan (April' 04)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1168560" indent="-71136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op TB Mexico (Sept '04)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11685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Energize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Partnerships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evelop further support initiatives for: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'Communication Handbook'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or TB Control and DOTS Expansion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eeds Assessment Program : Uganda, Brazil, Indonesia,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kistan + ISAC countries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Tahom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DF/ISAC Country-level Partnerships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Tahom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randing Partnership IT Package (web services, online discussion forum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Tahom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uidance on Resource Mobilization (ethical guidelines, link with CCMs and the business sector, innovative approaches for fund raising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Tahom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trengthen relationships with all Stop TB Partners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ngaging non-traditional partners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Accelerate Progress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2004-2005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lnSpc>
                <a:spcPct val="9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SzPct val="8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ational Partnerships to Stop TB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2" marL="1523880" indent="-609480">
              <a:lnSpc>
                <a:spcPct val="9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Uganda, Nigeria, Brazil, Russian Federation, France and Croatia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812880" indent="-812880">
              <a:lnSpc>
                <a:spcPct val="9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SzPct val="8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Sub-)Regional Partnerships: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2" marL="1523880" indent="-609480">
              <a:lnSpc>
                <a:spcPct val="9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URO :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3" marL="1879560" indent="-507960">
              <a:lnSpc>
                <a:spcPct val="9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uropean Partnership to Stop TB (Stop TB Europe)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3" marL="1879560" indent="-507960">
              <a:lnSpc>
                <a:spcPct val="9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AR Sub-Regional Partnership under development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2" marL="1523880" indent="-609480">
              <a:lnSpc>
                <a:spcPct val="9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EARO / AFRO : under development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812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Future Plans 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oost the Advocacy, Communication and Social Mobilization Working Group with the various partnerships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onal Workshop on Advocacy and Communicat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Use of the Stop TB '</a:t>
            </a: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Champions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'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mplement a strategy plan and join forces with other partnerships (GFATM, 3by5, RBM..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Use national political forums to empower global, national and regional partnerships building (ASEAN, SAARC, ADEAN, African Union, NEPAD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040" y="1546200"/>
            <a:ext cx="772164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ahoma"/>
              </a:rPr>
              <a:t>Stop TB Pakistan</a:t>
            </a:r>
            <a:endParaRPr b="1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186920" y="2707920"/>
            <a:ext cx="691380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Tahoma"/>
              </a:rPr>
              <a:t>The answer to a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cc66"/>
                </a:solidFill>
                <a:uFillTx/>
                <a:latin typeface="Tahoma"/>
              </a:rPr>
              <a:t>broader</a:t>
            </a:r>
            <a:r>
              <a:rPr b="1" i="1" lang="en-US" sz="3200" spc="-1" strike="noStrike">
                <a:solidFill>
                  <a:srgbClr val="ffcc66"/>
                </a:solidFill>
                <a:latin typeface="Tahoma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Tahoma"/>
              </a:rPr>
              <a:t>and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cc66"/>
                </a:solidFill>
                <a:uFillTx/>
                <a:latin typeface="Tahoma"/>
              </a:rPr>
              <a:t>more intensified</a:t>
            </a:r>
            <a:r>
              <a:rPr b="1" i="1" lang="en-US" sz="3200" spc="-1" strike="noStrike">
                <a:solidFill>
                  <a:srgbClr val="ffcc66"/>
                </a:solidFill>
                <a:latin typeface="Tahoma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Tahoma"/>
              </a:rPr>
              <a:t>collaboration involving other partner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324000" y="2806560"/>
            <a:ext cx="1425600" cy="148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77724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top TB Pakistan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ghting TB requires more than just the NTP and the IACC collaborating partner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585000" indent="-5850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Pakistan has many and diverse resources that have not yet been tapped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585000" indent="-5850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o increase case detection and treatment success diverse and additional partners are needed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585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1265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ahoma"/>
              </a:rPr>
              <a:t>National TB Programme Managers Meeting, Lahore, 29</a:t>
            </a:r>
            <a:r>
              <a:rPr b="1" lang="en-US" sz="2800" spc="-1" strike="noStrike" baseline="30000">
                <a:solidFill>
                  <a:srgbClr val="ff3300"/>
                </a:solidFill>
                <a:latin typeface="Tahoma"/>
              </a:rPr>
              <a:t>th</a:t>
            </a:r>
            <a:r>
              <a:rPr b="1" lang="en-US" sz="2800" spc="-1" strike="noStrike">
                <a:solidFill>
                  <a:srgbClr val="ff3300"/>
                </a:solidFill>
                <a:latin typeface="Tahoma"/>
              </a:rPr>
              <a:t> April 2004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901880" y="2657520"/>
            <a:ext cx="5413320" cy="37242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9600" y="178200"/>
            <a:ext cx="4127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Milestone for STOP TB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Pakistan Partnershi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6000" y="115560"/>
            <a:ext cx="446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dded value of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top TB Pakistan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9280" y="1700280"/>
            <a:ext cx="817884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Political advocacy and social mobilisation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ff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innovative approaches and intervention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ff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broad participation from Pakistani partne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Sharing information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ff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newsletters and information materia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ff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data base on activities &amp; partne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Resource mobilisation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ff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new and other expertise/experience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ff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human resources from new partne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ff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financial resources from other initiativ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66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66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09:46:41Z</dcterms:created>
  <dc:creator>MudasiaE</dc:creator>
  <dc:description/>
  <dc:language>en-US</dc:language>
  <cp:lastModifiedBy>steenbergeng</cp:lastModifiedBy>
  <cp:lastPrinted>2004-03-17T17:37:17Z</cp:lastPrinted>
  <dcterms:modified xsi:type="dcterms:W3CDTF">2004-10-14T00:29:22Z</dcterms:modified>
  <cp:revision>252</cp:revision>
  <dc:subject/>
  <dc:title>Secretariat, 2003 Progress Report</dc:title>
</cp:coreProperties>
</file>