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E35D-929B-4762-9C35-DA5311F5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D498-B284-4BA9-8222-C3E35B8B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BEBA-5C6A-46CE-BF70-BB8AA37B8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3D1E-6997-4396-A855-E01F0CE18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0BAA-BED5-48C4-9226-8B0ED116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867C-8E9C-455B-96DB-6A3F0A79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13B9-AB85-4581-A329-B7329098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2BE5-040E-48A5-99DB-82F1B4C8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4731-85F2-4C8C-A9E6-8D7ADCAB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18B2-E072-4101-8AAA-4AB96B90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18FA-6B81-41EB-8723-1767C8AE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9844-C7F6-4A09-99E4-99B31E3F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CDAF-EAA3-4B93-8EF9-0D7284BD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9DF6-3AF4-4746-AB6D-472AFA81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81C0-8D65-4F9B-9333-714CA4C9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31AF-CE1C-4768-BCA7-14248083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9F82-D004-43E8-9CDD-5FCE0E28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9710-C0FE-41EE-B09E-0FAF02C6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BB68-ABFE-4BF2-9684-631ABFB2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6009-BCD7-4B5A-A29C-C9ECABD5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933B-FC17-4960-A009-72F6F430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85BC-3BFE-4696-8CF5-9BB57018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789B-E194-4487-BA22-482A9A2C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4DAB-3F24-46FD-A7D8-AAA2191D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6464-A04E-47AA-98F1-49BA646735D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6CEC-7DD9-4DBE-8BA0-D3F4D58CC8E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4000" y="2276640"/>
            <a:ext cx="8496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  <a:ea typeface="宋体"/>
              </a:rPr>
              <a:t>Highlights 2004 &amp; Priorities 2005: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National partnerships, TB &amp; Povert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Second Global Plan to Stop TB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Global TB Drug Facility (GDF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Advocacy &amp; Communicat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Finances &amp; Resourc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Priorities end-2004 and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ctivate Advocacy and Communication Working Grou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tensify advocacy efforts in Canada, Japan, USA, UK, European Un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funding for TB and TB/HIV in Round 5 of GFATM and incorporate AC activities into key HBC propos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talyze AC activities with HIV/AIDS groups to accelerate uptake of TB/HIV collaborative activities at country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duct 4 regional AC needs assessments/trainings (AMRO, AFRO, EURO, WPRO) and 4 at country level (Brazil, Indonesia, Pakistan, Uganda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B approved Financial Policy being applied which led to better control through  improved financial manag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ncial transactions of GDF stream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 Working Groups given resources to catalyse thei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&amp;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f the total expenditure of US$10.8 million, TB Control Drugs cost 78%, while other partnership activities cost 2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income for the whole year US$23.1 million, projected expenditure US$ 23.6 million (as per the Operational Work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ighlights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484280"/>
            <a:ext cx="8640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shortfall for 2005 is US$25 million based on Targeted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certed effort to be made for mobilising more resources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targeting more donors in the current donor seg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exploring new donor segment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developing new resource mobilisation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inued catalytic support to all Working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loser ties with 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Secretariat of the Network for Action on TB and Poverty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 platform for TB control and opportunity for Poverty experts to create a synergy for coordinated action in support of countries and the poor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Guide for NTP managers on TB and Pover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5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In response to the demand from countries, endorsed by the STAG and DEWG, WHO spearheads this normative publication on how to mainstream pro-poor approaches in DOTS and TB control programm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 to Stop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Uganda, Brazil, Russian Federation, (France, Croatia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Launching the WHO guide on TB and Poverty for NTP manag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panding TB Poverty related activit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(Sub-)Reg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 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pean Partnership to Stop TB (Stop TB Europe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R Sub-Regional Partnership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EARO / AFRO :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000" y="138240"/>
            <a:ext cx="442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413000"/>
            <a:ext cx="86598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ogress in first half of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rvey of partners' views on the first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ment of outline of Global Plan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of steering committee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to develop scenarios for reaching MDG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on developing contribution of each Working Group to the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560" y="138240"/>
            <a:ext cx="471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4130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Key activities in second half of 2004 and in 200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cenarios completed for reaching MDG for TB (epidemiological forecasting and costin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ributions of each Working Group to the Plan comp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completed, reviewed widely and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finalised and published in time for UN summit on MDGs, September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Achiev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7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rugs delivered to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5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ies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3.24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million patien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00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y evaluations organized by GDF/STB Partners.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OTS Coverage - average increase of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20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per GDF count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Additionality -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88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GDF recipients increased expenditure on T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Cost - Average drug cost per patient: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~$1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ocurement -  lead time met for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77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of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Quality -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All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GDF batches passed independent QC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958160" y="5157720"/>
          <a:ext cx="1185840" cy="1700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58160" y="5157720"/>
                    <a:ext cx="118584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Futur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Maintain the Gain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verage, programme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ice, quality and servi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Fill new gaps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itional grants, non-traditional user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vide new service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ediatrics, diagnostics, expanded monitor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mprove Drug Management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2005 Training in AFRO, SEARO, EMRO, EUR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4719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USA Media Tour, 20-29 Sep 04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urpose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ngage Congress for more TB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media attention to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n full partners meeting for November 2004 for advocacy and legislative a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ed in collaboration with CB members, RESULTS, ATS, Global Health Council, OSI, Global Alliance for TB Drug Development and other Stop TB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2920" y="2205000"/>
            <a:ext cx="4038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Outcom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Cities in 7 days—DC,  NYC, Indianapolis and L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etings with Congressional staffers, Rep. Sherrod Brow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10 Editorial board meetings or interview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dia stories and count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Speaking engagement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Full US Partners meeting set for 14-15 November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Last minute legislative push  plann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rch-October 2004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Media promotion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Major TV and newspaper coverage of MDR-TB report -- Rahman appointment -- Partners Forum/WTBD -- Int'l AIDS Conference -- Lancet report on China --  TB/HIV meeting in Addis Ababa -- USA tou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720000"/>
                </a:solidFill>
                <a:latin typeface="Tahoma"/>
              </a:rPr>
              <a:t>Global coverage of the Stop TB Partnership, and regional coverage of DOTS expansion in Africa and Asia, are now at their highest levels ever in major media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Advocacy materials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Joint UNAIDS/Stop TB info pack on TB/HIV -- Progress Report on GPSTB -- 25 minute documentary film on BBC World TV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Partnership building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Well-established alliances with UNAIDS and HIV/AIDS community -- formation of Advocacy and Communication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heitkampp</cp:lastModifiedBy>
  <dcterms:modified xsi:type="dcterms:W3CDTF">2004-10-05T09:56:54Z</dcterms:modified>
  <cp:revision>11</cp:revision>
  <dc:subject/>
  <dc:title>Financial situation,  Budget &amp; plans 2005</dc:title>
</cp:coreProperties>
</file>