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wmf" ContentType="image/x-wmf"/>
  <Override PartName="/ppt/media/image4.png" ContentType="image/png"/>
  <Override PartName="/ppt/media/image5.jpeg" ContentType="image/jpeg"/>
  <Override PartName="/ppt/media/image6.png" ContentType="image/pn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91404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3396C1D-2825-4614-9932-91BE70EBF07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19840" y="6324480"/>
            <a:ext cx="181080" cy="39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848720" y="5867280"/>
            <a:ext cx="609480" cy="581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11200" y="1314360"/>
            <a:ext cx="3084480" cy="4857840"/>
          </a:xfrm>
          <a:prstGeom prst="rect">
            <a:avLst/>
          </a:prstGeom>
          <a:ln w="63360">
            <a:solidFill>
              <a:srgbClr val="cc3300"/>
            </a:solidFill>
            <a:miter/>
          </a:ln>
        </p:spPr>
      </p:pic>
      <p:sp>
        <p:nvSpPr>
          <p:cNvPr id="48" name=""/>
          <p:cNvSpPr/>
          <p:nvPr/>
        </p:nvSpPr>
        <p:spPr>
          <a:xfrm>
            <a:off x="5190480" y="3567240"/>
            <a:ext cx="232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Dr Mario Raviglione</a:t>
            </a:r>
            <a:br>
              <a:rPr sz="1800"/>
            </a:b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Director, STB/WH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Beijing, Chi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14-15 October 200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6713640" y="5105520"/>
          <a:ext cx="1287360" cy="1323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13640" y="5105520"/>
                    <a:ext cx="128736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4876920" y="5229360"/>
            <a:ext cx="930240" cy="968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511200" y="1314360"/>
            <a:ext cx="3070080" cy="4857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292640" y="1197000"/>
            <a:ext cx="4219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</a:rPr>
              <a:t>TB Care for All: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</a:rPr>
              <a:t>Evolution of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</a:rPr>
              <a:t>the DOTS Strateg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430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put from STB-CB……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07760" y="292104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Is this an appropriate and effective approach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How do we build ownership in this proces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2014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787320" y="1511280"/>
          <a:ext cx="7747200" cy="4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11280"/>
                    <a:ext cx="7747200" cy="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6784920" y="6383160"/>
          <a:ext cx="460440" cy="474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4920" y="6383160"/>
                    <a:ext cx="46044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30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Aims of this presentation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07760" y="1891800"/>
            <a:ext cx="8057880" cy="452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To set the main direction for acceleration of TB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To outline the need for a care approach in TB, besides a public health 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To present the vision for an enhanced 2004 DO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2014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787320" y="1511280"/>
          <a:ext cx="7747200" cy="4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11280"/>
                    <a:ext cx="7747200" cy="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6784920" y="6383160"/>
          <a:ext cx="460440" cy="474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4920" y="6383160"/>
                    <a:ext cx="46044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736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Global TB Control Targets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47440" y="1584360"/>
            <a:ext cx="82962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WHA (year 2005):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- 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To detect 70% of infectious TB 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cas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4" marL="2314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- 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To treat successfully 85% of 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detected cas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Okinawa - G8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: 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1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50%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 reduction in prevalence and 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deaths by 201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MDGs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: 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To have halted and begun to reverse 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the incidence of TB by 2015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187040" y="64818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787320" y="1282680"/>
          <a:ext cx="7747200" cy="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282680"/>
                    <a:ext cx="7747200" cy="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6784920" y="6419880"/>
          <a:ext cx="453960" cy="4665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4920" y="6419880"/>
                    <a:ext cx="45396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1119240" y="971640"/>
          <a:ext cx="6676920" cy="5651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9240" y="971640"/>
                    <a:ext cx="6676920" cy="56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6843600" y="6437160"/>
          <a:ext cx="371520" cy="3826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0" y="6437160"/>
                    <a:ext cx="37152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-87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"/>
              </a:rPr>
              <a:t>Progress towards targets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158600" y="645336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Progress towards Global Targets</a:t>
            </a:r>
            <a:br>
              <a:rPr sz="3600"/>
            </a:b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70/85 by 2005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9840" y="2414520"/>
            <a:ext cx="7885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Case detection rate: 43%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Treatment success rate: 82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i="1" lang="en-GB" sz="2400" spc="-1" strike="noStrike" u="sng">
                <a:solidFill>
                  <a:srgbClr val="000066"/>
                </a:solidFill>
                <a:uFillTx/>
                <a:latin typeface="Arial"/>
                <a:ea typeface="Arial Unicode MS"/>
              </a:rPr>
              <a:t>Best forecast</a:t>
            </a: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treatment success achiev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case detection close, but  not achiev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187040" y="64818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787320" y="1725480"/>
          <a:ext cx="7747200" cy="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725480"/>
                    <a:ext cx="7747200" cy="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6843600" y="6434280"/>
          <a:ext cx="411120" cy="423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0" y="6434280"/>
                    <a:ext cx="411120" cy="4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142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Main directions to accelerate DOTS expansion and adapt to reach all 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956960"/>
            <a:ext cx="7986600" cy="49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Keep expanding and sustaining DOTS achievements, supporting countries to build capacity and to mobilise resources, within strengthened health system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Advocate for (1) DOTS, as the recognised public health strategy for TB control, and (2) the importance of individual patient care within DO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Engage all care providers, public and private, to increase access and use of a </a:t>
            </a:r>
            <a:r>
              <a:rPr b="1" lang="en-GB" sz="1400" spc="-1" strike="noStrike" u="sng">
                <a:solidFill>
                  <a:srgbClr val="000066"/>
                </a:solidFill>
                <a:uFillTx/>
                <a:latin typeface="Arial"/>
                <a:ea typeface="Arial Unicode MS"/>
              </a:rPr>
              <a:t>universal standard of care</a:t>
            </a: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,  especially among the poor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Promote community participation and mobilise societies to increase (1) demand for proper care and (2) involvement in c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Adapt DOTS to high HIV and MDR-TB settings, and strengthen capacity to diagnose and manage SS(neg) TB and drug resistant cas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Strengthen M&amp;E for problem-solving and to measure achievements vis-à-vis WHA &amp; MDG targ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Sustain the Stop TB Partnership and its Working Group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2158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787320" y="1595520"/>
          <a:ext cx="7747200" cy="6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95520"/>
                    <a:ext cx="7747200" cy="6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686124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6124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Quality TB care for all: </a:t>
            </a:r>
            <a:br>
              <a:rPr sz="3600"/>
            </a:b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Ensure a high standard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Arial Unicode MS"/>
              </a:rPr>
              <a:t>Patient care to cure and prevent TB is the ultimate goal of DO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Arial Unicode MS"/>
              </a:rPr>
              <a:t>The foundation of DOTS is </a:t>
            </a:r>
            <a:r>
              <a:rPr b="1" lang="en-GB" sz="1800" spc="-1" strike="noStrike" u="sng">
                <a:solidFill>
                  <a:srgbClr val="000066"/>
                </a:solidFill>
                <a:uFillTx/>
                <a:latin typeface="Arial"/>
                <a:ea typeface="Arial Unicode MS"/>
              </a:rPr>
              <a:t>effective patient care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Arial Unicode MS"/>
              </a:rPr>
              <a:t> which alleviates suffering, as well as controls and prevents TB in a community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Arial Unicode MS"/>
              </a:rPr>
              <a:t>A standard of care for TB exists already, and is evidence-based, but needs further promotion among all care provid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Arial Unicode MS"/>
              </a:rPr>
              <a:t>Simply, each care provider, public or private, should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523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Arial"/>
                <a:ea typeface="Arial Unicode MS"/>
              </a:rPr>
              <a:t>1- Diagnose TB quickly (i.e., bacteriological confirmation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523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Arial"/>
                <a:ea typeface="Arial Unicode MS"/>
              </a:rPr>
              <a:t>2- Treat TB properly (i.e., SCC and treatment suppor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523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Arial"/>
                <a:ea typeface="Arial Unicode MS"/>
              </a:rPr>
              <a:t>3- Report TB cases and treatment outcom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Arial Unicode MS"/>
              </a:rPr>
              <a:t>If all providers did the right thing, we would control T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787320" y="155592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5592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87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</a:rPr>
              <a:t>E</a:t>
            </a: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宋体"/>
              </a:rPr>
              <a:t>nhanced</a:t>
            </a:r>
            <a:r>
              <a:rPr b="1" lang="en-GB" sz="3600" spc="-1" strike="noStrike">
                <a:solidFill>
                  <a:srgbClr val="cc3300"/>
                </a:solidFill>
                <a:latin typeface="Arial"/>
              </a:rPr>
              <a:t> DOTS Strategy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95360" y="1092240"/>
          <a:ext cx="7715160" cy="4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1092240"/>
                    <a:ext cx="7715160" cy="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542880" y="1244520"/>
            <a:ext cx="81820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58000"/>
          </a:bodyPr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Government commitment with long-term planning and</a:t>
            </a:r>
            <a:br>
              <a:rPr sz="1800"/>
            </a:b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sustainable financing to reach WHA and MDG targe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Diagnosis through bacteriology (microscopy and cultur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Standardized treatment under proper case management conditions, including DOT, and full patient support for a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An effective drug supply system and laboratory networ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An adequate recording and reporting of cases and outcom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00"/>
                </a:solidFill>
                <a:latin typeface="Arial"/>
              </a:rPr>
              <a:t>To do this properly, in 2004, we also need to explicitly…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 algn="ctr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Engage all care providers, public and private, in the delivery of a high standard of TB care for all cases, infectious first and non-infectio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Partner with communiti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Include TB/HIV interventions and DOTS+ for MDR-TB into national country TB control strategi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298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786720" y="6431040"/>
          <a:ext cx="414360" cy="426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6720" y="6431040"/>
                    <a:ext cx="41436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3300"/>
                </a:solidFill>
                <a:latin typeface="Arial"/>
              </a:rPr>
              <a:t>Standard of care and expanded DOTS strategy: proposed next steps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95360" y="1492200"/>
          <a:ext cx="7715160" cy="4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1492200"/>
                    <a:ext cx="7715160" cy="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409680" y="1841400"/>
            <a:ext cx="848664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9000"/>
          </a:bodyPr>
          <a:p>
            <a:pPr marL="420480" indent="-4204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TBCTA-funded project to further document strong evidence-base for standard of care (led by ATS, with WHO and other partn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Expanded DOTS policy document outlining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56720" indent="-36792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Chronology of DOTS evolutionary proc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6720" indent="-36792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Revision of 5 elem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6720" indent="-367920">
              <a:lnSpc>
                <a:spcPct val="11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Explicit reference to the issues of standard of care by all providers and mainstreaming of TB/HIV and DOTS-Plus into comprehensive TB control pla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Communication strategy for new policy document in line with WHA resolution and evidence-base standard of care (supply and demand sid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1298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786720" y="6431040"/>
          <a:ext cx="414360" cy="426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6720" y="6431040"/>
                    <a:ext cx="41436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0T15:03:20Z</dcterms:created>
  <dc:creator>LamyQuiqueS</dc:creator>
  <dc:description/>
  <dc:language>en-US</dc:language>
  <cp:lastModifiedBy>steenbergeng</cp:lastModifiedBy>
  <cp:lastPrinted>2003-04-10T14:23:01Z</cp:lastPrinted>
  <dcterms:modified xsi:type="dcterms:W3CDTF">2004-10-15T02:14:09Z</dcterms:modified>
  <cp:revision>404</cp:revision>
  <dc:subject/>
  <dc:title>Progress in Global Tuberculosis Control 1995-97</dc:title>
</cp:coreProperties>
</file>