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2C7-0FD2-4BBE-84DD-142DE888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98B-8B54-47D3-A8C2-D51B615E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BEA-C3B4-4A99-91B9-45602821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0D5F-2FA3-4DAD-9C88-972ACCC5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96B-78D8-4FC9-A36D-AA8CFB24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EEE-9B9C-4225-8DF5-6C39CEC3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9C3E-4F4A-42E1-BD43-284A8C85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C93-F78C-43C7-BC3E-04FC3B68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E832-78B5-4F2C-8502-226F2248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C08-CA4C-40E2-AD64-8B3AE1ED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1758-F6FB-4E8B-A7AF-79B49B38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046-F21D-4D7C-BFC8-3A6C6D7B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D163-69EE-4500-A8F1-DF6BF31A1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Meeting of chairpersons of Working Groups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aturday 16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3516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view of progress in developing the Global Plan 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ntribution of Working Groups to the Global Plan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ime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120" y="162864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ime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8120" y="765000"/>
            <a:ext cx="8454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– March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scenarios and inter-active planning process with Worki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ach WG should identify a focal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 – Ma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by each Working Group of workplan, 2006-2015, guided by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- Jun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nalisation of Global Plan, 2006-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take-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29:12Z</dcterms:modified>
  <cp:revision>93</cp:revision>
  <dc:subject/>
  <dc:title>Africa: HIV is driving the TB epidemic TB notification rates, 1980-1998</dc:title>
</cp:coreProperties>
</file>