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AF81-54B4-44D7-A23D-8FECF8486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re competitive and uncertain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cording to the Bank, health ODA in 2002 is about $ 8.1 bill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iven new health funding initiatives (GFATM, PEPFAR, MCA ), health funding is expected to continue to rise in the coming years BUT there is no grant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around 80 global health initiatives at this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/AIDS is drawing the most significant atten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caling up resource mobilization eff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have to do more – The estimated financial gap for Stop TB is about $25 million in 2005 and getting wider in the coming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eting the overall MDG needs requires an annual ODA average of $156 billion from 2005 through 2007 and $188 billion from 2013 through 2015. (In 2003, the total amount of ODA worldwide was $68 bill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uilding public trust and confidence on the Partn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ublic and donor expectation is high and multidimensional, including an ethical aspect of performa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y down a set of basic princip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im to set out minimum principles for establishing system-wide standards for resource mobilization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unicate with all stakeholder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re a mean to communicate with our beneficiaries, partners, donors, supporters, and all other stakeholders to promote a better understanding of the Stop TB resource mobilization operation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sure resource mobilization is mission-driven and aligned with the Partnership's vision and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a quality-control and accountability promotion measu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im to hold our resource mobilization effort to a higher quality standard and establish it in a wider framework of the mission, vision, and values of the Stop TB Partnership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568C-E7F3-4D5E-8694-7924625AA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E8D0-9579-4929-BD1E-FCCC13DA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6351-2586-4FA0-890E-5CA640C56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C4C7-6BEC-4126-8525-AA9E5021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6EC2-5490-4BB3-B29B-C7519AF11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36A2-5483-4540-91AB-28947F31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356B-F026-42BE-BE75-C54E16ED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EA9A-A616-424F-9894-4A9278F9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958B-FB80-4820-802B-5BCB4918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2F9D-7EC6-406D-AFEF-58F93157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4AC5-AD75-4F75-8C43-B0AA8D02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DA41-FC28-4BBD-B245-9D9D7AE4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2054-AB44-40EF-B2B6-7774A4D0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9FEA-8165-481F-8715-11BC6620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B294-C017-4F76-99C2-BF3F888C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74B5-F9B4-4159-B9A3-7EE28685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A0C9-A3C0-47FF-96C9-4A53FD735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50D0-C965-4BEC-987E-B4AD1CE1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C294-4EA7-4424-91A4-BCCDF0E1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AF7B-1B4F-4B5C-B1D7-F6E18D5D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0B87-C582-44BF-A8F1-E8630178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0212-F0BA-4365-981F-6C8F3548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481E-2ADE-4920-8A9C-57379216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B3CF-20A2-4CE2-969C-9EDA3A48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3F02-2F4C-429D-882D-C314629D07D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4DFE-B44F-411C-9EB7-817CA37A267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</a:rPr>
              <a:t>Ethical Guidelines for Resource Mobilization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Irene Koe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Need for Guidelin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Implementation and Review Proces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What are Next Steps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eed for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quested by Coordinating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mand for accountability and transparency  from regulatory bodies and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More competitive and uncertain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caling up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More donors from the existing donor seg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w Donor Segment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ing public trust and confidence on the Partnership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urpose of Ethical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Lay down a set of readily understood basic principl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municate the agreed principles that underpin resource mobilisation to all stakeholders 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resource mobilization i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mission-drive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ligned to Partnership valu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ey Principles of Ethical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ey Principles of Ethical Guidelines (Contd.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view Committe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small,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 for the Coordinating Boar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 the guidelin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pply the endorsed guidelines with immediate effec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irculate the Guidelines to those involved in resource mobilisation and peer bod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3:00Z</dcterms:modified>
  <cp:revision>70</cp:revision>
  <dc:subject/>
  <dc:title>Slide 1</dc:title>
</cp:coreProperties>
</file>