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Funding for TB be sustainable and flexible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7080" y="5746680"/>
            <a:ext cx="914400" cy="905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451560" y="63565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2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8520" y="5670720"/>
            <a:ext cx="304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. Jacques Baudouy, Dir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ealth, Nutrition and Pop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uman Development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9320" y="407520"/>
            <a:ext cx="8458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latively large funding gaps remai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African countr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62240" y="1316160"/>
            <a:ext cx="6095880" cy="5427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86200" y="3581280"/>
            <a:ext cx="3886200" cy="45720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5257800"/>
            <a:ext cx="4343400" cy="76212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41904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WB financing for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23760" y="1273320"/>
          <a:ext cx="7467840" cy="558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273320"/>
                    <a:ext cx="7467840" cy="55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47728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ressing the African TB Financing 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gent attention to identified funding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 for GFATM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GFATM funding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for more WB funding (MAPs, health systems, PRSC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system issues (infrastructure, manpower shortage) need to be addressed in a broader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TB in broad financial frameworks (MTEF, PR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TB Financing Summi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9040" y="409680"/>
            <a:ext cx="83440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orld Bank Financing Terms: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 Snaps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a profit-maximizing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IBRD loa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Cost of the Bank’s own borrowing plus a lending 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IDA credi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Concessional rates, long grace period &amp; payback over 40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lend countr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Combined IBRD &amp; 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IDA gra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No re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7840" y="428760"/>
            <a:ext cx="822960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orld Bank Financing Instruments : Examples with relevance to TB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9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c investment loans, credits and grants: fo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matic Operations and SWAps, e.g., Gh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dget support through Poverty Reduction Support Credits and Grants (PRSCs), e.g., Rw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aptable Pro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vering multiple countries to increase flexibility, e.g., MAP for HIV/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/HIV funding available through MAP (pilot in Mozambique, Eritrea, Rwanda, Tanzania in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nsuring long-term sustainability of fu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'Special funding streams' such as GFATM funding have inherent risks for long-term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ng-term financing could be improved through inclusion of TB control activities in general planning &amp; financing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dium-term expenditure frameworks (MT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verty reduction strategy papers (PR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dium-term Expenditure Framework (MTE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F consists of a top-down resource envelope, a bottom-up estimation of the current and medium-term costs of existing policy and, ultimately, the matching of these costs with available resources… in the context of the annual budget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plan strategic shifts not feasible in a single year where budget usually com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096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s of MT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6680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macroeconomic balance, &amp;  fiscal 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inter- and intra-sectoral resource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budgetary predictability for line min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fficient use of public mo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political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credibility of budgetary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0" y="409320"/>
            <a:ext cx="80010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ges of MT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265400"/>
          <a:ext cx="9144000" cy="5514840"/>
        </p:xfrm>
        <a:graphic>
          <a:graphicData uri="http://schemas.openxmlformats.org/drawingml/2006/table">
            <a:tbl>
              <a:tblPr/>
              <a:tblGrid>
                <a:gridCol w="3828960"/>
                <a:gridCol w="531504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ST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CHARACTERI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romanUcPeriod"/>
                        <a:tabLst>
                          <a:tab algn="l" pos="3430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elopment of Macroeconomic/Fiscal Frame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roeconomic model that projects revenues and expenditure in the medium term (multi-year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romanUcPeriod"/>
                        <a:tabLst>
                          <a:tab algn="l" pos="3430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elopment of Sectoral Pr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reement on sector objectives, outputs, and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 and development of programs and sub-pr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 cost esti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romanUcPeriod"/>
                        <a:tabLst>
                          <a:tab algn="l" pos="3430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elopment of Sectoral Expenditure Frame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alysis of inter- and intra-sectoral trade-of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ensus-building on strategic resource al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romanUcPeriod"/>
                        <a:tabLst>
                          <a:tab algn="l" pos="3430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 of Sector Resource Allo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103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tting medium term sector budget ceilings (cabinet approv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romanUcPeriod"/>
                        <a:tabLst>
                          <a:tab algn="l" pos="3430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paration of Sectoral Bu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um term sectoral programs based on budget ceil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romanUcPeriod"/>
                        <a:tabLst>
                          <a:tab algn="l" pos="34308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l Political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tion of budget estimates to cabinet and parliament for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SP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authored, result- oriented, comprehensive road maps, based on domestic and external partnershi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 for domestic policies and programs to reduce poverty and basis for all IMF and WB concessional l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ation is necessary to balance the constraints of national capacity and demands of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Is tuberculosis being appropriately priorit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Could PRSPs be used to mainstream tuberculosis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dgets for DOTS expansion have increased significant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704960"/>
            <a:ext cx="7912080" cy="5019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867280" y="4956120"/>
            <a:ext cx="3152880" cy="17690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)  Data not available for South Africa. ( refers to heading, ?Total NTP budgets by source of funding, 21 high-burden countries, 2002?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) Estimates assume budget 2002 equal to expenditure 2002 (Ethiopia), budget 2003 (Afghanistan, Bangladesh, Mozambique and Uganda) and expenditure 2003 (Russian Federation and Zimbabwe). ?Unknown: applies to DR Congo and Nigeria, as breakdown by funding source not availabl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) Estimates assume budget 2003 equal to expenditures 2003 for Mozambique, Russian Federation and Zimbabw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) Budget data for UR Tanzania based on 2004 da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0600" y="40968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or attention to TB in previous PRS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744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574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06280" y="1055520"/>
          <a:ext cx="8937720" cy="55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055520"/>
                    <a:ext cx="8937720" cy="55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552600" y="6418440"/>
            <a:ext cx="8001000" cy="307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, what level of detail is relevant for PRSP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4000" y="437760"/>
            <a:ext cx="8458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ps in the responsiveness of PRSPs to TB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52280" y="1825560"/>
            <a:ext cx="8808480" cy="4884120"/>
            <a:chOff x="152280" y="1825560"/>
            <a:chExt cx="8808480" cy="4884120"/>
          </a:xfrm>
        </p:grpSpPr>
        <p:sp>
          <p:nvSpPr>
            <p:cNvPr id="163" name=""/>
            <p:cNvSpPr/>
            <p:nvPr/>
          </p:nvSpPr>
          <p:spPr>
            <a:xfrm>
              <a:off x="4632120" y="6163200"/>
              <a:ext cx="566280" cy="464760"/>
            </a:xfrm>
            <a:prstGeom prst="ellipse">
              <a:avLst/>
            </a:prstGeom>
            <a:solidFill>
              <a:srgbClr val="9999ff"/>
            </a:solidFill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95560" y="6163200"/>
              <a:ext cx="565920" cy="464760"/>
            </a:xfrm>
            <a:prstGeom prst="ellipse">
              <a:avLst/>
            </a:prstGeom>
            <a:solidFill>
              <a:srgbClr val="9999ff"/>
            </a:solidFill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95120" y="1825560"/>
              <a:ext cx="1403280" cy="929520"/>
            </a:xfrm>
            <a:prstGeom prst="ellipse">
              <a:avLst/>
            </a:prstGeom>
            <a:solidFill>
              <a:srgbClr val="9999ff"/>
            </a:solidFill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12240" y="1902600"/>
              <a:ext cx="849240" cy="924480"/>
            </a:xfrm>
            <a:prstGeom prst="ellipse">
              <a:avLst/>
            </a:prstGeom>
            <a:solidFill>
              <a:srgbClr val="9999ff"/>
            </a:solidFill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52280" y="1897920"/>
              <a:ext cx="8808480" cy="4811760"/>
              <a:chOff x="152280" y="1897920"/>
              <a:chExt cx="8808480" cy="481176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156960" y="1902600"/>
                <a:ext cx="8798040" cy="4801320"/>
                <a:chOff x="156960" y="1902600"/>
                <a:chExt cx="8798040" cy="480132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156960" y="1902600"/>
                  <a:ext cx="955800" cy="928800"/>
                  <a:chOff x="156960" y="1902600"/>
                  <a:chExt cx="955800" cy="9288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56960" y="1902600"/>
                    <a:ext cx="955800" cy="9288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%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56960" y="1902600"/>
                    <a:ext cx="955800" cy="9288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1113120" y="1902600"/>
                  <a:ext cx="1430280" cy="928800"/>
                  <a:chOff x="1113120" y="1902600"/>
                  <a:chExt cx="1430280" cy="9288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1113120" y="1902600"/>
                    <a:ext cx="1430280" cy="9288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Communicable Disease -Health Relationshi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1113120" y="1902600"/>
                    <a:ext cx="1430280" cy="9288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2544120" y="1902600"/>
                  <a:ext cx="1250280" cy="928800"/>
                  <a:chOff x="2544120" y="1902600"/>
                  <a:chExt cx="1250280" cy="92880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2544120" y="1902600"/>
                    <a:ext cx="1250280" cy="9288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B-Health Relationshi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2544120" y="1902600"/>
                    <a:ext cx="1250280" cy="9288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3794760" y="1902600"/>
                  <a:ext cx="1402920" cy="928800"/>
                  <a:chOff x="3794760" y="1902600"/>
                  <a:chExt cx="1402920" cy="9288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3794760" y="1902600"/>
                    <a:ext cx="1402920" cy="9288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B-Poverty Analysi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3794760" y="1902600"/>
                    <a:ext cx="1402920" cy="9288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198400" y="1902600"/>
                  <a:ext cx="955800" cy="928800"/>
                  <a:chOff x="5198400" y="1902600"/>
                  <a:chExt cx="955800" cy="92880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198400" y="1902600"/>
                    <a:ext cx="955800" cy="9288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B Control Strategi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198400" y="1902600"/>
                    <a:ext cx="955800" cy="9288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6154560" y="1902600"/>
                  <a:ext cx="952920" cy="928800"/>
                  <a:chOff x="6154560" y="1902600"/>
                  <a:chExt cx="952920" cy="9288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6154560" y="1902600"/>
                    <a:ext cx="952920" cy="9288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Medium Term Goals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6154560" y="1902600"/>
                    <a:ext cx="952920" cy="9288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7108200" y="1902600"/>
                  <a:ext cx="952560" cy="928800"/>
                  <a:chOff x="7108200" y="1902600"/>
                  <a:chExt cx="952560" cy="92880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7108200" y="1902600"/>
                    <a:ext cx="952560" cy="9288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hort Term Action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7108200" y="1902600"/>
                    <a:ext cx="952560" cy="9288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8061120" y="1902600"/>
                  <a:ext cx="893880" cy="928800"/>
                  <a:chOff x="8061120" y="1902600"/>
                  <a:chExt cx="893880" cy="9288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8061120" y="1902600"/>
                    <a:ext cx="893880" cy="9288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Health System Scale U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8061120" y="1902600"/>
                    <a:ext cx="893880" cy="9288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156960" y="2831760"/>
                  <a:ext cx="955800" cy="618840"/>
                  <a:chOff x="156960" y="2831760"/>
                  <a:chExt cx="955800" cy="61884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156960" y="2831760"/>
                    <a:ext cx="95580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Ni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156960" y="2831760"/>
                    <a:ext cx="95580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1113120" y="2831760"/>
                  <a:ext cx="1430280" cy="618840"/>
                  <a:chOff x="1113120" y="2831760"/>
                  <a:chExt cx="1430280" cy="61884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1113120" y="2831760"/>
                    <a:ext cx="143028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1113120" y="2831760"/>
                    <a:ext cx="143028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2544120" y="2831760"/>
                  <a:ext cx="1250280" cy="618840"/>
                  <a:chOff x="2544120" y="2831760"/>
                  <a:chExt cx="1250280" cy="6188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2544120" y="2831760"/>
                    <a:ext cx="125028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544120" y="2831760"/>
                    <a:ext cx="125028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3794760" y="2831760"/>
                  <a:ext cx="1402920" cy="618840"/>
                  <a:chOff x="3794760" y="2831760"/>
                  <a:chExt cx="1402920" cy="61884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3794760" y="2831760"/>
                    <a:ext cx="140292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794760" y="2831760"/>
                    <a:ext cx="140292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5198400" y="2831760"/>
                  <a:ext cx="955800" cy="618840"/>
                  <a:chOff x="5198400" y="2831760"/>
                  <a:chExt cx="955800" cy="61884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5198400" y="2831760"/>
                    <a:ext cx="95580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5198400" y="2831760"/>
                    <a:ext cx="95580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6154560" y="2831760"/>
                  <a:ext cx="952920" cy="618840"/>
                  <a:chOff x="6154560" y="2831760"/>
                  <a:chExt cx="952920" cy="61884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6154560" y="2831760"/>
                    <a:ext cx="95292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154560" y="2831760"/>
                    <a:ext cx="95292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7108200" y="2831760"/>
                  <a:ext cx="952560" cy="618840"/>
                  <a:chOff x="7108200" y="2831760"/>
                  <a:chExt cx="952560" cy="61884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7108200" y="2831760"/>
                    <a:ext cx="95256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9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7108200" y="2831760"/>
                    <a:ext cx="95256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8061120" y="2831760"/>
                  <a:ext cx="893880" cy="618840"/>
                  <a:chOff x="8061120" y="2831760"/>
                  <a:chExt cx="893880" cy="61884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8061120" y="2831760"/>
                    <a:ext cx="89388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8061120" y="2831760"/>
                    <a:ext cx="89388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156960" y="3451320"/>
                  <a:ext cx="955800" cy="619200"/>
                  <a:chOff x="156960" y="3451320"/>
                  <a:chExt cx="955800" cy="61920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156960" y="3451320"/>
                    <a:ext cx="955800" cy="6192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a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156960" y="3451320"/>
                    <a:ext cx="955800" cy="6192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1113120" y="3451320"/>
                  <a:ext cx="1430280" cy="619200"/>
                  <a:chOff x="1113120" y="3451320"/>
                  <a:chExt cx="1430280" cy="619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1113120" y="3451320"/>
                    <a:ext cx="1430280" cy="6192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1113120" y="3451320"/>
                    <a:ext cx="1430280" cy="6192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2544120" y="3451320"/>
                  <a:ext cx="1250280" cy="619200"/>
                  <a:chOff x="2544120" y="3451320"/>
                  <a:chExt cx="1250280" cy="61920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2544120" y="3451320"/>
                    <a:ext cx="1250280" cy="6192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544120" y="3451320"/>
                    <a:ext cx="1250280" cy="6192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3794760" y="3451320"/>
                  <a:ext cx="1402920" cy="619200"/>
                  <a:chOff x="3794760" y="3451320"/>
                  <a:chExt cx="1402920" cy="6192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794760" y="3451320"/>
                    <a:ext cx="1402920" cy="6192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9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3794760" y="3451320"/>
                    <a:ext cx="1402920" cy="6192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5198400" y="3451320"/>
                  <a:ext cx="955800" cy="619200"/>
                  <a:chOff x="5198400" y="3451320"/>
                  <a:chExt cx="955800" cy="61920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5198400" y="3451320"/>
                    <a:ext cx="955800" cy="6192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198400" y="3451320"/>
                    <a:ext cx="955800" cy="6192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6154560" y="3451320"/>
                  <a:ext cx="952920" cy="619200"/>
                  <a:chOff x="6154560" y="3451320"/>
                  <a:chExt cx="952920" cy="61920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6154560" y="3451320"/>
                    <a:ext cx="952920" cy="6192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6154560" y="3451320"/>
                    <a:ext cx="952920" cy="6192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108200" y="3451320"/>
                  <a:ext cx="952560" cy="619200"/>
                  <a:chOff x="7108200" y="3451320"/>
                  <a:chExt cx="952560" cy="6192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7108200" y="3451320"/>
                    <a:ext cx="952560" cy="6192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108200" y="3451320"/>
                    <a:ext cx="952560" cy="6192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8061120" y="3451320"/>
                  <a:ext cx="893880" cy="619200"/>
                  <a:chOff x="8061120" y="3451320"/>
                  <a:chExt cx="893880" cy="61920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8061120" y="3451320"/>
                    <a:ext cx="893880" cy="6192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8061120" y="3451320"/>
                    <a:ext cx="893880" cy="6192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156960" y="4071240"/>
                  <a:ext cx="955800" cy="618840"/>
                  <a:chOff x="156960" y="4071240"/>
                  <a:chExt cx="955800" cy="61884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156960" y="4071240"/>
                    <a:ext cx="95580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verag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156960" y="4071240"/>
                    <a:ext cx="95580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1113120" y="4071240"/>
                  <a:ext cx="1430280" cy="618840"/>
                  <a:chOff x="1113120" y="4071240"/>
                  <a:chExt cx="1430280" cy="61884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1113120" y="4071240"/>
                    <a:ext cx="143028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1113120" y="4071240"/>
                    <a:ext cx="143028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544120" y="4071240"/>
                  <a:ext cx="1250280" cy="618840"/>
                  <a:chOff x="2544120" y="4071240"/>
                  <a:chExt cx="1250280" cy="61884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2544120" y="4071240"/>
                    <a:ext cx="125028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2544120" y="4071240"/>
                    <a:ext cx="125028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3794760" y="4071240"/>
                  <a:ext cx="1402920" cy="618840"/>
                  <a:chOff x="3794760" y="4071240"/>
                  <a:chExt cx="1402920" cy="61884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3794760" y="4071240"/>
                    <a:ext cx="140292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794760" y="4071240"/>
                    <a:ext cx="140292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5198400" y="4071240"/>
                  <a:ext cx="955800" cy="618840"/>
                  <a:chOff x="5198400" y="4071240"/>
                  <a:chExt cx="955800" cy="61884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5198400" y="4071240"/>
                    <a:ext cx="95580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198400" y="4071240"/>
                    <a:ext cx="95580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154560" y="4071240"/>
                  <a:ext cx="952920" cy="618840"/>
                  <a:chOff x="6154560" y="4071240"/>
                  <a:chExt cx="952920" cy="61884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6154560" y="4071240"/>
                    <a:ext cx="95292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154560" y="4071240"/>
                    <a:ext cx="95292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7108200" y="4071240"/>
                  <a:ext cx="952560" cy="618840"/>
                  <a:chOff x="7108200" y="4071240"/>
                  <a:chExt cx="952560" cy="61884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7108200" y="4071240"/>
                    <a:ext cx="95256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7108200" y="4071240"/>
                    <a:ext cx="95256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8061120" y="4071240"/>
                  <a:ext cx="893880" cy="618840"/>
                  <a:chOff x="8061120" y="4071240"/>
                  <a:chExt cx="893880" cy="61884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8061120" y="4071240"/>
                    <a:ext cx="89388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8061120" y="4071240"/>
                    <a:ext cx="89388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156960" y="4690800"/>
                  <a:ext cx="955800" cy="618840"/>
                  <a:chOff x="156960" y="4690800"/>
                  <a:chExt cx="955800" cy="6188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56960" y="4690800"/>
                    <a:ext cx="95580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tron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56960" y="4690800"/>
                    <a:ext cx="95580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1113120" y="4690800"/>
                  <a:ext cx="1430280" cy="618840"/>
                  <a:chOff x="1113120" y="4690800"/>
                  <a:chExt cx="1430280" cy="6188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1113120" y="4690800"/>
                    <a:ext cx="143028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9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113120" y="4690800"/>
                    <a:ext cx="143028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2544120" y="4690800"/>
                  <a:ext cx="1250280" cy="618840"/>
                  <a:chOff x="2544120" y="4690800"/>
                  <a:chExt cx="1250280" cy="61884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2544120" y="4690800"/>
                    <a:ext cx="125028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544120" y="4690800"/>
                    <a:ext cx="125028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3794760" y="4690800"/>
                  <a:ext cx="1402920" cy="618840"/>
                  <a:chOff x="3794760" y="4690800"/>
                  <a:chExt cx="1402920" cy="61884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3794760" y="4690800"/>
                    <a:ext cx="140292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794760" y="4690800"/>
                    <a:ext cx="140292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5198400" y="4690800"/>
                  <a:ext cx="955800" cy="618840"/>
                  <a:chOff x="5198400" y="4690800"/>
                  <a:chExt cx="955800" cy="61884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5198400" y="4690800"/>
                    <a:ext cx="95580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198400" y="4690800"/>
                    <a:ext cx="95580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6154560" y="4690800"/>
                  <a:ext cx="952920" cy="618840"/>
                  <a:chOff x="6154560" y="4690800"/>
                  <a:chExt cx="952920" cy="61884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6154560" y="4690800"/>
                    <a:ext cx="95292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9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6154560" y="4690800"/>
                    <a:ext cx="95292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108200" y="4690800"/>
                  <a:ext cx="952560" cy="618840"/>
                  <a:chOff x="7108200" y="4690800"/>
                  <a:chExt cx="952560" cy="61884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7108200" y="4690800"/>
                    <a:ext cx="95256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7108200" y="4690800"/>
                    <a:ext cx="95256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8061120" y="4690800"/>
                  <a:ext cx="893880" cy="618840"/>
                  <a:chOff x="8061120" y="4690800"/>
                  <a:chExt cx="893880" cy="61884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8061120" y="4690800"/>
                    <a:ext cx="893880" cy="6188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8061120" y="4690800"/>
                    <a:ext cx="893880" cy="6188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156960" y="5310360"/>
                  <a:ext cx="955800" cy="619200"/>
                  <a:chOff x="156960" y="5310360"/>
                  <a:chExt cx="955800" cy="61920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156960" y="5310360"/>
                    <a:ext cx="955800" cy="6192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156960" y="5310360"/>
                    <a:ext cx="955800" cy="6192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1113120" y="5310360"/>
                  <a:ext cx="1430280" cy="619200"/>
                  <a:chOff x="1113120" y="5310360"/>
                  <a:chExt cx="1430280" cy="61920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1113120" y="5310360"/>
                    <a:ext cx="1430280" cy="6192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1113120" y="5310360"/>
                    <a:ext cx="1430280" cy="6192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5" name=""/>
                <p:cNvGrpSpPr/>
                <p:nvPr/>
              </p:nvGrpSpPr>
              <p:grpSpPr>
                <a:xfrm>
                  <a:off x="2544120" y="5310360"/>
                  <a:ext cx="1250280" cy="619200"/>
                  <a:chOff x="2544120" y="5310360"/>
                  <a:chExt cx="1250280" cy="61920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2544120" y="5310360"/>
                    <a:ext cx="1250280" cy="6192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544120" y="5310360"/>
                    <a:ext cx="1250280" cy="6192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3794760" y="5310360"/>
                  <a:ext cx="1402920" cy="619200"/>
                  <a:chOff x="3794760" y="5310360"/>
                  <a:chExt cx="1402920" cy="61920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3794760" y="5310360"/>
                    <a:ext cx="1402920" cy="6192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794760" y="5310360"/>
                    <a:ext cx="1402920" cy="6192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5198400" y="5310360"/>
                  <a:ext cx="955800" cy="619200"/>
                  <a:chOff x="5198400" y="5310360"/>
                  <a:chExt cx="955800" cy="61920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5198400" y="5310360"/>
                    <a:ext cx="955800" cy="6192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5198400" y="5310360"/>
                    <a:ext cx="955800" cy="6192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6154560" y="5310360"/>
                  <a:ext cx="952920" cy="619200"/>
                  <a:chOff x="6154560" y="5310360"/>
                  <a:chExt cx="952920" cy="61920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6154560" y="5310360"/>
                    <a:ext cx="952920" cy="6192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6154560" y="5310360"/>
                    <a:ext cx="952920" cy="6192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7108200" y="5310360"/>
                  <a:ext cx="952560" cy="619200"/>
                  <a:chOff x="7108200" y="5310360"/>
                  <a:chExt cx="952560" cy="61920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7108200" y="5310360"/>
                    <a:ext cx="952560" cy="6192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108200" y="5310360"/>
                    <a:ext cx="952560" cy="6192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8061120" y="5310360"/>
                  <a:ext cx="893880" cy="619200"/>
                  <a:chOff x="8061120" y="5310360"/>
                  <a:chExt cx="893880" cy="61920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8061120" y="5310360"/>
                    <a:ext cx="893880" cy="61920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8061120" y="5310360"/>
                    <a:ext cx="893880" cy="61920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156960" y="5930280"/>
                  <a:ext cx="955800" cy="773640"/>
                  <a:chOff x="156960" y="5930280"/>
                  <a:chExt cx="955800" cy="77364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156960" y="5930280"/>
                    <a:ext cx="955800" cy="7736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otal (Avg+ Strong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156960" y="5930280"/>
                    <a:ext cx="955800" cy="7736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1113120" y="5930280"/>
                  <a:ext cx="1430280" cy="773640"/>
                  <a:chOff x="1113120" y="5930280"/>
                  <a:chExt cx="1430280" cy="77364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1113120" y="5930280"/>
                    <a:ext cx="1430280" cy="7736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1113120" y="5930280"/>
                    <a:ext cx="1430280" cy="7736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2544120" y="5930280"/>
                  <a:ext cx="1250280" cy="773640"/>
                  <a:chOff x="2544120" y="5930280"/>
                  <a:chExt cx="1250280" cy="77364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2544120" y="5930280"/>
                    <a:ext cx="1250280" cy="7736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2544120" y="5930280"/>
                    <a:ext cx="1250280" cy="7736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3794760" y="5930280"/>
                  <a:ext cx="1402920" cy="773640"/>
                  <a:chOff x="3794760" y="5930280"/>
                  <a:chExt cx="1402920" cy="77364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3794760" y="5930280"/>
                    <a:ext cx="1402920" cy="7736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3794760" y="5930280"/>
                    <a:ext cx="1402920" cy="7736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5198400" y="5930280"/>
                  <a:ext cx="955800" cy="773640"/>
                  <a:chOff x="5198400" y="5930280"/>
                  <a:chExt cx="955800" cy="7736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5198400" y="5930280"/>
                    <a:ext cx="955800" cy="7736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5198400" y="5930280"/>
                    <a:ext cx="955800" cy="7736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6154560" y="5930280"/>
                  <a:ext cx="952920" cy="773640"/>
                  <a:chOff x="6154560" y="5930280"/>
                  <a:chExt cx="952920" cy="77364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6154560" y="5930280"/>
                    <a:ext cx="952920" cy="7736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6154560" y="5930280"/>
                    <a:ext cx="952920" cy="7736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7108200" y="5930280"/>
                  <a:ext cx="952560" cy="773640"/>
                  <a:chOff x="7108200" y="5930280"/>
                  <a:chExt cx="952560" cy="77364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7108200" y="5930280"/>
                    <a:ext cx="952560" cy="7736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108200" y="5930280"/>
                    <a:ext cx="952560" cy="7736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8061120" y="5930280"/>
                  <a:ext cx="893880" cy="773640"/>
                  <a:chOff x="8061120" y="5930280"/>
                  <a:chExt cx="893880" cy="77364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8061120" y="5930280"/>
                    <a:ext cx="893880" cy="77364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8061120" y="5930280"/>
                    <a:ext cx="893880" cy="773640"/>
                  </a:xfrm>
                  <a:prstGeom prst="rect">
                    <a:avLst/>
                  </a:prstGeom>
                  <a:noFill/>
                  <a:ln cap="rnd" w="0">
                    <a:solidFill>
                      <a:srgbClr val="a0a0a0"/>
                    </a:solidFill>
                    <a:custDash>
                      <a:ds d="100000" sp="1000"/>
                    </a:custDash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37" name=""/>
              <p:cNvSpPr/>
              <p:nvPr/>
            </p:nvSpPr>
            <p:spPr>
              <a:xfrm>
                <a:off x="152280" y="1897920"/>
                <a:ext cx="8808480" cy="4811760"/>
              </a:xfrm>
              <a:prstGeom prst="rect">
                <a:avLst/>
              </a:prstGeom>
              <a:noFill/>
              <a:ln cap="rnd" w="9360">
                <a:solidFill>
                  <a:srgbClr val="a0a0a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9600" y="428400"/>
            <a:ext cx="86108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the case for inclusion of tuberculosis in PRSPs and MT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21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B and economic grow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is primarily a disease of the 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morbid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usehold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may result in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per cent to 7 per cent loss in GD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e to the potential cost of lost productivity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B and MD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DGs relat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ver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oal 1)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ctious dis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e met (Goal 6), TB should be addressed, whether directly or bundled with other MDG related health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8680" y="419040"/>
            <a:ext cx="84582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ys to mainstream 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560" y="1285920"/>
            <a:ext cx="837252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V/AIDS and TB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V/AIDS section in most PRS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B/HIV activities can be easily inclu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including a concurrent discussion on the impact of  TB, a coordinated action plan for HIV/AIDS and TB can be outlined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 Strengthe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engthening of health systems prioritized in many PRS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xample:  Ethiop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ing to implement Health Extension Package to provide community based health care and increase health coverage from 52% to 65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llenge to integrate TB programs into this system scale-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Key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TB financing into PRSPs &amp; MTEFs, particularly for commod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mplementary T.A. for speed and impact during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tion: keep emphasis on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For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 TB Financing Su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9600" y="399600"/>
            <a:ext cx="80010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FATM now a major financ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666800"/>
          <a:ext cx="8886960" cy="51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66800"/>
                    <a:ext cx="8886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ding gaps reported by National TB Programs (NTPs) relatively 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89160" y="1795320"/>
          <a:ext cx="6564240" cy="491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9160" y="1795320"/>
                    <a:ext cx="6564240" cy="49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7840" y="409680"/>
            <a:ext cx="85629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situation reported by NTPs in Africa [US$ million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90720" y="1847880"/>
          <a:ext cx="7467480" cy="48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47880"/>
                    <a:ext cx="746748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6868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the identified funding gaps too sm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6720" y="169560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marginal costs at high case detection levels (‘harder to reach populations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-funding of interventions targeting specific patient groups (TB/HIV, M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infrastructure in remote geographic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‘absorptive capacit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868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ufficient ‘absorptive capacity’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42880" y="1581120"/>
            <a:ext cx="8001000" cy="4962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419720" y="1590840"/>
            <a:ext cx="3276360" cy="3999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33840" y="6162840"/>
            <a:ext cx="2971800" cy="3999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2880" y="90504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Burden Countries in 200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5080" y="6613560"/>
            <a:ext cx="809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The circled columns indicate that several countries appear to have insufficient capacity to actually spend the additional funds that have become available during recent yea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ufficient absorptive capac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80880" y="1238400"/>
          <a:ext cx="8229600" cy="5405400"/>
        </p:xfrm>
        <a:graphic>
          <a:graphicData uri="http://schemas.openxmlformats.org/drawingml/2006/table">
            <a:tbl>
              <a:tblPr/>
              <a:tblGrid>
                <a:gridCol w="1449360"/>
                <a:gridCol w="870120"/>
                <a:gridCol w="1650960"/>
                <a:gridCol w="1873440"/>
                <a:gridCol w="2385720"/>
              </a:tblGrid>
              <a:tr h="47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Budg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Availabl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Fu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Expendi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Expenditure as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% of available f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Ind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Chi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Indones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Niger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Banglades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Pakista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Ethiop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Philippin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DR Con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Viet N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Tanz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Braz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Mozamb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Myan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Cambod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0968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increased funds efficient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9040" y="17236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ening managerial capacity of local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additional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ing management train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sufficient technical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ing inclusion of adequate budget lines for TA in funding agre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e R.</cp:lastModifiedBy>
  <dcterms:modified xsi:type="dcterms:W3CDTF">2005-04-29T15:09:05Z</dcterms:modified>
  <cp:revision>553</cp:revision>
  <dc:subject/>
  <dc:title>Non-Financial Constraints  on the Response to HIV/AIDS and TB in ECA</dc:title>
</cp:coreProperties>
</file>