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C28F-D5A5-4C2E-B5A8-685CBCA8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65ED-1269-4B77-8CFA-FBA49E81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CDCB-0224-4461-906C-C70414732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EB0E-6AFA-4E29-82AC-1B583232D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F670-1F3F-49FE-90D4-D2F1E039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7D77-2F0B-45E9-B20F-5BBC48EC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A530-DA5A-427B-80F0-8E542EC4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1A6B-DC9A-425E-9A9B-5471796B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B8AD-65A4-4F26-9586-1A04B9A6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BD0A-F216-4693-9747-80180B7A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0B9F-5FAF-4C4E-A934-C7A77D10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E2B8-09E1-466F-9A59-D16CA3D5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F716-A177-4D90-B737-52D6DAB3E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lements in each WG strategic 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32228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16000" y="1125360"/>
          <a:ext cx="8820000" cy="5313600"/>
        </p:xfrm>
        <a:graphic>
          <a:graphicData uri="http://schemas.openxmlformats.org/drawingml/2006/table">
            <a:tbl>
              <a:tblPr/>
              <a:tblGrid>
                <a:gridCol w="1101600"/>
                <a:gridCol w="1103400"/>
                <a:gridCol w="1101600"/>
                <a:gridCol w="1104840"/>
                <a:gridCol w="1101960"/>
                <a:gridCol w="1101600"/>
                <a:gridCol w="1103400"/>
                <a:gridCol w="11016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TS exp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TS-Pl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B/H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agn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acc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rategic 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bj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ar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imel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mp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 vaccine by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ies budg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u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is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vised Global Plan 2006-2015 time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965480"/>
        </p:xfrm>
        <a:graphic>
          <a:graphicData uri="http://schemas.openxmlformats.org/drawingml/2006/table">
            <a:tbl>
              <a:tblPr/>
              <a:tblGrid>
                <a:gridCol w="2057400"/>
                <a:gridCol w="4038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les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 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eering Group mee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 Ma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ordinating Board consid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d 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inalised WG plans and regional scen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une-Ju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afting of 1</a:t>
                      </a:r>
                      <a:r>
                        <a:rPr b="0" lang="en-GB" sz="2000" spc="-1" strike="noStrike" baseline="30000">
                          <a:solidFill>
                            <a:srgbClr val="ffff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full Global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ug-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de consultation and re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d 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inalised Global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ct-Dec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duction of Global Plan (editing, design, translation, printing et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anuary 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unch, Davos (to be confirm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7:07:22Z</dcterms:created>
  <dc:creator>maherd</dc:creator>
  <dc:description/>
  <dc:language>en-US</dc:language>
  <cp:lastModifiedBy>Karen Caines</cp:lastModifiedBy>
  <dcterms:modified xsi:type="dcterms:W3CDTF">2005-05-01T13:25:20Z</dcterms:modified>
  <cp:revision>6</cp:revision>
  <dc:subject/>
  <dc:title> Elements in each WG strategic  plan</dc:title>
</cp:coreProperties>
</file>