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ED35E-5E21-492A-8249-48D6FF786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E38A6-ACC6-4AB7-B43F-2E818E4A8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65822-8A7B-4912-A20B-BDBE8F95A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F310F-6AF5-4689-85C1-CBCCC2BD3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4E405-0D56-4124-949E-1A137B1B6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81127-E19F-4B75-B4DD-D864882E7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00A8C-53C3-4C84-8116-67DF25793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F2162-3623-4872-871E-7A86B152A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23A00-8A72-41B9-9951-61FF66F88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4402080" cy="62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5A22E-E1BC-4B84-B0C1-359DA6EFD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F3174-A4AB-4F3D-B969-E494E7B68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D7E94-2876-4F59-843D-1C679AD40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8C799-4FA5-4F56-B14F-F76F78E21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4E4CD-B986-4E6A-B584-7C380659A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D4BF1-C055-4298-BD3C-25F7EE412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A6D9D-1F17-481D-B081-5533DF8A1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48B90-F0B4-45F9-9647-8EA4C582A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2BEA3-3AAB-446F-ACA2-510B2DE8A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C1DB5-76A2-4200-8F45-B6685B5B3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44126-8A11-46B5-9551-5E1C53C49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4402080" cy="62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F8EA5-27A2-4C50-A32F-6974F8303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B0715-103D-4A29-8A68-B1054FC9F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248A9-16D1-4434-B0C6-AEBE787FF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29064-05E3-4D78-B7BF-3D6ABE189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1440" y="144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0D68D-7F15-4B8E-B296-41864AAA98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BF92A-76A9-4874-9D31-9902B7C7FE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lang="en-GB" sz="3200" spc="-1" strike="noStrike">
                <a:solidFill>
                  <a:srgbClr val="ffffcc"/>
                </a:solidFill>
                <a:latin typeface="Arial"/>
              </a:rPr>
              <a:t>Engaging World Leader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1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Jaap Broekma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top TB Coordinating Boar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ddis Abab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3rd May 200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SimSun"/>
              </a:rPr>
              <a:t>A strategy for engagement with Heads of State and World Leaders was a recommendation of the Beijing Coordinating Board Meeting in October 200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he Approa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SimSun"/>
              </a:rPr>
              <a:t>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SimSun"/>
              </a:rPr>
              <a:t>o create TB champions among leading figures – but to go beyond Heads of St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ndela: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“we can not fight HIV/AIDS without also                                    fighting TB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wo core group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igh burden countries - with special emphasis on Afric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nor/potential donor count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7238880" y="2514600"/>
            <a:ext cx="1501920" cy="18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rategic 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need to strengthen TB control activities in target countries to enable TB to maintain momentum and achieve the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llennium Development Goal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need for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und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to support TB control from the international development community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need for a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upportive political environment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450072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Arial"/>
              </a:rPr>
              <a:t>MDG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untries see achieving TB control goals as part of their wider economic development agend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Identify and inform nodal leaders and opportunities to access th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u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inancing for TB Control needs to be sustainable with sufficient funds available for Technical Assistance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orld Health Assembly: Resolution on Sustainable Financing for TB control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igh Awareness of Global Plan 2006-20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ew inter-ministerial conferenc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23600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olitical Environ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B friendly influential leaders (politicians, sports and entertainment stars etc) provide the framework to support our advocacy wo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Direct and indirect channels to reach influential leaders: WB, EU, Wise men (Sachs, Sen etc), social experts, celebrities (including Stop TB Ambassadors), UN family (WHO, UNDP et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dentify core groups of countries and leaders we MUST reach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SimSun"/>
              </a:rPr>
              <a:t>Identify opportunities to access key political and other lead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African Commission, CHOGM, APEC, UNGASS, EU summit, G8, G77, WEF, World Social Foru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rategic Planning to raise the profile of Global Plan 2006-20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Tactical 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Princip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ny champ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Joined-up strate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lear message (full need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mpli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3T15:56:53Z</dcterms:created>
  <dc:creator>Robert Hernandez</dc:creator>
  <dc:description/>
  <dc:language>en-US</dc:language>
  <cp:lastModifiedBy>johnsoneb</cp:lastModifiedBy>
  <dcterms:modified xsi:type="dcterms:W3CDTF">2005-05-03T09:24:50Z</dcterms:modified>
  <cp:revision>39</cp:revision>
  <dc:subject/>
  <dc:title>Slide 1</dc:title>
</cp:coreProperties>
</file>