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0AF-CDCA-4228-B5B5-8045A353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86A-F2C7-45DD-878C-70BEE270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C4A-6893-48B1-99EB-A5BAEF34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E67-6046-436C-A33F-913BB4EC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A6B-DCF6-4FC8-91F4-1DF18AEB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445-C766-4A41-8093-AF5F6307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991-6C2D-4D87-A7E8-91663814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568-E88C-4962-BD79-85612D2D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A93-03A0-4654-97C4-50B83F2D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542-3787-40CD-8194-76659921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6675-A51D-43EA-A9AD-AB91AB27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094-6A13-40EB-92C7-A6BD24AE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0138-F894-4681-A343-93EBEDCD0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-8 Recommended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ly develop more robust number for TB funding need/gap based on GP 2 to be referenced in G-8 Commu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for communique on “closing the funding gap for TB control” and “supporting convening of Emergency African TB Financing Summit and monitoring of implementation of the Road Map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B and NGO support for above to G-8 and other don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to Ethiopian PM to attend G-8 and  become champion for TB in Africa, make the case for intensified action for TB in Africa and financing the Road M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NGO efforts associated with ActionAid ef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ngagement of World L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Community—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r presentation of GP2 resource needs before June—for G-8, GFATM Repl. Mtgs. Fair shares? Country/regional foc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 plan for GP2????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 ID set of 7-8 RM priority donor countries (and multilaterals) with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 for CB efforts, regular support for NGO country efforts—ID targets, support adv. capacity, media, visits.  Coordinated effort on M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ies of focused advocacy docs from G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ID strategic TB champions and make specific requests—Mandela, Tutu, Sachs. Prioritize global leaders/for a—EU, WB, AU, Other Regional Summ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BC Country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 key HBCs—Africa, other priorities—ID core set of partners for each country, CB missions, NGO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plan for reaching 2-3 national leaders in target HB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for Eco Impact of TB (WB to under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E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 Sum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-8 (Ethiopian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. GFATM Replenishment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G Summit—ID some champions for 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F January 2006 release of GP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—op-ed HG/Mand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hs/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5:08:08Z</dcterms:created>
  <dc:creator>Geoff</dc:creator>
  <dc:description/>
  <dc:language>en-US</dc:language>
  <cp:lastModifiedBy>johnsoneb</cp:lastModifiedBy>
  <dcterms:modified xsi:type="dcterms:W3CDTF">2005-05-04T12:45:32Z</dcterms:modified>
  <cp:revision>4</cp:revision>
  <dc:subject/>
  <dc:title>G-8 Recommended Actions</dc:title>
</cp:coreProperties>
</file>