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52CD-6053-462F-BE3E-F6D185C5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71E-DFC5-4C2B-8EE2-FAB9BEFE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5DA9-B6DC-4665-BD8D-B90C46FA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F730-FC05-4BE2-A234-D43C3F84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E4ADF-C3C7-4A56-854E-B36E3CFFF8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36A5A-5784-4C4F-93EB-F71174521D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806CB-85D4-4F6C-B0F8-7A93CA2105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CB8E5-7814-4A6A-86ED-D2D0BA89B5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86680-C808-424A-B31C-AB9CD7FA1B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473A1-18C1-448B-96F5-BFE4420BAA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43DA6-CAB2-4473-BB5D-ED27EE6F65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295F-B3FE-409F-A04D-A91D4BB2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7F6A5-0052-4937-8FE1-2D0B1E0341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2B131-A3EF-404E-9122-698C2E5B4E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02C11-99CC-4CC7-A35A-8274C60AEC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053F9-BC4D-45E0-8B41-61AFC4AD39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80436-FCF2-4F56-A595-7E0D261E66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A0A-EF5D-493C-8B7F-D6CBFE9E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66E8-53EC-4BF4-A992-FCC984B7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25A1-79B5-4556-AA03-C2ADC626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FB2B-84E1-47D2-8A97-C2F86C04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26A5-83A3-4BB3-A8B6-9A87F968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227B-C000-461E-95E9-15498B3C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1422-5968-407C-9BB8-5791C33D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D5E3-A348-496D-891A-459A4E1AA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995640" y="6237000"/>
            <a:ext cx="388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956720" y="6453000"/>
            <a:ext cx="7300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4448-9D18-467F-B02F-BB0AF3B20E3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6"/>
          </p:nvPr>
        </p:nvSpPr>
        <p:spPr>
          <a:xfrm>
            <a:off x="2700000" y="6165720"/>
            <a:ext cx="381636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Arial"/>
              </a:rPr>
              <a:t>High Level Mission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3885840"/>
            <a:ext cx="84247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Introducing procedures for high level advo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5084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Dr. Karam Sh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Decis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opt Guiding Principles for the conduct of High Level 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Review and decide on the HLM calendar of events for 2005 - 200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ition of High Level Mission (H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ual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ing and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lenda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IGH LEVEL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Engaging prominent partners / (CB members) to represent Stop TB i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powerful political advocacy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Uses international reputation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fluences key politicians &amp; decision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Creates sustained leverage in support of Stop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Arial"/>
              </a:rPr>
              <a:t>Guidelin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making HLM more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support of countries and international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most appropriate support to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ing the most appropriate STB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ding timely to importan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ing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frame work for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Composi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 is based on the actual purpose of the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d of mission (HoM) is selected by CB on basis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ituency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level partnership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B Partnership Secretariat senior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epa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and HoM draft 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dorsement 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review preferably prior to H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prepares form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prepares confidenti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makes logistics arran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ctual vis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d of Mission (HoM) assures quality performance and best expo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ve attitude and diplomatic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ructive image of S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igned tasks for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M is HLM spokes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is HLM rappor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Reporting and follow-up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7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 re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 consensus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conclusions &amp;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ed-back to constitu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mitted to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ner(s) can be invited to provide follow-u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4818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LM Calendar 2005 -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620640"/>
          <a:ext cx="7559640" cy="5981760"/>
        </p:xfrm>
        <a:graphic>
          <a:graphicData uri="http://schemas.openxmlformats.org/drawingml/2006/table">
            <a:tbl>
              <a:tblPr/>
              <a:tblGrid>
                <a:gridCol w="3816360"/>
                <a:gridCol w="1942920"/>
                <a:gridCol w="18003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/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op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 Summit Kharto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East Asi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glad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ern Pacific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ra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zah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dvi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Commi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s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(PEPFAR, Congress, USAI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z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3:59:03Z</dcterms:created>
  <dc:creator>steenbergeng</dc:creator>
  <dc:description/>
  <dc:language>en-US</dc:language>
  <cp:lastModifiedBy>bakerl</cp:lastModifiedBy>
  <dcterms:modified xsi:type="dcterms:W3CDTF">2005-04-27T11:03:42Z</dcterms:modified>
  <cp:revision>3</cp:revision>
  <dc:subject/>
  <dc:title>High Level Missions</dc:title>
</cp:coreProperties>
</file>