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FC4-5ADB-448A-A6CF-251CBBA3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A74-5490-432C-B4AC-47402B77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8C9-F04F-4963-9606-C6FC562B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8D0-F014-45C0-9558-1F71F513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07FA6-9EB3-48F8-B116-E8931AACF3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B671F-A824-4278-8C9E-42D668C94B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D7EAB-3A67-4635-A758-329279EE14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E7D99-05F9-4B33-9D7D-FB7C59DF5D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FDE55-3B59-4E13-91C5-DBF00917F9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085F6-3A12-44EE-917F-EF7278C3FF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12DBB-5446-42E8-A6E4-6CC11852DD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35C-3DD6-4417-9243-CE5F907A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660CD-84C4-4735-BB11-2AD68F5CF8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0140C-59F2-4076-B2EF-6DF8F5A321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98974-1D7E-4E54-BCDE-099C4B9EE5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BC03A-8BDD-40E8-96B7-8677E826F4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5E07F-DE62-4C49-908D-21367641FF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862-662D-4987-833C-DBB0A8FC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88B-0AA9-4F46-89CD-410417E5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9EC-D07C-41AE-8913-5C77EACB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2B1-FEA8-418B-94F6-F682D978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87A-5516-44BF-B4EE-3599077E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5F9-0675-4ADC-AF34-DDE1BD22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9894-0999-445E-BA01-2738B2D3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9E1E-D155-4681-BE6F-62FEFE5D0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99564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956720" y="6453000"/>
            <a:ext cx="730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5B0F-B98D-427E-9FB2-E7A9216EB61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6"/>
          </p:nvPr>
        </p:nvSpPr>
        <p:spPr>
          <a:xfrm>
            <a:off x="2700000" y="6165720"/>
            <a:ext cx="38163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High Level Mi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3885840"/>
            <a:ext cx="84247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troducing procedures for high level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0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Dr. Karam Sh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Dec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opt Guiding Principles for the conduct of High Level 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Review and decide on the HLM calendar of events for 2005 - 200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 of High Level Mission (H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ing and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enda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IGH LEVEL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gaging prominent partners / (CB members) to represent Stop TB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powerful political advocacy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rnational reputation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fluences key politicians &amp;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reates sustained leverage in support of Stop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making HLM mor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upport of countries and internation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most appropriate support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most appropriate STB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imely to import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ing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frame work for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 is based on the actual purpose of the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of mission (HoM) is selected by CB on basis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ituenc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level partnershi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B Partnership Secretariat senio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and HoM draft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orsement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review preferably prior to 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prepares form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prepares confidenti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makes logistics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ctual vis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d of Mission (HoM) assures quality performance and best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ve attitude and diplomatic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ctive image of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ed tasks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 is HLM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is HLM rappor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Reporting and follow-u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nsensus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conclusions &amp;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-back to 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to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(s) can be invited to provide follow-u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4818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LM Calendar 2005 -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7559640" cy="5981760"/>
        </p:xfrm>
        <a:graphic>
          <a:graphicData uri="http://schemas.openxmlformats.org/drawingml/2006/table">
            <a:tbl>
              <a:tblPr/>
              <a:tblGrid>
                <a:gridCol w="3816360"/>
                <a:gridCol w="1942920"/>
                <a:gridCol w="18003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Summit Kharto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East Asi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 Pacific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d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(PEPFAR, Congress, USA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3:59:03Z</dcterms:created>
  <dc:creator>steenbergeng</dc:creator>
  <dc:description/>
  <dc:language>en-US</dc:language>
  <cp:lastModifiedBy>bakerl</cp:lastModifiedBy>
  <dcterms:modified xsi:type="dcterms:W3CDTF">2005-04-27T11:03:42Z</dcterms:modified>
  <cp:revision>3</cp:revision>
  <dc:subject/>
  <dc:title>High Level Missions</dc:title>
</cp:coreProperties>
</file>