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0728-74F2-479D-95F7-C69A66AE9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CB8F-E26D-47AE-97BA-E32187BA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9E20-D4C7-4DFB-9990-826C91597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E8B3-7682-4AF6-9EB5-24C9C1A51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AE9F0-885D-46E6-B331-1C38BF86F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8379-E1FA-4A4A-8154-302F91E3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B4FC-0D86-454E-8A73-266DD6A2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AF4D2-DFC9-4DA8-8FC7-8E718750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EFCD-E676-436B-9FAA-BBE48815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AB41-7898-4B94-9DFD-4426CF98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EA44-721D-44F0-90B6-EECE761C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A99D-F8C6-406B-9C7A-E05F37AE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2A61-227A-4711-9CB7-04DDFACC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3F3FB-517C-42A6-BFD8-63628103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2862-06ED-4EDF-B1C7-AAF76DB3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BC82-D6D0-450B-BAF4-CD9659F57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54FDC-4C3F-4C70-8D94-95A459AF5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2B39-BEED-4F3D-A7CB-CF1ED597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1D6E-7486-43EF-BA6C-53165ADE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FD9F-A4F8-489E-863A-031AD2C4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CA12-B735-42C6-AD37-45DDFD21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B89D-E973-4A19-AAE4-AA115B0D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03B2-50A7-49E7-BF3C-990AEF00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74FC-7AB7-4BD2-A567-FD24AAFF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E91A-5FD3-4044-9687-749939628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CF10-CF70-4E9E-9AE8-45A6302CD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tbproposalhelp@who.int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cc"/>
                </a:solidFill>
                <a:latin typeface="Arial"/>
              </a:rPr>
              <a:t>THE GFATM: </a:t>
            </a:r>
            <a:br>
              <a:rPr sz="4400"/>
            </a:br>
            <a:r>
              <a:rPr b="1" lang="en-GB" sz="4400" spc="-1" strike="noStrike">
                <a:solidFill>
                  <a:srgbClr val="ffffcc"/>
                </a:solidFill>
                <a:latin typeface="Arial"/>
              </a:rPr>
              <a:t>MAKING ROUND 5 COU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FATM Unit, TB Strategy and Operations, WHO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"Implementation"  Working Group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TOP TB Partnership Secretaria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HOW MUCH FOR TB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mple: Bangladesh, Pakistan, Nigeria, Cambodia, Zimbabwe, Brazil, China, India Sudan, Vietnam  (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stimated TB Proposal Total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$290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9625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UTURE DIR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TB components in HIV propos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engthening the capacity to strongly engage with the GFATM, and to plan TA in advance (Early Warning System coordin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coming implementation bottlenecks by providing support for project management, accounting, finance, logistics (HS strength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OR BOARD CONSI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Board is request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sources of funds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continue the GFATM focal point position in WHO in advance of Round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to strengthen assistance to countries (technical and CCM) in the lead up to R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e the profile of TB in engaging at political level and with the GFA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halle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utting 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 Much for TB in R5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9625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ailable funding has increased 60% R1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ever, TB funding has not increa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B proposals have been modest.  30% of all approved proposals are for TB yet overall funding for TB is 1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FATM reports global resource gaps for AIDS, Malaria, and TB at 77%, 17%, and 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692720" y="1146600"/>
            <a:ext cx="80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000000"/>
                </a:solidFill>
                <a:latin typeface="Arial"/>
                <a:ea typeface="SimSun"/>
              </a:rPr>
              <a:t>Figure 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5320" y="6442200"/>
            <a:ext cx="17496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900" spc="-1" strike="noStrike">
                <a:solidFill>
                  <a:srgbClr val="ffff66"/>
                </a:solidFill>
                <a:latin typeface="Tahoma"/>
                <a:ea typeface="SimSun"/>
              </a:rPr>
              <a:t>2 year budg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396720" y="6767640"/>
            <a:ext cx="59623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03280" y="1413000"/>
            <a:ext cx="70725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900" spc="-1" strike="noStrike">
                <a:solidFill>
                  <a:srgbClr val="ffff66"/>
                </a:solidFill>
                <a:latin typeface="Tahoma"/>
                <a:ea typeface="SimSun"/>
              </a:rPr>
              <a:t> 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  <a:ea typeface="SimSun"/>
              </a:rPr>
              <a:t>$583 M         $886 M        $623 M         $968 M         $306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8920" y="1793880"/>
          <a:ext cx="8588520" cy="48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793880"/>
                    <a:ext cx="858852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2227320" y="4809960"/>
            <a:ext cx="555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5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27320" y="3262320"/>
            <a:ext cx="555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27320" y="326232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12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27320" y="2690640"/>
            <a:ext cx="63504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27320" y="2119320"/>
            <a:ext cx="5554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10000"/>
                </a:solidFill>
                <a:latin typeface="Arial"/>
                <a:ea typeface="SimSun"/>
              </a:rPr>
              <a:t>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27320" y="187488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89680" y="4809960"/>
            <a:ext cx="555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5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1793880"/>
            <a:ext cx="5572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  <a:ea typeface="SimSun"/>
              </a:rPr>
              <a:t>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205000"/>
            <a:ext cx="6271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3016080"/>
            <a:ext cx="5572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27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809960"/>
            <a:ext cx="5572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56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68880" y="187488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10000"/>
                </a:solidFill>
                <a:latin typeface="Arial"/>
                <a:ea typeface="SimSun"/>
              </a:rPr>
              <a:t>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68880" y="2282760"/>
            <a:ext cx="6984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68880" y="3016080"/>
            <a:ext cx="555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27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031240" y="4809960"/>
            <a:ext cx="555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54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99160" y="4924440"/>
            <a:ext cx="5572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4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99160" y="1957320"/>
            <a:ext cx="7095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031240" y="309888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2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99160" y="3098880"/>
            <a:ext cx="5572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42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031240" y="2282760"/>
            <a:ext cx="7887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031240" y="179388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1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031240" y="195732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70080" y="1025640"/>
            <a:ext cx="4827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396720" y="0"/>
            <a:ext cx="954072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Comparison across rounds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Two year approved budget by disease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1911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SPO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FATM Unit – TBS – WHO - Part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 technical support throughout R5 proces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bproposalhelp@who.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S Workshop in Ca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shop "Strategic Approaches to R5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95360" y="291960"/>
            <a:ext cx="83566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Workshop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0040" y="1254240"/>
            <a:ext cx="8136000" cy="14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55640" y="1341360"/>
          <a:ext cx="7991640" cy="51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41360"/>
                    <a:ext cx="7991640" cy="51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7164360" y="3789360"/>
            <a:ext cx="1079640" cy="287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64360" y="371628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00"/>
                </a:solidFill>
                <a:latin typeface="Arial"/>
              </a:rPr>
              <a:t>Workshop Frame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514600" y="44197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4038480"/>
            <a:ext cx="1981080" cy="1371600"/>
          </a:xfrm>
          <a:prstGeom prst="flowChartAlternateProcess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4495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4038480"/>
            <a:ext cx="1981440" cy="1371600"/>
          </a:xfrm>
          <a:prstGeom prst="flowChartAlternateProcess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4038480"/>
            <a:ext cx="1981080" cy="1371600"/>
          </a:xfrm>
          <a:prstGeom prst="flowChartAlternateProcess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41148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R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934320" y="44956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HASE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44197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1876320"/>
            <a:ext cx="2057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52680" y="19051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19810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-CALL TECHNICAL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9920" y="1876320"/>
            <a:ext cx="3124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RESULTS 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-92160" y="-208080"/>
            <a:ext cx="4054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9280" y="18900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 STRATEGIC APPROACH TO R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4572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CUTTING 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8 countries plan to submit TB proposals in R5 (18HBC).  49 in R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8 countries are receiving technical support from Stop TB Partn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6 consultants trained and deployed in the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FRICA ROUND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24 Applying (8 HBC), 13 failed in R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KEY ROUND 5 PRIORITIES in AFRIC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igeria &amp; Zimbabw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2T09:18:59Z</dcterms:created>
  <dc:creator>johnsoneb</dc:creator>
  <dc:description/>
  <dc:language>en-US</dc:language>
  <cp:lastModifiedBy>johnsoneb</cp:lastModifiedBy>
  <dcterms:modified xsi:type="dcterms:W3CDTF">2005-05-11T09:02:35Z</dcterms:modified>
  <cp:revision>118</cp:revision>
  <dc:subject/>
  <dc:title>Slide 1</dc:title>
</cp:coreProperties>
</file>