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25D1-5A09-4A42-A293-41C22C06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6B2-B254-45DA-B2E7-E227C76B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DE9-D559-4D9B-806C-5111772E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E49-ABB2-4735-A664-4886E3CE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2EAF-13A8-4F1C-8853-7E7FE2B7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D28-16B2-46E6-A284-7471176C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55E-1C4A-4DCE-9562-2B26D10A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FD97-F307-413A-AB01-5FEF027D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CD6-5658-48F2-8F3D-65261F67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D91-93D2-455F-80E3-8B2EFCAB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116-8658-4F0F-8C40-5CECEFEE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5D45-10CD-40D9-B0F7-4BACA2C2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F3D9-2578-4F21-ABC3-5084A496C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3280" y="1268280"/>
            <a:ext cx="540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rategic Plan 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op TB Working Group on DOTS-Plus for MDR-TB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of the Steering Committee for the Global Plan to Stop TB (2006-2015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s Ababa, 2 May 2005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lma E. Tupasi, MD, Actin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4830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1484280"/>
          <a:ext cx="9144000" cy="50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Total MDR-TB patients to be treated under DOTS-Plus (thousan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-39600" y="1300320"/>
          <a:ext cx="9080280" cy="51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00" y="1300320"/>
                    <a:ext cx="908028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Cost per MDR-TB patient tre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24000" y="1530360"/>
          <a:ext cx="8208720" cy="51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30360"/>
                    <a:ext cx="820872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4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country activity costs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80680" y="2371680"/>
            <a:ext cx="4672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tal: US$ 5,3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global coordination costs, 2006-2015, 60 mill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00000" y="2022480"/>
          <a:ext cx="7201080" cy="4430880"/>
        </p:xfrm>
        <a:graphic>
          <a:graphicData uri="http://schemas.openxmlformats.org/drawingml/2006/table">
            <a:tbl>
              <a:tblPr/>
              <a:tblGrid>
                <a:gridCol w="6164280"/>
                <a:gridCol w="1036800"/>
              </a:tblGrid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and management of the Working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on and strengthening of DRS and DOTS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nd Regional GLC operat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y developmen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the global supranational laboratory 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-line drug management and prequal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ocacy, communication and social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895,000 MDR-TB patients receiving adequat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660,000 MDR-TB patient successfully t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Half a million MDR-TB deaths a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/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Reduction in previously treated patients from </a:t>
            </a:r>
            <a:br>
              <a:rPr sz="2800"/>
            </a:b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19% to 15% of all confirmed TB c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Decrease in MDR-TB prevalence by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5920" y="1495440"/>
            <a:ext cx="425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O/IUATLD DR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aboratory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NRL and N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LC and W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-line drug u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ntory of public and private sector drug us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-qualification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lobal coordination activities and cost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24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 and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TS-Plus recording and reporting included in D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DR-TB notifications and DOTS-Plus outcomes part of Global Tuberculosis Control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 provided as one package (DOTS/DOTS-Pl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Key risk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ck of political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use and low quality of second-line drugs resulting in the creation of strains resistant to all known anti-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DR-TB and HIV/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lified 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 health infrastructur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especially laboratory capa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zation and management of health car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Process for developing the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strategic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lanning workshop in Montreux, March 2005 discussions on epidemiological scenario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OTS-Expansion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Laboratory strengthening sub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iagnostic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lephone conferences with WHO Regional Offices on epidemiological scen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scussion on epidemiological scenarios, cost and impact at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DOTS-Plus strategy meeting, 18-19 April 200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MDR-TB control –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political and technical momen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3980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Expanded DOTS Framework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GFATM and GLC agreement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2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d ho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Committee on the TB Epidemic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B 2004 and WHA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sed WHO treatment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vision of TB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Standards of TB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DOTS-Plus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apid expansion of DOTS-Plus as routine components of TB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Vision 2006-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rug resistance surveillance and DOTS-Plus integrated as routine components of TB control providing access to diagnosis and treatment for all TB patients and by all health care provid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ansion of DRSData on the global magnitude and trends of MDR-TB, and on the relationship between MDR-TB and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ansion of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equate treatment of all detected MDR-TB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 production in high MDR-TB burden countries and further reduction of prices of second-lin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coordination, collabor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ST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lobally, all previously treated c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astern Europe, also all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tin America, Southeast Asia and Western Pacific, also 20% of targeted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619280" y="3435480"/>
          <a:ext cx="5616720" cy="331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435480"/>
                    <a:ext cx="5616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908000" y="3573360"/>
            <a:ext cx="50403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ample of DST expansion - Western Pacific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 Treatment with 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s to all detected MDR-TB patients following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imated number of culture-positive MDR-TB patients under DOTS-Pl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05: 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0: 2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5: 6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1 million MDR-TB patients treated unde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TS-Plus, 2006-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 Easter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177920" y="1768320"/>
          <a:ext cx="6462720" cy="4692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7920" y="1768320"/>
                    <a:ext cx="646272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386000"/>
            <a:ext cx="8353440" cy="5356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MDR-TB patients to be treated per year under DOTS-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2:34:42Z</dcterms:created>
  <dc:creator>Eva Nathanson</dc:creator>
  <dc:description/>
  <dc:language>en-US</dc:language>
  <cp:lastModifiedBy>johnsoneb</cp:lastModifiedBy>
  <dcterms:modified xsi:type="dcterms:W3CDTF">2005-05-02T05:31:43Z</dcterms:modified>
  <cp:revision>75</cp:revision>
  <dc:subject/>
  <dc:title>Slide 1</dc:title>
</cp:coreProperties>
</file>