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3C9A-C97C-4381-8E98-546D1A074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B0D6-BD98-43D2-913F-07B37D8EB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0DEE-70F6-4ACC-AB3B-919B95AFF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8FBD-D477-4579-8254-7321949CD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54375-FEAD-432D-A945-E63974353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58AF7-7189-4EE7-B3D2-7810FBD1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75193-696C-4837-A905-FB8796603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6CD5A-8971-4274-BE44-AE9448817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F15A4-396A-4263-8FD8-5EABF4574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1AB50-4C7C-4C18-8B0B-6DBBF873A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DAAF5-D1E9-4A8B-959F-0C9A31C8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F5FD-3E9C-43CF-A6B0-20488E4B1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96115-59DC-44A7-BBE2-BF3A66A0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16B93-BD0E-4105-8B8B-FCE29F4A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8745C-7DC2-47AB-BAC2-5AC778800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25515-032B-48CB-B93C-640F35FD1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65BDB-5E49-43D9-9722-84BAAAB50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A562-A44E-445D-9A9B-D491EEF7E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62BC-436F-4EB1-822E-974071B4C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4629-F500-4CF7-BA9F-158A27006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0987-4EA5-4013-89F1-398BB701F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D6A7-DB11-4BE8-8F43-5FE34692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5D53-40B0-45B6-BC30-59C6DA90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2967-366E-4D8C-9620-7966C1B1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616A3-932B-489B-8CEE-CF918503D20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1D5E7-75BC-4DD3-8A42-CB7908D8F2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Stop TB Partnership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KOCHON AWA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2005 Establishment of an Annual Stop TB Partnership/Kochon Foundation Pr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S$ 100 000 to cover the prize and associated costs (travel et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Kochon Found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troduction to the Foundation by representatives of Koch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gree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stablish Selection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lace Call for Nomi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noun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ward Ceremo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RITER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mitment to fighting T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riginality of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mpact on TB Control or commun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ffect of a Partnership/Kochon Award on the work of the recipi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NOMINATING COMMITTE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 Board Members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Kochon Found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IME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vember 2005: Establish Selection Committee (3 Board Members + WHO + Koch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cember 2005: Call for Nomi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ebruary 2006: Deadline for no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rch 2006: Prize Awar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ate 2006: Award Ceremo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9T15:26:09Z</dcterms:created>
  <dc:creator>bakerl</dc:creator>
  <dc:description/>
  <dc:language>en-US</dc:language>
  <cp:lastModifiedBy>bakerl</cp:lastModifiedBy>
  <dcterms:modified xsi:type="dcterms:W3CDTF">2005-11-09T16:35:54Z</dcterms:modified>
  <cp:revision>2</cp:revision>
  <dc:subject/>
  <dc:title>Stop TB Partnership </dc:title>
</cp:coreProperties>
</file>