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18C2F-EB52-464F-B052-48E68ACC7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9C581-7836-4AE2-8F69-E605246FE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F307A-593B-464D-A149-1810E86B8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EF0CF-486F-458D-9A65-6F1004BDC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F13DF-E39E-449A-9336-CD39F712D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F2674-B39E-4DDD-8E52-BB4578C13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B3DB3-DDF2-4AAA-87FF-09337F264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36A7A-4F6B-4997-800F-553129BA0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02625-E067-4719-8108-05249436E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3ADE9-9630-4D06-BECC-F49F3F6D0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4C09C-C06D-4CF5-821D-EE1F3491E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B2556-5EC6-48A1-B8F2-68EBA70EA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265A2-417C-4FEE-A94C-E41389FE00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924360" y="228600"/>
            <a:ext cx="5067360" cy="662940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5410080" y="2133720"/>
            <a:ext cx="7632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228600"/>
            <a:ext cx="335268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stimated pop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33, 00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ll cases of TB notifi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n 2004: 105, 7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S+ PTB:  41,467( 39% of all cas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Case notification rate: All T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320/100,000 pop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Case notification rate S+ PT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125/10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stimated HIV prevalence in TB Patients  -over 6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MDRTB – Less than 1% of smear + PT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620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sputum smea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Microscopy centres (1/54, 000 popula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849640" y="3952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  <a:ea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Expected Donor Support to NLTP -2006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457200" y="1066680"/>
          <a:ext cx="8229600" cy="57085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57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FATM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**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,000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PFAR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	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,600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SAID ( non PEPFA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0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talian Gra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0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SA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0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O( Biennium)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50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DF**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00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IDA*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0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GAC/WHO*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0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tal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,700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Funding Needs - 2006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295280"/>
          <a:ext cx="8229600" cy="532944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87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Catego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Estimated Need (US$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Available Funds (US$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Gap (US$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S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, 600,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00,000**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100,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B/HI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, 800,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,200,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 600,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5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OTS-Expansion and Qualit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,094,29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,000,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000,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OTS-PLu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 960,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960,000**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t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,454,29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,660,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,794,29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carious funding status for the TB          (TB/HIV) control effort in Keny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significant funding g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ditional financial resources should be coupled with strengthened capacity to utilize the resources ( responsive in country fund disbursement system and additional HR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8T19:49:39Z</dcterms:created>
  <dc:creator>Dr Chakaya</dc:creator>
  <dc:description/>
  <dc:language>en-US</dc:language>
  <cp:lastModifiedBy>user</cp:lastModifiedBy>
  <dcterms:modified xsi:type="dcterms:W3CDTF">2005-11-10T13:54:18Z</dcterms:modified>
  <cp:revision>4</cp:revision>
  <dc:subject/>
  <dc:title>Slide 1</dc:title>
</cp:coreProperties>
</file>