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5443-375D-4788-8C62-E6B60596E65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tailed slide for 2005 shows tha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de variation in funding streams, some countries very dependent on donor 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as a continuous growth from 1999 to 20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shot up from 135 million in 1999 to 405 million in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increase in this funding came from the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A299-32E5-457E-A286-2EEE6AEA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27CE-984E-4DD4-9543-51978AA9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4A66-5F04-4AE9-9EA9-10568F28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7A17-1AD3-4FE1-B833-B7CB8CCD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E6AA-4937-44CD-ADBB-A513243A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F383-6314-4752-9647-A0F08B57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7900-1826-4E0A-9820-417E8CAE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75E7-DED1-4005-8F62-6D95178B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0882-991A-4EC7-A558-FA78A984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0528-2D58-4740-B93F-0A5D3DDC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F3E2-9E40-4351-ADF5-E0ED5638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87A6-2995-4885-8744-7BC2989D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F10A-2E3A-4F1C-A5B5-D095D599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D7D0-5A6E-43A4-8F94-F4C1D447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620F-F531-4EF0-9B21-63780553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3412-5821-49F5-BAC8-DA654584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D139-5C71-4F47-A5D3-1DA31283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6869-7E14-4C3D-9BCB-47A0293D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D5AC-02BE-431B-A9A8-7239C758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6046-3055-4E34-80ED-9BA22339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95D6-93C7-429B-AE73-61743569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DA1C-D313-49E3-9C38-FF34EC68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CC45-53DA-46EC-AA59-E32AD7B1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6EE8-503F-4CB6-82F0-D760D2C6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6237-C20D-4FA2-B32C-C97E84A2F03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457D-7109-43B0-B4DF-F8F730BAD76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280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Findings from donor survey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the WHO Financial monitoring project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In the context of the Second Global Plan to Stop TB  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rene Koek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ember Coordinating Board 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0 November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, Ital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ontribution from Foundations (US$ Millions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8000" y="1393920"/>
          <a:ext cx="8964360" cy="4987440"/>
        </p:xfrm>
        <a:graphic>
          <a:graphicData uri="http://schemas.openxmlformats.org/drawingml/2006/table">
            <a:tbl>
              <a:tblPr/>
              <a:tblGrid>
                <a:gridCol w="1175760"/>
                <a:gridCol w="1175760"/>
                <a:gridCol w="983520"/>
                <a:gridCol w="1177200"/>
                <a:gridCol w="1174680"/>
                <a:gridCol w="1177200"/>
                <a:gridCol w="1174320"/>
                <a:gridCol w="925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st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Gates</a:t>
                      </a:r>
                      <a:r>
                        <a:rPr b="0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equ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916280"/>
            <a:ext cx="7561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Other findings from donor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growth in funding to public health increasingly becoming part of  budget support and SWA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substantial flows are becoming linked to PRSP with   support  for broader health pla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for TB linked to donor priority given to MDGs and poverty all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47894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Global Plan to Stop TB: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Ten year projection of needs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likely finances available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(Ex. New Tools)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4437000"/>
            <a:ext cx="25923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tal Global Plan need  is 47 bn+ New Tools cost 9bn. Total $56b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untries will have to raise increasing amount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s need to increase their funding either directly or through GFATM for countries least able to mobilise resource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s the gap is large all the Partners will need to collaborate actively in mobilising resourc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task of filling the gap cannot be borne only by the Secretariat of the Partnership alon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4859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mplications 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nancing the Global Plan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96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Launch  a massive Advocacy and Communication Campaign to raise resources needed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vise the Long Range Resource Mobilisation Action Plan approved in 2004 by the CB in light of Global Plan 2006-20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clude bilaterals, foundations, and the private secto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85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termine funds available through HIPIC initiative, Budget support, and SWAPS to public health and from there onwards to TB control effo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epare a toolkit for guiding civil society at grassroots level to actively engage in the PRSP and other process for local resource mobilisation efforts relating to TB contro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0920" y="2133360"/>
            <a:ext cx="8094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OBJEC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Quantify funding needs and sources more accurately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Understand the key drivers of  donor contribu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arget efforts to mobilise resources to control TB more effective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Methodology</a:t>
            </a: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WHO- Standard questionnaires sent by WHO to all countries each year, including two pages of financial questions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Donor Survey-Use of questionnaires targeted to 30 major multilateral and Bilateral organisations that provided in–kind, logistical, or financial support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Use of other sources of data-(e. g. published information about GFATM, and other survey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Key Finding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Levels and channels of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Geographical Sprea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 Surve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ntegrate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 &amp;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mplications for mee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financing requiremen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 by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funding source  2002-2006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in 22 high-burden countries</a:t>
            </a: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92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Sources of funding for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, 22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high-burden countries,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891640" cy="5040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954920" y="2492280"/>
            <a:ext cx="1189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Wide variation in sources of fu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Some countries rely on large donor financ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964720" cy="5112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pending money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ets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22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96840" y="1916280"/>
            <a:ext cx="60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pending grew in all regions, fastest growth in E/C A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onor funding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by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6360" y="1341360"/>
            <a:ext cx="9107640" cy="5167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5329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onor Contributions for TB Control (with and w/out GFATM) 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848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223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8000" y="5734080"/>
            <a:ext cx="2160360" cy="64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Professional Video</cp:lastModifiedBy>
  <cp:lastPrinted>2004-03-12T16:30:34Z</cp:lastPrinted>
  <dcterms:modified xsi:type="dcterms:W3CDTF">2005-11-10T13:18:27Z</dcterms:modified>
  <cp:revision>17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64089075</vt:r8>
  </property>
  <property fmtid="{D5CDD505-2E9C-101B-9397-08002B2CF9AE}" pid="3" name="_AuthorEmail">
    <vt:lpwstr>floydk@who.int</vt:lpwstr>
  </property>
  <property fmtid="{D5CDD505-2E9C-101B-9397-08002B2CF9AE}" pid="4" name="_AuthorEmailDisplayName">
    <vt:lpwstr>Floyd, Katherine</vt:lpwstr>
  </property>
  <property fmtid="{D5CDD505-2E9C-101B-9397-08002B2CF9AE}" pid="5" name="_EmailSubject">
    <vt:lpwstr>funding of TB control presentation for Irene Koek</vt:lpwstr>
  </property>
  <property fmtid="{D5CDD505-2E9C-101B-9397-08002B2CF9AE}" pid="6" name="_NewReviewCycle">
    <vt:lpwstr/>
  </property>
  <property fmtid="{D5CDD505-2E9C-101B-9397-08002B2CF9AE}" pid="7" name="_PreviousAdHocReviewCycleID">
    <vt:r8>1453036681</vt:r8>
  </property>
  <property fmtid="{D5CDD505-2E9C-101B-9397-08002B2CF9AE}" pid="8" name="_ReviewingToolsShownOnce">
    <vt:lpwstr/>
  </property>
</Properties>
</file>