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56CB-4635-41F2-A6AE-9BE6FFCD695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etailed slide for 2005 shows that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de variation in funding streams, some countries very dependent on donor f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as a continuous growth from 1999 to 200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solute value shot up from 135 million in 1999 to 405 million in 20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increase in this funding came from the GF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CE96-69EA-4708-BEE9-635184AD0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95BB-76E0-4E34-9642-5EAFA360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9BC0-4B77-4222-B943-886DFC49D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DDE4-19D0-4282-969D-3F2F0020C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CA70-4B22-48D3-8285-50C27AEBD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5A4F-E022-475A-BEE2-DAB82CD0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0F13-79DD-44AF-BF03-1011CC7A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E5AB-D202-492C-95FD-F156AE62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2694-43FE-4576-A468-A58D54DD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B610E-C3F5-43A6-9ACC-FFDE7B5E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4321-8957-47E8-BECC-3D663D18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3DB5-3FEF-4B23-BD91-6D95975E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D1CA-3DC6-4A2D-A3B4-696A5799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7CF11-99DD-4B64-88CE-AECCB925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6065-ABB8-41E1-951C-ADB3D565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33C4-46B5-416E-9CAD-25C2C6AA0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1F43-C2CF-4003-A0EC-812C5B6BD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6D95-D646-4E76-B283-CA3703A3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CE33-C8B2-4A8D-BEE6-01C32BF83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D434-6242-473A-B5BC-7931BCFE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0091-570C-4DE0-8916-F1593555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EE71-A9B2-4980-8EF3-2B2DD1A2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71B1-5A1B-420E-82A7-75A5D6A9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E814-5807-4FF7-AD29-71BA30E6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A224-DB7C-4819-9AC2-55D6E45A8B63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6EFC-60D1-410D-B683-E2F2F81B0AB6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4920" y="1700280"/>
            <a:ext cx="82803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Findings from donor survey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and the WHO Financial monitoring project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In the context of the Second Global Plan to Stop TB  </a:t>
            </a:r>
            <a:endParaRPr b="1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rene Koek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Member Coordinating Board Stop TB Partnership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10 November 2005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ssisi, Italy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ontribution from Foundations (US$ Millions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08000" y="1393920"/>
          <a:ext cx="8964360" cy="4987440"/>
        </p:xfrm>
        <a:graphic>
          <a:graphicData uri="http://schemas.openxmlformats.org/drawingml/2006/table">
            <a:tbl>
              <a:tblPr/>
              <a:tblGrid>
                <a:gridCol w="1175760"/>
                <a:gridCol w="1175760"/>
                <a:gridCol w="983520"/>
                <a:gridCol w="1177200"/>
                <a:gridCol w="1174680"/>
                <a:gridCol w="1177200"/>
                <a:gridCol w="1174320"/>
                <a:gridCol w="925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Inst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99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Gates</a:t>
                      </a:r>
                      <a:r>
                        <a:rPr b="0" lang="en-GB" sz="2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5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1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3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6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4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O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3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.9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5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o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equ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al</a:t>
                      </a: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51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4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5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6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71640" y="1916280"/>
            <a:ext cx="75610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Other findings from donor surv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erception that growth in funding to public health increasingly becoming part of  budget support and SWA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erception that substantial flows are becoming linked to PRSP with   support  for broader health pla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unding for TB linked to donor priority given to MDGs and poverty allev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478944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Global Plan to Stop TB: 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Ten year projection of needs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and likely finances available 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(Ex. New Tools)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112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0920" y="4437000"/>
            <a:ext cx="259236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otal Global Plan need  is 47 bn+ New Tools cost 9bn. Total $56b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55280" y="1413000"/>
            <a:ext cx="80643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Countries will have to raise increasing amounts themsel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onors need to increase their funding either directly or through GFATM for countries least able to mobilise resources themsel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As the gap is large all the Partners will need to collaborate actively in mobilising resources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task of filling the gap cannot be borne only by the Secretariat of the Partnership alon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0" y="189000"/>
            <a:ext cx="4859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mplications 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inancing the Global Plan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on Proposed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I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964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696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96960" indent="-696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Launch  a massive Advocacy and Communication Campaign to raise resources needed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-696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Revise the Long Range Resource Mobilisation Action Plan approved in 2004 by the CB in light of Global Plan 2006-2015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-696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Include bilaterals, foundations, and the private sector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85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on Proposed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407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termine funds available through HIPIC initiative, Budget support, and SWAPS to public health and from there onwards to TB control effor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epare a toolkit for guiding civil society at grassroots level to actively engage in the PRSP and other process for local resource mobilisation efforts relating to TB contro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 algn="ctr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10920" y="2133360"/>
            <a:ext cx="80946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OBJECTI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Quantify funding needs and sources more accurately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Understand the key drivers of  donor contribu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arget efforts to mobilise resources to control TB more effective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8964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Methodology</a:t>
            </a: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WHO- Standard questionnaires sent by WHO to all countries each year, including two pages of financial questions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Donor Survey-Use of questionnaires targeted to 30 major multilateral and Bilateral organisations that provided in–kind, logistical, or financial support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Use of other sources of data-(e. g. published information about GFATM, and other surveys)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55280" y="1413000"/>
            <a:ext cx="80643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Key Finding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HO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Levels and channels of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Geographical Sprea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onor Surve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Integrated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R &amp;D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mplications for meeting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financing requirements of the Global 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496728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Total TB control costs by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funding source  2002-2006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in 22 high-burden countries</a:t>
            </a: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920" y="175680"/>
            <a:ext cx="496728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Sources of funding for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total TB control costs, 22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high-burden countries, 2005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8891640" cy="5040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954920" y="2492280"/>
            <a:ext cx="1189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Tahoma"/>
              </a:rPr>
              <a:t>Wide variation in sources of fu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Tahoma"/>
              </a:rPr>
              <a:t>Some countries rely on large donor financ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8964720" cy="5112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4000" y="189000"/>
            <a:ext cx="38163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Spending money 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gets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122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896840" y="1916280"/>
            <a:ext cx="609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Spending grew in all regions, fastest growth in E/C A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189000"/>
            <a:ext cx="38163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Donor funding 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by reg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6360" y="1341360"/>
            <a:ext cx="9107640" cy="51674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5329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Donor Contributions for TB Control (with and w/out GFATM)  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848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4223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08000" y="5734080"/>
            <a:ext cx="2160360" cy="647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Professional Video</cp:lastModifiedBy>
  <cp:lastPrinted>2004-03-12T16:30:34Z</cp:lastPrinted>
  <dcterms:modified xsi:type="dcterms:W3CDTF">2005-11-10T13:18:27Z</dcterms:modified>
  <cp:revision>171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64089075</vt:r8>
  </property>
  <property fmtid="{D5CDD505-2E9C-101B-9397-08002B2CF9AE}" pid="3" name="_AuthorEmail">
    <vt:lpwstr>floydk@who.int</vt:lpwstr>
  </property>
  <property fmtid="{D5CDD505-2E9C-101B-9397-08002B2CF9AE}" pid="4" name="_AuthorEmailDisplayName">
    <vt:lpwstr>Floyd, Katherine</vt:lpwstr>
  </property>
  <property fmtid="{D5CDD505-2E9C-101B-9397-08002B2CF9AE}" pid="5" name="_EmailSubject">
    <vt:lpwstr>funding of TB control presentation for Irene Koek</vt:lpwstr>
  </property>
  <property fmtid="{D5CDD505-2E9C-101B-9397-08002B2CF9AE}" pid="6" name="_NewReviewCycle">
    <vt:lpwstr/>
  </property>
  <property fmtid="{D5CDD505-2E9C-101B-9397-08002B2CF9AE}" pid="7" name="_PreviousAdHocReviewCycleID">
    <vt:r8>1453036681</vt:r8>
  </property>
  <property fmtid="{D5CDD505-2E9C-101B-9397-08002B2CF9AE}" pid="8" name="_ReviewingToolsShownOnce">
    <vt:lpwstr/>
  </property>
</Properties>
</file>