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6A8-8E22-4AC6-AA22-47CDB83F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881D-99F4-4FF2-98B9-0EEAC87E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BBB-1A02-4969-A156-F5E1B653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8127-20E0-4478-A304-616A76D8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170F-40F0-47FA-B4E1-7861DE53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6826-D238-43FD-9936-73A2EA4D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2FDB-9CCD-4ABC-8F9F-FA79D678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3F05-EAED-4C01-B307-3A4BABC3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B024-ED35-4324-94D9-6A60D33D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792D-1FF8-4F1D-B69A-6B714C28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88BE-525F-404B-839E-2DF80E6F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D726-C0F0-4269-BF0C-E11A3FCE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24C0-9EF9-4D89-B4DB-A841F167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7D89-FB99-46BA-A373-4CB710ED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FBD9-F76F-4787-9778-4807340C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5602-BB3A-4B41-B4E2-85D6E636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D6FF-E8F7-45A2-962B-A887D01A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FF8F-4494-42E5-857A-2750E244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906-D1F7-4B3A-8634-4B31240B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7091-DD6C-4FC3-82EB-10E6DD3A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E01-1D7C-4EF2-8970-D175193D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9A9-99B9-40DC-B872-C565C4DC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7E99-F6AD-4F48-A08A-760C8D1B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43FE-27AA-49A1-BDFF-90705077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31AF-6A12-42ED-AC0D-6B63B1599D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120A-713F-47E8-BC05-3C62B8BBEC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top TB Partnershi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KOCHON A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05 Establishment of an Annual Stop TB Partnership/Kochon Foundation Pr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$ 100 000 to cover the prize and associated costs (travel 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 to the Foundation by representatives of Koch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ree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ablish Selection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ce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u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itment to fighting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iginality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n TB Control or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ect of a Partnership/Kochon Award on the work of the recip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OMINATING COMMITT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 Board Member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vember 2005: Establish Selection Committee (3 Board Members + WHO + Koch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ember 2005: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bruary 2006: Deadline for no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ch 2006: Prize Aw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te 2006: 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26:09Z</dcterms:created>
  <dc:creator>bakerl</dc:creator>
  <dc:description/>
  <dc:language>en-US</dc:language>
  <cp:lastModifiedBy>bakerl</cp:lastModifiedBy>
  <dcterms:modified xsi:type="dcterms:W3CDTF">2005-11-09T16:35:54Z</dcterms:modified>
  <cp:revision>2</cp:revision>
  <dc:subject/>
  <dc:title>Stop TB Partnership </dc:title>
</cp:coreProperties>
</file>