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22E8-1C95-4FF5-AA01-3AFB9D174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1969-9EE7-466A-8A87-F56CB885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F7D2-02F7-4BFE-80C6-56CEF4734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82C9-AB3B-4484-A912-FD5C4B6BC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33E9-C308-481A-B2AA-626F53F8D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74EF-FFF7-4A31-9DE4-00C7419B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77A1-1DDE-4F4C-A086-C3FBB405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AEED-A122-4CA2-A053-EA5317D6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C8DE-AF12-48E2-BF14-6A1E3280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EE3A-C55D-4C2F-9139-9ADDE84E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1C13-69DE-42CE-9C14-18EA9BF6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ACC1-0CA6-4F19-B952-0BF2A365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70BF-DE5F-4CD4-BC1A-48EF41FC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C56C-9D11-4F12-B3A6-DD63C640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CEE1-D5BE-4374-9A3A-1DEB7AF2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64EC-86C6-4ABD-A49F-37D84AB85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21E8-9AB2-49AB-8BDF-1547BAFC1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98F7-CFBE-4E3F-9CA0-42ECF1D7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8BF3-5E58-436F-B185-BC8D4E5A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5918-1848-4DAA-919F-76326C31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302B-44CE-4552-8F21-C54E1517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A10C-631D-49C0-904C-5267C826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3B69-4E8F-4373-9FE8-848ADCA7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675A-90F5-42BE-A3E0-1D63A578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8E75-EEBA-453A-9B3B-3A79EC0844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E50A-776B-4D47-8CBA-8655F938C2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4724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 </a:t>
            </a:r>
            <a:br>
              <a:rPr sz="3200"/>
            </a:b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National TB Control Programme </a:t>
            </a: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76320" y="76320"/>
            <a:ext cx="906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Stop TB Pakistan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Progresses and challeng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743280" y="2705040"/>
            <a:ext cx="1644840" cy="17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8616-3A4C-4612-8E6D-04FECBE4220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STOP TB Pakistan: the partner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 officio: MOH represented by NTP Pakist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Pakistan being the host organ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-Agencies Coordination Committee memb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kistani partners of the Global Partnership willing to adh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ociations/institutions named by at least 2 part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resentation of CCM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4084-8F9C-4F5A-BDF3-C70A987FE8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Progresses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U between WHO Pakistan  endors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ds for set up of secretariat for one year secur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s of Executive secretary and one secretary  adverti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 plan for next six months developed on the basis of the available funds including mass media campaign by Good will ambassador (Dec 05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A0AC-655C-413B-8B2B-84B66878C2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Challenge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hort Ter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aling with Earthquake v/s TB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ng Ter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TB control activities in Pakistan sustainable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4409-09A4-4F0E-98C6-FF0AE90954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Future Needs of the Partnership Secretariat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ources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ustain Stop TB secretariat beyond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Enhance the strength of the Secretariat (one Communication officer and one technical officer to be recruited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7C4E-A529-426A-8D03-AFC4EA5184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00"/>
                </a:solidFill>
                <a:latin typeface="Tahoma"/>
              </a:rPr>
              <a:t>Thank you!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505320" y="3733920"/>
            <a:ext cx="191268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8006-C753-4796-9BBA-0BA92A254F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20600" y="0"/>
            <a:ext cx="736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Islamic Republic of Pakista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2880" y="159984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:140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/3rd below poverty 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th among the HBC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imated 250,000 new TB cases each ye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0EA3-A624-4054-A55F-3338B42C709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2819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Earth quake-8th October 2005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               4 million affected in AJK 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and NWFP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&gt;86000 Deaths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    2 million displaced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9FF5-A285-4F42-BA23-663524AA335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066680" y="1398600"/>
            <a:ext cx="7010640" cy="461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4F5F-5055-4BC6-B508-FA12234447E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85800" y="838080"/>
            <a:ext cx="7772400" cy="516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B4F3-4D18-4F44-A590-0A24B180E9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1320840"/>
            <a:ext cx="7696440" cy="447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2E80-0148-46B5-A35F-19A6CB96B2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Mr Wasim Akram presenting the National Stop TB Partnership</a:t>
            </a:r>
            <a:br>
              <a:rPr sz="3200"/>
            </a:b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Lahore, 29th April 2004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38280" y="2700360"/>
            <a:ext cx="4496040" cy="309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8E06-79DA-48BC-BD8E-0FC7CE60F5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9800" y="536040"/>
            <a:ext cx="7770960" cy="8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cc00"/>
                </a:solidFill>
                <a:latin typeface="Tahoma"/>
              </a:rPr>
              <a:t>Stop TB Pakistan to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obilise additional sustainable social &amp; political 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ordinate the implementation of the National strategy/plan developed by NTP for A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hance public and political perception of Stop TB Strate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gage non-traditional partners in the fight against TB and build alliances with other health and development initia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9275-7693-4E35-8AC4-C4BD5B542C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atalyzing approac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CC/ Social mobilization through GFA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aging private sector through GFATM/FIDELIS/ Go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aging IACC by revisiting its ro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193A-1C02-4FA9-87FA-FC9BE6901C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7T17:54:37Z</dcterms:created>
  <dc:creator/>
  <dc:description/>
  <dc:language>en-US</dc:language>
  <cp:lastModifiedBy>Waseem Abbas Qureshi</cp:lastModifiedBy>
  <cp:lastPrinted>1997-02-21T06:00:05Z</cp:lastPrinted>
  <dcterms:modified xsi:type="dcterms:W3CDTF">2005-11-10T13:33:34Z</dcterms:modified>
  <cp:revision>735</cp:revision>
  <dc:subject/>
  <dc:title>Tuberculosis Control and Prevention</dc:title>
</cp:coreProperties>
</file>