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0883-D0AD-4307-AEC5-DCDF58659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dev is linked with the previous slide of Trainings b).  The curricula developed by the WGs will be used by Cmty Reps to do their regional trainings.  The curricula should contain info such as why are these activities imp?  What do these activities entail?  What are the challenges/ advocacy points related t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2AB35-3F53-4942-B7A0-379B56FBC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8B440-1DF6-40DB-AB28-C2FF84215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19604-0760-44CD-B433-8B5754B4C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46624-721A-423E-A880-45F8EC1FB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EF7025-D201-4266-B251-D3CAA60298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AB57A-2AE6-410A-9D24-F14EEB780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80BB5-9379-4D2D-958E-CE1A4692F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EFAAC-9A53-40EF-BBC7-ACFDDEC58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B5D91-8190-4D8B-A04D-FDA4EEE24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7BB18-CC2E-409C-B30D-773B3EF8C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46CC1-2E4B-4A99-B481-22AFE8C9E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93741-71B1-4F03-B34A-9EA05D91B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A2913-10CB-4AB2-B089-7F19F1CF6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EDB57-45DC-44F8-A1E9-12E8B2D5B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B02B2-C96E-4BFD-B166-715EB908D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B771A8-F12B-40A1-B2DD-C19909F942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261276-B261-42BB-BC7C-BD0C4B75DD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08599-5FC9-4E11-99D7-DDC7482D9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63DEA-7796-4257-917E-1D43A0A25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65FE1-8824-40BC-A24F-2755373EE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C5E10-7B37-4E14-9659-B718082DA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9D902-56DB-40E1-91FC-4B736774F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B8536-82EC-4CE4-A95A-C917DABEE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8398B-96F7-44AC-A9B8-8E6CEF03E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086C3-F150-412D-8F44-96AD0DBEE1B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8CCC0-C8AA-43A5-8F62-1A76C57917F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raining Plan for Communities Infected/ Affected by TB </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Chesi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epresent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dorsement by the board</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of the communiti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G should play leadership role in  devising Communication strategy for the different community representativ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clarity on process of resource allocation from the Cmty Focal Points budge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 for the community activities be carried out annually (starting in 2007)</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erial development-e.g.</a:t>
            </a:r>
            <a:r>
              <a:rPr b="0" lang="ru-RU" sz="2600" spc="-1" strike="noStrike">
                <a:solidFill>
                  <a:srgbClr val="000000"/>
                </a:solidFill>
                <a:latin typeface="Arial"/>
              </a:rPr>
              <a:t>Brochure to explain Community Involvement in Stop TB Partnership on a Global and National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 community task force exists and  to envision to facilitate community activities globally.</a:t>
            </a:r>
            <a:br>
              <a:rPr sz="4000"/>
            </a:br>
            <a:r>
              <a:rPr b="0" lang="en-US" sz="4000" spc="-1" strike="noStrike">
                <a:solidFill>
                  <a:srgbClr val="006633"/>
                </a:solidFill>
                <a:latin typeface="Garamond"/>
              </a:rPr>
              <a:t>Community Task Force is the primary mechanism through which this training will be coordinated</a:t>
            </a:r>
            <a:endParaRPr b="0" lang="en-US" sz="4000" spc="-1" strike="noStrike">
              <a:solidFill>
                <a:srgbClr val="006633"/>
              </a:solidFill>
              <a:latin typeface="Garamond"/>
            </a:endParaRPr>
          </a:p>
        </p:txBody>
      </p:sp>
      <p:sp>
        <p:nvSpPr>
          <p:cNvPr id="96" name="PlaceHolder 2"/>
          <p:cNvSpPr>
            <a:spLocks noGrp="1"/>
          </p:cNvSpPr>
          <p:nvPr>
            <p:ph type="subTitle"/>
          </p:nvPr>
        </p:nvSpPr>
        <p:spPr>
          <a:xfrm>
            <a:off x="609480" y="7467120"/>
            <a:ext cx="655344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ocacy-Global to Country level</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B advocacy done in partnership with existing HIV treatment advocacy networks like ITP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different donor agencies to ensure TB on their agen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funders and implementers of TB research to ensure TB research is adequately funded and reflects the community research priorities.  This includes increased opportunities for CSO to participate in research e.g. Community advisory board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p TB strategy implementation at country level.</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Main focus areas</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ings to orient community representatives to the STB Partnership and provide them with needed technical experti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B community education, advocacy and materials develop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and coordination between the Community Representatives on STB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for Community Reps </a:t>
            </a:r>
            <a:r>
              <a:rPr b="0" lang="ru-RU" sz="2600" spc="-1" strike="noStrike">
                <a:solidFill>
                  <a:srgbClr val="000000"/>
                </a:solidFill>
                <a:latin typeface="Arial"/>
              </a:rPr>
              <a:t>.</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entation Workshops for incoming Community Reps.</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to assist Community Reps to develop advocacy skills and devise an advocacy platform.</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and Global workshops to be conducted by Community Reps to nurture new leadership, inform a larger constituency about the WG issues, get feedback to input into strengthening the Partnership.</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ning detail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ing Group members would benefit from external training support for TB advocacy at country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information on T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SM skills build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on the cross cutting issues around TB.</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aterial developm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Working Group should develop communication strategy to facilitate Community Reps ability to take their message to a broader community.  This should include training curricula, each component should envision the advocacy aspect needed to facilitate the WGs mi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Communication and Coordin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thly conference calls to do joint planning for activities, and to increase community support, monitor community activities, accountability and advoca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cted outcomes</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explained in the background docu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2:08:30Z</dcterms:created>
  <dc:creator>  </dc:creator>
  <dc:description/>
  <dc:language>en-US</dc:language>
  <cp:lastModifiedBy>bakerl</cp:lastModifiedBy>
  <dcterms:modified xsi:type="dcterms:W3CDTF">2006-05-02T15:15:46Z</dcterms:modified>
  <cp:revision>15</cp:revision>
  <dc:subject/>
  <dc:title>Training Plan for Patient and Community Involvement</dc:title>
</cp:coreProperties>
</file>