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343B8-48A1-4825-804C-459D14647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A6EBD-E715-4A10-BC50-A444BE529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CC360-3363-4195-AD68-0A57FF20D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3A24C-9BDF-41D8-9274-77DAF81B7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0A1BA-8E08-486D-B495-72B21AE85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400F0-A8B1-4434-8D86-D0281D556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C2A7E-EB4E-43AB-BD0B-FE191D274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5A2D8-6736-4015-903A-8A4A54A79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C7F63-F770-41C1-AACA-7B8AF0D99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C5897-6701-4EA6-B472-F43FE9823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59AB1-5C95-498B-8485-68AC954D5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4E706-0173-4E33-AB22-FA20218F8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15957-EE7F-4733-92EB-814F383A6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23CD9-7CA0-479F-BC02-2846FDBFA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7F9C2-8C6D-40E5-BE7F-C085A3CDA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676C8-EF17-43CB-B685-EE1550A25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595AE-972C-44CE-A48D-DA61AC736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652B5-B800-426F-BFAF-F471F89FD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4FCAB-FA2D-41BD-874A-97B2EFA68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AF1C3-525F-4550-8A74-0AA12609D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2C216-2738-412B-8F9B-FA21316BB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5189D-6991-4D1B-BF64-202963C95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55401-338F-4A31-A1C9-63E76FE5C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6EFF9-C33E-40A8-98AE-919A387D1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09DC5-F6B6-4ADE-987D-9FAADB69D1CB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5FCBA-F34F-476D-8FC3-F654E8C32DD8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72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557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Tahoma"/>
              </a:rPr>
              <a:t>Annual Report 2005</a:t>
            </a:r>
            <a:endParaRPr b="1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403280" y="3429000"/>
            <a:ext cx="64008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Dr Marcos Espial 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Executive Secretary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Abuja Coordinating Board Meeting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24 25 April 2006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-304920" y="-3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Annual Report 2005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8920" y="1412640"/>
            <a:ext cx="87138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Governance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Coordinating Board Meetings in Ethiopia and Italy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Coordinating Board teleconference to discuss GP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Four Executive Committee Teleconferenc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Administration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e biennial Secretariat work plan 2006-2007 was prepared and approved by both the CB and WHO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Half of the staff are in secured job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ahoma"/>
              </a:rPr>
              <a:t>Annual Report 2005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720000"/>
                </a:solidFill>
                <a:latin typeface="Tahoma"/>
              </a:rPr>
              <a:t>Financial Position (US$ Millions)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                            </a:t>
            </a: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2004          2005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Total Income         23.8             34.4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Expenditure           14.7             36.6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Surplus/Deficit        9.1            (2,2)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720000"/>
                </a:solidFill>
                <a:latin typeface="Tahoma"/>
              </a:rPr>
              <a:t>Note: Deficit covered by brought forward balance from 2004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Annual Report 2005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"/>
          <p:cNvSpPr/>
          <p:nvPr/>
        </p:nvSpPr>
        <p:spPr>
          <a:xfrm>
            <a:off x="685800" y="2819520"/>
            <a:ext cx="80010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50920" y="1413000"/>
            <a:ext cx="864216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Challenge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Engaging Partners including NGOs and the communities affected by TB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Mobilising the GP resourc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Securing deeper, sustained,  donor support from current donor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Establishing a broader base of donor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Securing the other half of the staff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Partners Forum, External Evaluation, Global Plan follow-up,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GDF and GLC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434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Annual Report 2005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8200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20000"/>
                </a:solidFill>
                <a:latin typeface="Tahoma"/>
              </a:rPr>
              <a:t>Achievement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72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Partnership Building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72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Advocacy, Communication and S. Mobilisation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72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Working Group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72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Global Drug Facility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72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Governance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72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nancial Position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72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Administration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-152640" y="-360"/>
            <a:ext cx="5229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Annual Report 2005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8000" y="1413000"/>
            <a:ext cx="815004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20000"/>
                </a:solidFill>
                <a:latin typeface="Tahoma"/>
              </a:rPr>
              <a:t>  </a:t>
            </a:r>
            <a:r>
              <a:rPr b="1" lang="en-US" sz="3200" spc="-1" strike="noStrike">
                <a:solidFill>
                  <a:srgbClr val="720000"/>
                </a:solidFill>
                <a:latin typeface="Tahoma"/>
              </a:rPr>
              <a:t>Partnership Building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Partnership continued to expand during 2005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By end 2005 it had 463 members: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20000"/>
                </a:solidFill>
                <a:latin typeface="Tahoma"/>
              </a:rPr>
              <a:t>294 NGOs 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20000"/>
                </a:solidFill>
                <a:latin typeface="Tahoma"/>
              </a:rPr>
              <a:t>10 Donors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20000"/>
                </a:solidFill>
                <a:latin typeface="Tahoma"/>
              </a:rPr>
              <a:t>34  Government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20000"/>
                </a:solidFill>
                <a:latin typeface="Tahoma"/>
              </a:rPr>
              <a:t>13 Intergovernmental Organisations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20000"/>
                </a:solidFill>
                <a:latin typeface="Tahoma"/>
              </a:rPr>
              <a:t>48 Academic institutions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20000"/>
                </a:solidFill>
                <a:latin typeface="Tahoma"/>
              </a:rPr>
              <a:t>30 Commercial Organisations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Two new partnerships: Peru and in the Islamic Republic of Iran were formed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441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Annual Report 2005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9144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68976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720000"/>
                </a:solidFill>
                <a:latin typeface="Tahoma"/>
              </a:rPr>
              <a:t>Partnership Building and ACSM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689760" indent="0" algn="ctr">
              <a:lnSpc>
                <a:spcPct val="12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</a:rPr>
              <a:t>Engagement with Partner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689760" indent="-689760">
              <a:lnSpc>
                <a:spcPct val="75000"/>
              </a:lnSpc>
              <a:spcBef>
                <a:spcPts val="901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ACTION project let by </a:t>
            </a:r>
            <a:r>
              <a:rPr b="1" lang="en-GB" sz="2400" spc="-1" strike="noStrike">
                <a:solidFill>
                  <a:srgbClr val="720000"/>
                </a:solidFill>
                <a:latin typeface="Tahoma"/>
              </a:rPr>
              <a:t>RESULTS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 to enhance parliamentary outreach and stakeholder mobilisation in some countri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68976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689760" indent="-689760">
              <a:lnSpc>
                <a:spcPct val="75000"/>
              </a:lnSpc>
              <a:spcBef>
                <a:spcPts val="901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TB Media Fellowships project with </a:t>
            </a:r>
            <a:r>
              <a:rPr b="1" lang="en-GB" sz="2400" spc="-1" strike="noStrike">
                <a:solidFill>
                  <a:srgbClr val="720000"/>
                </a:solidFill>
                <a:latin typeface="Tahoma"/>
              </a:rPr>
              <a:t>Panos Institute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 to enhance quality coverage of TB issues in countri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68976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689760" indent="-689760">
              <a:lnSpc>
                <a:spcPct val="75000"/>
              </a:lnSpc>
              <a:spcBef>
                <a:spcPts val="901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Stop TB e-forum with </a:t>
            </a:r>
            <a:r>
              <a:rPr b="1" lang="en-GB" sz="2400" spc="-1" strike="noStrike">
                <a:solidFill>
                  <a:srgbClr val="720000"/>
                </a:solidFill>
                <a:latin typeface="Tahoma"/>
              </a:rPr>
              <a:t>HDNet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 to stimulate global dialogue on TB issues and mobilize stakeholders in countri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68976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689760" indent="-689760">
              <a:lnSpc>
                <a:spcPct val="75000"/>
              </a:lnSpc>
              <a:spcBef>
                <a:spcPts val="901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Tahoma"/>
              </a:rPr>
              <a:t>WEF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 engagement to launch the Global Pla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441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Annual Report 2005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87850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20000"/>
                </a:solidFill>
                <a:latin typeface="Tahoma"/>
              </a:rPr>
              <a:t>Building Commitment 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711360"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Through High level Mission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1" marL="1066680" indent="-609480">
              <a:lnSpc>
                <a:spcPct val="75000"/>
              </a:lnSpc>
              <a:spcBef>
                <a:spcPts val="901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20000"/>
                </a:solidFill>
                <a:latin typeface="Tahoma"/>
              </a:rPr>
              <a:t>Botswana</a:t>
            </a: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 (endorsement of WHO AFRO Emergency Declaration by the African Union)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1066680" indent="-609480">
              <a:lnSpc>
                <a:spcPct val="75000"/>
              </a:lnSpc>
              <a:spcBef>
                <a:spcPts val="901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20000"/>
                </a:solidFill>
                <a:latin typeface="Tahoma"/>
              </a:rPr>
              <a:t>Ethiopia</a:t>
            </a: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 (meeting with </a:t>
            </a:r>
            <a:r>
              <a:rPr b="1" lang="en-US" sz="2400" spc="-1" strike="noStrike">
                <a:solidFill>
                  <a:srgbClr val="720000"/>
                </a:solidFill>
                <a:latin typeface="Tahoma"/>
              </a:rPr>
              <a:t>Prime Minister</a:t>
            </a: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 and Minister of Health)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1066680" indent="-609480">
              <a:lnSpc>
                <a:spcPct val="75000"/>
              </a:lnSpc>
              <a:spcBef>
                <a:spcPts val="901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20000"/>
                </a:solidFill>
                <a:latin typeface="Tahoma"/>
              </a:rPr>
              <a:t>Indonesia</a:t>
            </a: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 (meeting with Minister of Health, MPs, and Partners)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1066680" indent="-609480">
              <a:lnSpc>
                <a:spcPct val="75000"/>
              </a:lnSpc>
              <a:spcBef>
                <a:spcPts val="901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20000"/>
                </a:solidFill>
                <a:latin typeface="Tahoma"/>
              </a:rPr>
              <a:t>Italy</a:t>
            </a: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 (meeting with Undersecretary of Foreign Affairs – Stop TB Italy)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1066680" indent="-609480">
              <a:lnSpc>
                <a:spcPct val="75000"/>
              </a:lnSpc>
              <a:spcBef>
                <a:spcPts val="901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20000"/>
                </a:solidFill>
                <a:latin typeface="Tahoma"/>
              </a:rPr>
              <a:t>Mozambique</a:t>
            </a: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 (WHO RC – Emergency Declaration)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434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Annual Report 2005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91440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20000"/>
                </a:solidFill>
                <a:latin typeface="Tahoma"/>
              </a:rPr>
              <a:t>ACSM: Global Media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110000"/>
              </a:lnSpc>
              <a:spcBef>
                <a:spcPts val="700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High-profile media events for WTBD in Paris, London and Ottawa (Mar05)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110000"/>
              </a:lnSpc>
              <a:spcBef>
                <a:spcPts val="700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Media story for TB African Emergency declaration by WHO-RC (Aug05)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110000"/>
              </a:lnSpc>
              <a:spcBef>
                <a:spcPts val="700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Events planned to launch Global Plan in several cities around the world (Jan06)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441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Annual Report  2005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79280" y="1268280"/>
            <a:ext cx="89647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661320" indent="0" algn="ctr">
              <a:lnSpc>
                <a:spcPct val="110000"/>
              </a:lnSpc>
              <a:spcBef>
                <a:spcPts val="7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20000"/>
                </a:solidFill>
                <a:latin typeface="Tahoma"/>
              </a:rPr>
              <a:t>ACSM: Country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661320" indent="-661320">
              <a:lnSpc>
                <a:spcPct val="110000"/>
              </a:lnSpc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20000"/>
                </a:solidFill>
                <a:latin typeface="Tahoma"/>
              </a:rPr>
              <a:t>Helping countries to develop robust ACSM components for GFATM/R5 ($35 million for 12 countries – 2 years)</a:t>
            </a:r>
            <a:endParaRPr b="0" lang="en-US" sz="2600" spc="-1" strike="noStrike">
              <a:solidFill>
                <a:srgbClr val="720000"/>
              </a:solidFill>
              <a:latin typeface="Tahoma"/>
            </a:endParaRPr>
          </a:p>
          <a:p>
            <a:pPr marL="66132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20000"/>
              </a:solidFill>
              <a:latin typeface="Tahoma"/>
            </a:endParaRPr>
          </a:p>
          <a:p>
            <a:pPr marL="661320" indent="-661320">
              <a:lnSpc>
                <a:spcPct val="110000"/>
              </a:lnSpc>
              <a:spcBef>
                <a:spcPts val="1137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20000"/>
                </a:solidFill>
                <a:latin typeface="Tahoma"/>
              </a:rPr>
              <a:t>Regional and sub-regional ACSM training workshops in AFRO, AMRO, EMRO, EURO</a:t>
            </a:r>
            <a:endParaRPr b="0" lang="en-US" sz="2600" spc="-1" strike="noStrike">
              <a:solidFill>
                <a:srgbClr val="720000"/>
              </a:solidFill>
              <a:latin typeface="Tahoma"/>
            </a:endParaRPr>
          </a:p>
          <a:p>
            <a:pPr marL="661320" indent="0">
              <a:lnSpc>
                <a:spcPct val="110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20000"/>
              </a:solidFill>
              <a:latin typeface="Tahoma"/>
            </a:endParaRPr>
          </a:p>
          <a:p>
            <a:pPr marL="661320" indent="-661320">
              <a:lnSpc>
                <a:spcPct val="110000"/>
              </a:lnSpc>
              <a:spcBef>
                <a:spcPts val="1137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20000"/>
                </a:solidFill>
                <a:latin typeface="Tahoma"/>
              </a:rPr>
              <a:t>Information materials for countries: GFATM planning framework, introductory ACSM primer, needs assessment tool</a:t>
            </a:r>
            <a:endParaRPr b="0" lang="en-US" sz="26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-457200" y="-360"/>
            <a:ext cx="574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Annual Report 2005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9640" y="1412640"/>
            <a:ext cx="81360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3948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720000"/>
                </a:solidFill>
                <a:latin typeface="Tahoma"/>
              </a:rPr>
              <a:t>Working Group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39480" indent="-339480">
              <a:lnSpc>
                <a:spcPct val="120000"/>
              </a:lnSpc>
              <a:spcBef>
                <a:spcPts val="700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Global Plan to Stop TB 2006-15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39480" indent="-339480">
              <a:lnSpc>
                <a:spcPct val="120000"/>
              </a:lnSpc>
              <a:spcBef>
                <a:spcPts val="700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Funding available to the seven Working Groups for activitie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39480" indent="-339480">
              <a:lnSpc>
                <a:spcPct val="120000"/>
              </a:lnSpc>
              <a:spcBef>
                <a:spcPts val="700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Focal point within the Secretariat to facilitate process and coordination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39480" indent="-339480">
              <a:lnSpc>
                <a:spcPct val="120000"/>
              </a:lnSpc>
              <a:spcBef>
                <a:spcPts val="700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Active participation in the WGs annual meeting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39480" indent="-339480">
              <a:lnSpc>
                <a:spcPct val="120000"/>
              </a:lnSpc>
              <a:spcBef>
                <a:spcPts val="700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Detailed WGs activities 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3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Annual Report 2005  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42560" y="1341000"/>
            <a:ext cx="88930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20000"/>
                </a:solidFill>
                <a:latin typeface="Tahoma"/>
              </a:rPr>
              <a:t>Global Drug Facility</a:t>
            </a:r>
            <a:endParaRPr b="0" lang="en-US" sz="3600" spc="-1" strike="noStrike">
              <a:solidFill>
                <a:srgbClr val="720000"/>
              </a:solidFill>
              <a:latin typeface="Tahoma"/>
            </a:endParaRPr>
          </a:p>
          <a:p>
            <a:pPr marL="335880" indent="-335880">
              <a:lnSpc>
                <a:spcPct val="110000"/>
              </a:lnSpc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Demand for GDF continued to grow strongly.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5880" indent="-335880">
              <a:lnSpc>
                <a:spcPct val="110000"/>
              </a:lnSpc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Annual GDF procurement for grants stood at a record $28.5m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5880" indent="-335880">
              <a:lnSpc>
                <a:spcPct val="110000"/>
              </a:lnSpc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Orders placed through Direct Procurement Service grew to $13.4 million ($6.6 million in 2004)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5880" indent="-335880">
              <a:lnSpc>
                <a:spcPct val="110000"/>
              </a:lnSpc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e number of countries using GDF Direct Procurement Service went up to 25 (19 countries through 2004) 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5880" indent="-335880">
              <a:lnSpc>
                <a:spcPct val="110000"/>
              </a:lnSpc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e main beneficiaries were low income countries that fulfilled the GDF “Conditions of Support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5880" indent="-335880">
              <a:lnSpc>
                <a:spcPct val="110000"/>
              </a:lnSpc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GLC/GDF procurement function converged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58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3T09:46:41Z</dcterms:created>
  <dc:creator>MudasiaE</dc:creator>
  <dc:description/>
  <dc:language>en-US</dc:language>
  <cp:lastModifiedBy>bakerl</cp:lastModifiedBy>
  <cp:lastPrinted>2004-03-15T15:50:36Z</cp:lastPrinted>
  <dcterms:modified xsi:type="dcterms:W3CDTF">2006-05-02T15:30:47Z</dcterms:modified>
  <cp:revision>141</cp:revision>
  <dc:subject/>
  <dc:title>Secretariat, 2003 Progress Repor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