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FC82-9537-42F9-9BDC-18C53F2420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ly HB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3D77-07A8-4EA2-9369-568D2F99B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FC88-143F-4008-906F-B1D4F739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7677-B23E-49BC-A27D-CEF5D2A4D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AE0D-61CC-4DEB-9C64-43EC21C39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88B5-D4FC-4C9B-A2DE-66B1371C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9589-6621-4134-9642-926120FC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2A8B-4A98-428E-8422-2D1E3D1F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E039-7AC5-48D8-B7DD-2D8B6C11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5180-592B-4982-B6DA-9FE02BD8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74FB-1F5F-4B14-95E8-AEF22A7B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F35A-34EF-474D-B2E5-346F297C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290D-A824-46F4-AF72-BF274C43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2FC6-4717-42B6-AB8B-D9C237DBB98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hyperlink" Target="http://www.panosaids.org/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es for working with the media on TB: The Panos Stop TB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2920" y="3141360"/>
            <a:ext cx="6513480" cy="17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ation to Stop TB Governing Board Meeting in Abuja, Nigeria, 22 to 25 April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ald D. Kayanja, Director Panos Global AIDS Program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5373720"/>
            <a:ext cx="7345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Dickson, an African village"/>
          <p:cNvPicPr/>
          <p:nvPr/>
        </p:nvPicPr>
        <p:blipFill>
          <a:blip r:embed="rId5"/>
          <a:stretch/>
        </p:blipFill>
        <p:spPr>
          <a:xfrm>
            <a:off x="6372360" y="479736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Sven Torfinn"/>
          <p:cNvPicPr/>
          <p:nvPr/>
        </p:nvPicPr>
        <p:blipFill>
          <a:blip r:embed="rId6"/>
          <a:stretch/>
        </p:blipFill>
        <p:spPr>
          <a:xfrm>
            <a:off x="4500720" y="5084640"/>
            <a:ext cx="1714320" cy="1123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Pep Bonet"/>
          <p:cNvPicPr/>
          <p:nvPr/>
        </p:nvPicPr>
        <p:blipFill>
          <a:blip r:embed="rId7"/>
          <a:stretch/>
        </p:blipFill>
        <p:spPr>
          <a:xfrm>
            <a:off x="2700360" y="4724280"/>
            <a:ext cx="1704960" cy="1714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Pep Bonet"/>
          <p:cNvPicPr/>
          <p:nvPr/>
        </p:nvPicPr>
        <p:blipFill>
          <a:blip r:embed="rId8"/>
          <a:stretch/>
        </p:blipFill>
        <p:spPr>
          <a:xfrm>
            <a:off x="900000" y="4724280"/>
            <a:ext cx="170496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y aspects of Pha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focus countries to 16 (we had 8 in Phase 1). Will exponentially increase the number of journalists 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 to print, we will now have broadcast journalists in Af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hase 2 we hope to engage more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ional TB Manag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improve their media relations and communications skill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linkage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fected commun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trengthen their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 collaboration with the ACSM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907640" y="981000"/>
            <a:ext cx="568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Question for the Bo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orse phase 2 of th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sit our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panosaids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nk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-17136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Panos project do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31640" y="1052280"/>
            <a:ext cx="65134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 journalists and offering them fellowships to increase interest in and accurate reporting of TB issues in high burde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in-depth reporting that covers socio-economic aspects, affected communities and promotes accou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ing a global network of journalists continuously reporting on TB iss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ing NTP managers to work more closely with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a project with the Stop TB Partnership which is moving into Phas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1052640"/>
            <a:ext cx="468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enable journalists in selected high burden countries understand the linkages between TB, HIV/AIDS, poverty, urbanization and other socio-economic vulnerabilit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build skills and capacities of journalists to produce stories/features on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ovide journalists with regular access to expertise and information on TB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ovide greater media coverage on current situations, experiences and perspectives on TB, based on investigative reporting - includes the voices of those most margina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To enhance the coverage of TB in priority countries with a view to promoting informed public debate, national resource mobilization,  community mobilization and accountability in national efforts to fight 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TDI00418BAN"/>
          <p:cNvPicPr/>
          <p:nvPr/>
        </p:nvPicPr>
        <p:blipFill>
          <a:blip r:embed="rId5"/>
          <a:stretch/>
        </p:blipFill>
        <p:spPr>
          <a:xfrm>
            <a:off x="5516640" y="2492280"/>
            <a:ext cx="3627360" cy="24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cus Countri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ase 1 (2005/2006)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India, Bangladesh, Indones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SEAR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akist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EM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hilippi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WP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Zambia, Malaw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ern Afr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thiop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Ethiop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Hai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Caribb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cus Countri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ase 2 (2006/2007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6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India, Bangladesh, Indones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SEAR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akist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EM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hilippi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WP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otswana, Malawi, Namibia, South Africa, Zambia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er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R Congo, Kenya, Uganda, Tanzania, Ethiop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Easter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igeria, AFRO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os Wester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ject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rtise / award fellow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advisory panel—to include a senior journalist, WHO/Stop TB technical person and a member of the patient community/activist. Panel for each Panos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training workshops for journalists (training manual being develop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lows start working—preparing reports/article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the Panos Stop TB journalists network supported by Panos core regional sta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ournalists awar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7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first phase, fellowships were awarded to 17 print journalists (2 from each country and 3 from Indi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photojournalists were selected (3 from Asia and 1 from Afric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7667640" y="1916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7667640" y="2924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7020000" y="400536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5508720" y="22050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9"/>
          <a:stretch/>
        </p:blipFill>
        <p:spPr>
          <a:xfrm>
            <a:off x="5219640" y="422100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achievements- Phase 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 Journalists from around the world received the fellowships—forming a nucleus of the TB journalists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the year, there was marked increased in-depth coverage of TB issu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 than 150 stories produc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fellows now working with NTP on local level media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gional training workshop was held by Panos for Eastern Africa—included 25 journalists from Kenya, Uganda, Tanzania, Ethiopia, and Sudan. Held in January prior to launch of Global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ject is incorporated within the Panos Global AIDS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annual budget is US$1.5m funded by DANIDA and DFI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elected activities for the Media TB Fellowships project, WHO/Stop TB Partnership contributed US$59,930 for the first ph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econd phase, within the broad framework of the US$ 1.5m Panos programme, WHO/Stop TB partnership is expected to provide US$ 124,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7T11:51:15Z</dcterms:created>
  <dc:creator>Authorised User</dc:creator>
  <dc:description/>
  <dc:language>en-US</dc:language>
  <cp:lastModifiedBy>bakerl</cp:lastModifiedBy>
  <dcterms:modified xsi:type="dcterms:W3CDTF">2006-05-02T15:13:12Z</dcterms:modified>
  <cp:revision>122</cp:revision>
  <dc:subject/>
  <dc:title>Slide 1</dc:title>
</cp:coreProperties>
</file>