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</p:sldIdLst>
  <p:sldSz cx="9144000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0"/>
          </p:nvPr>
        </p:nvSpPr>
        <p:spPr>
          <a:xfrm>
            <a:off x="-3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1"/>
          </p:nvPr>
        </p:nvSpPr>
        <p:spPr>
          <a:xfrm>
            <a:off x="388440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6EC0C-E35D-44CE-9A27-9A08C355C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ufficient clinical trial sites that meet GCP/GMP standards with trained personnel, sound infrastructure and appropriate procedures for patient recruitment, compliance and retention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Harmonized regulatory guidelines, including fast-track approv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 robust and sustained pipeline of new drug candidates and back-up program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nimal models and validated surrogate markers broadly adopted by TB drug developers to aid in early identification of promising versus unpromising candidates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Biomarkers and surrogate endpoints to aid translational research and speed clinical development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esting programs that enable more rapid and precise dose selection and optimization of complementary drug combina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0F618-8076-4656-856E-D301711935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8471B-C773-4503-8080-6569E3ECFE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EADAD-5A89-4DF2-93B0-77D9DB94BB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0A1C8-0A48-433C-BFD0-B97A1EB1BF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256A2-4CC1-4B59-978E-1CF7293B583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4203B-F7F4-45F5-A52F-F60BB93EA55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B9106-0559-47D3-A109-33518B998BC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D54A4-116B-4AF7-B88B-10FB88562BD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74756-2F99-4AD4-9F4B-BCE2E6C73CE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5FA4F-6D29-4290-A87F-D05FF9E60A2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17EE8-03B1-426C-914C-50ED1C1649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942B7-6BAB-46A0-B23F-5C6309956B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113AE-C400-4AB7-87D5-0F9A9445B20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DA811-48B0-416E-AA1B-74F8FB63D93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0DAC6-FC62-4F50-8741-BD0E452297A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BB092-ECF0-4AB4-A1FC-174D2D3D10C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F35BB-4EA0-4D58-9085-0C3C44FD32C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65A6BF-3D86-4DE1-99B9-78A906D5A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808734-7A8E-4479-9F0D-1D879C08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5A927C-CB9F-4E22-AE6D-2DBCD2C43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49BFB1-B691-4A5E-8E43-ABE66DB42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1DC445-4740-497D-9798-FF1D17F17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5C4A1-D1B0-4E49-ACB9-F01B29084FF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B459EE-146B-47A0-A00D-2F5949070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110544-4227-43C9-A3B0-D6ADED6B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211CF0-279D-40E9-A29F-E3BB9570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EB8B3D-7CF2-4272-B250-65C2BFE1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A89A4C-469C-48EE-8E42-243D2760C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1B1C92-FFA3-443F-B82B-92E4A7AD3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EC7FB1-B0C1-4279-84F5-597213D42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14D3AF-209E-4DB3-B0DE-93D84DF29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514689-F7E9-46C3-A2BA-149EBC645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3265F2-B647-414C-A9DB-23DE0BD90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CBE34-0DF8-43AF-B04C-94F5231C4EC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ACD151-BA40-4CB7-AE05-3500AE48A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30C6CB-2865-4CAB-8591-F312B1861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62EB24-F673-452D-8E57-3F557456A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561E19-9F96-48FE-AF37-DB2D0F92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EC1174-B10A-4F96-BEF2-793AAF1E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B58E45-3865-42AE-AFFF-3D0D6384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A779A8-E34B-4687-AF12-D1CAA84DF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73AAE5-7F50-4418-B1DF-792AC7F85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BD56ED-A2FB-487E-BFE7-724C68955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CEF67-132E-4476-B676-7A4B8F1635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2670C-04D6-4C1F-B02A-76E6CDD822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FA6BB-057A-45BA-8D1B-5BAFE6EE21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0F026-DC56-4A53-9F32-C4DCD97986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5123E-742E-4485-8BDA-A664414E96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33720" y="6854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2516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cc251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33720" y="1523880"/>
            <a:ext cx="6858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55272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A53D1-E424-4F57-A31D-8D3222DA49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2516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cc2516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FDBBA-DA48-4D87-B269-3266ECA3E4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FBF9B-5C92-4508-8435-7CFE2F5A9F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70061-51BA-4398-918A-B6EDA16E2F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ing Group on New Dru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762120" y="3580920"/>
            <a:ext cx="76197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perationalizing” the Strategic Pl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71440" y="4832280"/>
            <a:ext cx="680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p TB Partnership Coordinating Board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uja, Nig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 24-25,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orking Group Needs</a:t>
            </a:r>
            <a:br>
              <a:rPr sz="40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rom the Strategic Pla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71600" y="2895120"/>
            <a:ext cx="7315200" cy="44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obust and sustained new drug pipel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nical trial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monized regulatory guidelines, fast-track appro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l models and validated surrogate mar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markers and surrogate end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432240" y="2438280"/>
            <a:ext cx="28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2006 – 2007 Fo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mph" presetID="16">
                                  <p:stCondLst>
                                    <p:cond delay="1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1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1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160"/>
                            </p:stCondLst>
                            <p:childTnLst>
                              <p:par>
                                <p:cTn id="13" nodeType="afterEffect" fill="hold" presetClass="emph" presetID="16">
                                  <p:stCondLst>
                                    <p:cond delay="1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59"/>
                            </p:stCondLst>
                            <p:childTnLst>
                              <p:par>
                                <p:cTn id="18" nodeType="afterEffect" fill="hold" presetClass="emph" presetID="16">
                                  <p:stCondLst>
                                    <p:cond delay="1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9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20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21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23520" y="233208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plete landscape of TB compounds in develop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detailed inventory of clinical trial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logue with regulatory authorities on guidances nasc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gent need for funding - $3.6B gap for drugs alone (2006 - 2015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514600" y="3200400"/>
            <a:ext cx="63244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990720"/>
            <a:ext cx="67820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04920" y="1981080"/>
          <a:ext cx="8762760" cy="4647960"/>
        </p:xfrm>
        <a:graphic>
          <a:graphicData uri="http://schemas.openxmlformats.org/drawingml/2006/table">
            <a:tbl>
              <a:tblPr/>
              <a:tblGrid>
                <a:gridCol w="2666880"/>
                <a:gridCol w="3352680"/>
                <a:gridCol w="274320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G Role/A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bust and sustained pipeline of new drug candidates and back-up progra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uct comprehensive mapping of the global TB drug portfolio via a web-based survey and make results available to WG member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vey launch: summer 200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 finalization and presentation: fall 200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rmonized regulatory guidelines; fast-track approv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e and sponsor open forums on key regulatory issues in TB drug development with regulatory authorities, industry and WG memb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conference: Washington, DC, December 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conference: Europe, September 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fficient clinical trial sites meeting GCP/GMP standar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ate and disseminate results of clinical trial site assessments by WG partn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go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2365560" y="1069920"/>
            <a:ext cx="533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ork Plan and Time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4T01:10:34Z</dcterms:created>
  <dc:creator>Beth Oldham</dc:creator>
  <dc:description/>
  <dc:language>en-US</dc:language>
  <cp:lastModifiedBy>bakerl</cp:lastModifiedBy>
  <dcterms:modified xsi:type="dcterms:W3CDTF">2006-05-02T15:02:01Z</dcterms:modified>
  <cp:revision>20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EmailEntryID">
    <vt:lpwstr>00000000F5BE291CF156FA40B2C348AEB191C4DD449A2C00</vt:lpwstr>
  </property>
  <property fmtid="{D5CDD505-2E9C-101B-9397-08002B2CF9AE}" pid="3" name="_ReviewCycleID">
    <vt:r8>984594159</vt:r8>
  </property>
  <property fmtid="{D5CDD505-2E9C-101B-9397-08002B2CF9AE}" pid="4" name="_ReviewingToolsShownOnce">
    <vt:lpwstr/>
  </property>
</Properties>
</file>