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5E36-5366-4A67-ADFA-2BE5CFC85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that the figures are cumulative, and that they exclude the number of consult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enario 2, which is based on the assumption of a higher number of applications than scenario 1, will require hiring even more staff over the course of the expansion ph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DD9F-5724-4306-A65F-2E75DAD77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76A1-070D-4E62-AE34-C7BABB90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8B0D-938C-42F2-930B-82090F39C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1B72-2C04-4121-9672-DA88147C4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71F0-7227-411F-837A-5A6AD9B7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8223-811A-4CD4-88D9-E5CE759B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978C-ABC9-4701-8EFC-8EC3CF6F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C2C1-3E66-4F76-9F72-304EA3F5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E9C2-75D9-4515-AC6F-42D89384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289E-3C5D-40B5-80F0-62FDE7D5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5B65-4A15-4B24-9684-FE42C4C4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640A-C30F-4B6F-AD1E-E8A38D19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FF42-496A-457E-86ED-93726C7D4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9325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s for operationalizing the Strategic Plan of the Working Group on DOTS-P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0952" t="1134" r="3247" b="0"/>
          <a:stretch/>
        </p:blipFill>
        <p:spPr>
          <a:xfrm>
            <a:off x="4859280" y="1197000"/>
            <a:ext cx="3376800" cy="4464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539640" y="2166840"/>
            <a:ext cx="338292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nagement of MDR-TB integrated into routine activities of TB control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800,000 MDR-TB patients to be treated over the next 10 years at estimated cost of US$6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760" y="1238400"/>
            <a:ext cx="465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implementatio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f the Strategic Plan of the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13400" y="5735520"/>
            <a:ext cx="3919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 Thelma Tupasi, Chair of W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rdinating Board meeting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uja, Nigeria, April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llenge 1: Increased and sustained  commitment to scale-up sound TB control programmes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growth projections for scaling up MDR-TB manage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1297080"/>
            <a:ext cx="8137440" cy="53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403280" y="1766880"/>
          <a:ext cx="6840720" cy="1733400"/>
        </p:xfrm>
        <a:graphic>
          <a:graphicData uri="http://schemas.openxmlformats.org/drawingml/2006/table">
            <a:tbl>
              <a:tblPr/>
              <a:tblGrid>
                <a:gridCol w="2200320"/>
                <a:gridCol w="1108080"/>
                <a:gridCol w="1211400"/>
                <a:gridCol w="1109520"/>
                <a:gridCol w="12114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16000" y="3789360"/>
            <a:ext cx="2224080" cy="2808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133344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89000"/>
            <a:ext cx="81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 2: Human resources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7720" y="3933720"/>
            <a:ext cx="4599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 of properly trai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ed for scaling 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country level is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timates of GLC staff needs at WHO HQ,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onal and country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15920"/>
            <a:ext cx="9144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llenge 3: 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st of the MDR-TB burden estimated is not being been diagn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1052640"/>
            <a:ext cx="7991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976320"/>
          <a:ext cx="8756640" cy="581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76320"/>
                    <a:ext cx="875664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851280" y="3141720"/>
            <a:ext cx="2592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estimated 4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detection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00720" y="4869000"/>
            <a:ext cx="2266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estimated 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ST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644688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WHO/STB/TH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 4: Drug suppl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ted quantity of quality-assured manufacturers an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335772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C mechanism procures onl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ven drugs from six manufacturers, all of them meeting at least GMP standards of WHO or a stringent drug regulatory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pdate on WHO Prequalification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 seven manufacturers appl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 dossiers submit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manufacturer WHO GMP 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product yet WHO 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87640" y="1411200"/>
            <a:ext cx="37544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ddressing the challenges for operationalizing the Strategic Plan of the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496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ed commitment to scal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siness plan for the GLC devel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quest to the GFATM to contribute funding GLC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untry level plans for MDR-TB scale up in key countries (China, India, Russia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lan for training trainers on MDR-TB management through WHO and partn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termine the gap in human resources at country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ratory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lerate the Global Plan for Strengthening laboratory capacity, including culture and drug susceptibilit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ug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lerate the WHO Prequalification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engthen the GLC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creasing the size of the market of second-line anti-TB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9:37:35Z</dcterms:created>
  <dc:creator>jaramilloe</dc:creator>
  <dc:description/>
  <dc:language>en-US</dc:language>
  <cp:lastModifiedBy>bakerl</cp:lastModifiedBy>
  <dcterms:modified xsi:type="dcterms:W3CDTF">2006-05-02T15:00:24Z</dcterms:modified>
  <cp:revision>41</cp:revision>
  <dc:subject/>
  <dc:title>WHO's role in addressing drug-resistant tuberculosis: opportunities and challenge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