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0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1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964B-5324-42AD-8EBE-78D291DFF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ufficient clinical trial sites that meet GCP/GMP standards with trained personnel, sound infrastructure and appropriate procedures for patient recruitment, compliance and retention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armonized regulatory guidelines, including fast-track approv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robust and sustained pipeline of new drug candidates and back-up progra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nimal models and validated surrogate markers broadly adopted by TB drug developers to aid in early identification of promising versus unpromising candidate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Biomarkers and surrogate endpoints to aid translational research and speed clinical developmen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esting programs that enable more rapid and precise dose selection and optimization of complementary drug combina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548C4-32C3-43E4-A197-C58C93B5A3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5B0AC-0C3F-4DF6-A2C5-9C2C5F4028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C5CAA-0AC8-46AA-A7B8-F30A723F5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5E5AC-6D33-4C74-83BE-9E81A5C265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5A36D-277C-436D-81FF-1C5B44BA87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1DF71-7BB3-4441-A299-F33A368E37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B1090-D98A-4F50-9728-B4B41DA60C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3FC88-E5E8-47CA-B8B7-591BE8B274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55066-219E-4580-BDD4-C013BB2182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C4484-A1EC-4707-B655-C3E7AB92F5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3298E-6981-40CE-A464-71FF3F680F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6653E-FE20-40FE-A794-5188C1F6D2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3870B-E11E-4DB4-BE4A-8928060B71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2F65A-91F8-454A-83BD-F0AC59B674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6ED0D-103E-4BC6-96DD-17074725B1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8A43A-4F89-410C-895E-E5D9589913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402C2-4B9C-43D1-AA78-5A8E0BDD55D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8CE79-E85A-4CF2-8CD3-3551F3DC9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4D30D-A88B-4D9B-BA2C-B20CC1FF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D6488-4DC0-4FD0-89F6-108B8CDE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53775-C792-4EB9-9B78-D69B4609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CCE2F-036E-4301-AEB4-70003CC2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AFBFD-0E65-418D-8C9C-BC9EFDDF20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0E383-C76F-4AC4-BA47-F3538631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4F72A-9701-4388-889F-985C472D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AA48F-85BE-43A8-AF5E-DFE4D092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9D69E-23FC-475F-B40B-3EC10A3F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F4E0F-12CC-41E9-85F2-8E756172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AF8BF-145E-4905-A953-974E2684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EB25E-C8FA-407A-A030-41D523E1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CD69BD-63C0-4158-B8FF-7BD7250B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6C69A4-1F23-4929-9ECB-25323B7D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EFFBD1-9AFF-4135-AFB8-C7A2760A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4F02E-E6A6-4676-8F37-9C2F83A44BD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FC6AD5-766A-4C2F-9F7D-1D887210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322F6E-2806-4224-81DC-DD4EBF1F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0BFFE1-298E-45F2-A9B8-70244165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CD883A-44B7-42F3-BBA0-9CC0891D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182374-D275-4E1E-A1E2-9EC433BE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E55A50-90ED-4B62-A550-0657FBA1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D6A4A2-F17B-4BE6-9600-39DD0077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4CC96E-171D-4397-9CBA-11718C1E5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381AEC-04C3-4DB0-8024-603622CD3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6CB34-A9F1-44C4-8634-53C68C212D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65976-DCBA-4B23-B796-50E479294D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F68FF-4730-4FA6-B589-4297E87AE8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91407-B771-4C91-94BF-984D8C78D4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3095B-7943-4BBE-B3BC-64A1D3BCE1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720" y="6854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251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cc251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33720" y="152388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8ECA-6740-4299-938B-26C1F1A30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251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cc251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DEAE-36BD-4E4F-AD40-DAFF9271A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F347-AA78-4A14-A6AA-280F636B7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C1F1-8FB0-434B-91C5-CA20412F6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Group on New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62120" y="3580920"/>
            <a:ext cx="7619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perationalizing” the Strategic Pl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71440" y="4832280"/>
            <a:ext cx="680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 TB Partnership Coordinating Board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uja, Nig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4-25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orking Group Needs</a:t>
            </a: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rom the Strategic Pla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731520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obust and sustained new drug pipe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trial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monized regulatory guidelines, fast-track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 models and validated surrogat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arkers and surrogate end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32240" y="2438280"/>
            <a:ext cx="28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2006 – 2007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160"/>
                            </p:stCondLst>
                            <p:childTnLst>
                              <p:par>
                                <p:cTn id="13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59"/>
                            </p:stCondLst>
                            <p:childTnLst>
                              <p:par>
                                <p:cTn id="18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3520" y="233208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plete landscape of TB compounds in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detailed inventory of clinical trial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logue with regulatory authorities on guidances nas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gent need for funding - $3.6B gap for drugs alone (2006 - 201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514600" y="3200400"/>
            <a:ext cx="6324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990720"/>
            <a:ext cx="6782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04920" y="1981080"/>
          <a:ext cx="8762760" cy="4647960"/>
        </p:xfrm>
        <a:graphic>
          <a:graphicData uri="http://schemas.openxmlformats.org/drawingml/2006/table">
            <a:tbl>
              <a:tblPr/>
              <a:tblGrid>
                <a:gridCol w="2666880"/>
                <a:gridCol w="3352680"/>
                <a:gridCol w="274320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G Role/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ust and sustained pipeline of new drug candidates and back-up progr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 comprehensive mapping of the global TB drug portfolio via a web-based survey and make results available to WG member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launch: summer 20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 finalization and presentation: fall 20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monized regulatory guidelines; fast-track appro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e and sponsor open forums on key regulatory issues in TB drug development with regulatory authorities, industry and WG memb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conference: Washington, DC, December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conference: Europe, September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cient clinical trial sites meeting GCP/GMP stand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te and disseminate results of clinical trial site assessments by WG partn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go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2365560" y="1069920"/>
            <a:ext cx="53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 Plan and Time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4T01:10:34Z</dcterms:created>
  <dc:creator>Beth Oldham</dc:creator>
  <dc:description/>
  <dc:language>en-US</dc:language>
  <cp:lastModifiedBy>bakerl</cp:lastModifiedBy>
  <dcterms:modified xsi:type="dcterms:W3CDTF">2006-05-02T15:02:01Z</dcterms:modified>
  <cp:revision>2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F5BE291CF156FA40B2C348AEB191C4DD449A2C00</vt:lpwstr>
  </property>
  <property fmtid="{D5CDD505-2E9C-101B-9397-08002B2CF9AE}" pid="3" name="_ReviewCycleID">
    <vt:r8>984594159</vt:r8>
  </property>
  <property fmtid="{D5CDD505-2E9C-101B-9397-08002B2CF9AE}" pid="4" name="_ReviewingToolsShownOnce">
    <vt:lpwstr/>
  </property>
</Properties>
</file>