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1D83-80A0-4B19-AF07-A813573CC2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F738-F8C4-47C8-87AE-AAEDEDD4A4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E6C0-A23F-4A3B-844B-19DBD827450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B3C5-6551-4AD3-BCFD-6C2A8DE45DE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B556-777C-45A9-A111-88DACBB5D42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110-E849-4C66-9CD1-EC9EF838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1E8-6948-47F9-AA17-B76BB303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4521-01C8-4257-BF7E-2D5238C5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CE1C-68BB-4A4F-9B5C-60306364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81CB-064F-4044-8729-3BFBCB76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F88C-2F06-48A2-8164-85E8AABD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88C7-1DD8-409D-BD58-59E7744E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4235-E02C-433B-8898-911ECF88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8C7E-0D1A-47DB-89E8-2DD41FC3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3308-F2A3-4CDC-91E5-097074C0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C324-AD79-41F7-AC7B-4E1B3E62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E8E-02F0-4989-9186-F5200F3A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A48E-E95E-4655-BA3D-7516F4FA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6E51-0820-4611-8C1B-436C95F6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99FB-1CB9-48F7-8401-D2FBBE0B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DAC5-997D-48CC-88EB-3F884277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5E5F-CB82-4FAF-A594-C1D4AE3E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664-D1E3-4C24-9C69-A4EDF269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11FB-C17E-4182-A0BC-4D0AB31C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3FC-2757-434A-A001-677A9024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2C9-CBB8-4D1D-AB53-8EC4911B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FF9-0BAE-429B-A99F-DBB476A4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B1B-72F4-464D-9533-24AA9278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155-4733-45AF-B58A-1033750D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090B-1B7A-453B-AF90-DF17EC71C47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EB8D-7883-41B0-A1CD-BCBA1458211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G on New TB Vaccines –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here do we go from here?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essons from GP1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5 vaccine candidates in phase I clinical trials by the end of 200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Lesson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Sense of ownership / buy-in by partners does not co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utomaticall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must position itself more prominently as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" 1st  stop shop " on vaccine R&amp;D matters, both insid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community and to the outsid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 must become more professiona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Mechanisms for a more rapid response by the WG to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pcoming challenges need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 strategic "scaffold" ("roadmap"/"blueprint") for th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ide range of diverse activities is need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hallenges for GP2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a safe, effective licensed vaccine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available at affordable cost by 201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	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Challeng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echnical:      lacking immune surrogate of protection, diagnosis of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clinical trial endpoints, in particular in childre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Economic:     estimated cost to bring existing candidates to licensure: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S$ 600million, estimated availability : US$ 60 million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Normative:    no regulatory capacity fro vaccine tria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in endemic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Participatory: few industry,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no endemic country participation i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formulation of research go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function: Need to increase response time &amp; visibility for the W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609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ow can the Board help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, Advocacy, Link with the TB control community for epidemiology, laboratory, trial site selection…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Use Board links with highest levels of government as well as grassroots to create a momentum &amp; pressure &amp; ownership in endemic countries for TB vaccine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</a:t>
            </a: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National Plans for TB Vaccine Development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</a:t>
            </a:r>
            <a:r>
              <a:rPr b="0" lang="en-GB" sz="32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</a:t>
            </a:r>
            <a:r>
              <a:rPr b="0" lang="en-GB" sz="3200" spc="-1" strike="noStrike">
                <a:solidFill>
                  <a:srgbClr val="990000"/>
                </a:solidFill>
                <a:latin typeface="Mistral"/>
                <a:ea typeface="宋体"/>
              </a:rPr>
              <a:t>tool (?) developmen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                       </a:t>
            </a:r>
            <a:r>
              <a:rPr b="0" lang="en-GB" sz="4000" spc="-1" strike="noStrike">
                <a:solidFill>
                  <a:srgbClr val="990000"/>
                </a:solidFill>
                <a:latin typeface="Lucida Handwriting"/>
                <a:ea typeface="宋体"/>
              </a:rPr>
              <a:t>research </a:t>
            </a:r>
            <a:r>
              <a:rPr b="0" lang="en-GB" sz="4000" spc="-1" strike="noStrike">
                <a:solidFill>
                  <a:srgbClr val="990000"/>
                </a:solidFill>
                <a:latin typeface="Mistral"/>
                <a:ea typeface="宋体"/>
              </a:rPr>
              <a:t>(?) </a:t>
            </a: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08720" y="4508640"/>
            <a:ext cx="3490560" cy="1150560"/>
            <a:chOff x="5508720" y="4508640"/>
            <a:chExt cx="3490560" cy="1150560"/>
          </a:xfrm>
        </p:grpSpPr>
        <p:sp>
          <p:nvSpPr>
            <p:cNvPr id="98" name=""/>
            <p:cNvSpPr/>
            <p:nvPr/>
          </p:nvSpPr>
          <p:spPr>
            <a:xfrm flipV="1">
              <a:off x="5572440" y="4508640"/>
              <a:ext cx="129276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720" y="4584960"/>
              <a:ext cx="135828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6480" y="4660920"/>
              <a:ext cx="3232800" cy="84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4200" y="4738680"/>
              <a:ext cx="2781360" cy="920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28720" y="4437000"/>
            <a:ext cx="1582560" cy="649440"/>
          </a:xfrm>
          <a:prstGeom prst="rightArrow">
            <a:avLst>
              <a:gd name="adj1" fmla="val 50000"/>
              <a:gd name="adj2" fmla="val 6092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661000"/>
            <a:ext cx="3241440" cy="647640"/>
          </a:xfrm>
          <a:prstGeom prst="wedgeRoundRectCallout">
            <a:avLst>
              <a:gd name="adj1" fmla="val 291"/>
              <a:gd name="adj2" fmla="val -148282"/>
              <a:gd name="adj3" fmla="val 16667"/>
            </a:avLst>
          </a:prstGeom>
          <a:solidFill>
            <a:srgbClr val="ffffff"/>
          </a:solidFill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20000"/>
                </a:solidFill>
                <a:latin typeface="Tahoma"/>
              </a:rPr>
              <a:t>Inspired by the National (African) AIDS Vaccine Development Plans (AAVI)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new WG Chai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  <a:ea typeface="宋体"/>
              </a:rPr>
              <a:t>Mr Michel GRECO, former CEO of Aventis (now Sanofi) Pasteu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MG is looking forward to strong interaction with the Board and counts on its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landscape has strongly improved over the last couple of years, the TB vaccine community is more ready to act in a coordinated fashion, to optimize resources and to develop standards that should ease the prioritization process down the roa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a continued need to open new research avenues as it is too early to assume that existing products will make it to marke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need for and the opportunities offered must be attacked more aggressively, more research, more advocacy, more fund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secretariat will need more resources to keep up with the with the growing task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going to be abn increased newsflow on TB vacines over the coming years and MG is looking forward to becoming a bearer of hopefully good news to the board in the fut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7T17:37:17Z</cp:lastPrinted>
  <dcterms:modified xsi:type="dcterms:W3CDTF">2006-05-02T15:03:14Z</dcterms:modified>
  <cp:revision>213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