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6153-AB8C-47AA-B094-A0B05AE3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B6D7-6CFE-49CD-BA55-1DA149DF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7BF-E510-4AA4-92A8-B71CC617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5E63-F41E-48DA-8245-88B9907B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5005-E20B-460C-B771-2338333C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951E-2F1F-42E2-9FE1-B8D627DF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A8E5-AC06-4441-A93C-EF43F80C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1446-66FB-495B-9C28-B0FECAB8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AACA-9EA3-4396-8FA5-59333794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C196-BBC6-47D4-916D-29C70E77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F371-B9C9-4E60-BB5E-F56FAF5C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B1F1-BF1C-4422-980D-83191612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1E98-B0D7-40D7-9318-039FEAEE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5BBA-5F3B-4A92-B16B-A8EF0CD5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9CFD-9B18-46E4-AB65-D4725F61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19C3-B604-4608-8628-07F75705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6E2D-83F9-4424-AFDC-F0CD0900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DD76-B524-4001-804B-3068E6B8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972-25F8-44D8-8F6E-31B48652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5661-139A-4543-B658-5885092B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EE7-2586-458F-8344-E312221A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58E8-41CD-47CC-8641-007B7BD7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991-A4C6-4BB2-9B52-0AF9B1B7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4581-0EB5-48BE-A510-8D03F087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B0BA-DF9C-494D-A2CD-D3BDB9E1242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8A22-4ECD-4E42-90DD-7D568EAE2ED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vercoming Challenges to Implementing the Global Plan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iat, STOP TB Working Group on New Diagno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792000"/>
          <a:ext cx="9144000" cy="606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00"/>
                    <a:ext cx="914400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304920"/>
            <a:ext cx="903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rgets for Test Introduction Leading to Sustainable Adop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Engaging Industry  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level aware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&amp;D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ory hurd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into policy chan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ing TB to HI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sector funding for basic and use-inspired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analysis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iled study in 7 H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Drug Facility Mo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and lab systems strengthe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international convening power and influ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10666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Technical &amp; Financial Challenges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biological 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ies fa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cos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blic sector funding for basic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portfolio must be risk-balanced comprising multiple options at each lev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commitments covering the entire planning phase of the proj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6240" y="106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Organizational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nsition from an "interest group" that promotes network building…..to a "working group" will require dedicated staff tied to milestones and deliver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d subgroups – latent TB infection, diagnostic trials, market entry, advocacy, use-inspired resear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STOP TB Coordinating Board Respo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dorse and advocate for research for new diagnostic too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 and operationalize 're-tooling' concep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nancial investment that spans broad areas of research and  spans the full development path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sponsive to new knowledge====changes in poli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54:49Z</dcterms:created>
  <dc:creator>cunninghamj</dc:creator>
  <dc:description/>
  <dc:language>en-US</dc:language>
  <cp:lastModifiedBy>bakerl</cp:lastModifiedBy>
  <dcterms:modified xsi:type="dcterms:W3CDTF">2006-05-02T15:02:36Z</dcterms:modified>
  <cp:revision>20</cp:revision>
  <dc:subject/>
  <dc:title>Overcoming Challenges to Implementing the Global Plan </dc:title>
</cp:coreProperties>
</file>