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D42-A99D-435B-A4F4-4437F9C5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3281-37F1-429B-86D4-7DE13574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3EA-4712-4F93-91FB-25CB377B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842-9C39-4306-A951-1129069B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E57D-BC14-4C35-B460-CF21FDBA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558C-3D2A-4E66-A426-8853BBBA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8351-364A-49CA-A79C-49381368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7E82-E7BD-4143-B686-5F60D66A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8E60-DCFA-4230-A3E2-A606C689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FD9-C212-4D58-9196-31B5A45A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101-778E-4945-B22B-5530D4BE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D04-569B-4BCD-9FB2-97D34531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CC9E-C5D9-4BB8-8A3D-0527C94177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olicies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Framework, Guideli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Policy, M&amp;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, “Protest” less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testing policy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services       2000 . . . 2004         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HA screened for T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. . .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~100,000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/HIV patients on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. . . .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,000         0.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onitoring &amp; evaluation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g about 2-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activities grow very fast percentage 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3500280"/>
            <a:ext cx="144360" cy="1224000"/>
          </a:xfrm>
          <a:custGeom>
            <a:avLst/>
            <a:gdLst>
              <a:gd name="textAreaLeft" fmla="*/ 42480 w 144360"/>
              <a:gd name="textAreaRight" fmla="*/ 1443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748720" y="3500280"/>
            <a:ext cx="144360" cy="1224000"/>
          </a:xfrm>
          <a:custGeom>
            <a:avLst/>
            <a:gdLst>
              <a:gd name="textAreaLeft" fmla="*/ 0 w 144360"/>
              <a:gd name="textAreaRight" fmla="*/ 1011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3200">
            <a:off x="5508720" y="1268280"/>
            <a:ext cx="1314360" cy="1749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558400">
            <a:off x="6156360" y="1341360"/>
            <a:ext cx="1290600" cy="168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595000">
            <a:off x="6803640" y="1341360"/>
            <a:ext cx="1236600" cy="166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0613600">
            <a:off x="7308360" y="1557360"/>
            <a:ext cx="1089000" cy="1512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0583000">
            <a:off x="7740360" y="1557360"/>
            <a:ext cx="1098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era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4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B/HIV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 200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jointly written TB/HIV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ational policy for TB/HIV testing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er routine HIV testing for TB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oordinating body for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TB/HIV coordination body/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2006: estimates substantially hi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2035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6352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57192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0053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54450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276640"/>
            <a:ext cx="287280" cy="3960720"/>
          </a:xfrm>
          <a:prstGeom prst="downArrow">
            <a:avLst>
              <a:gd name="adj1" fmla="val 50000"/>
              <a:gd name="adj2" fmla="val 34467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00" y="5999040"/>
            <a:ext cx="8101080" cy="398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HEALTH SYSTEM STRENGTHENING IS COMMON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94172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36600" y="4341960"/>
            <a:ext cx="2166480" cy="1008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ACCEL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OF NEW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9624200">
            <a:off x="-96840" y="2687760"/>
            <a:ext cx="919800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6:58:29Z</dcterms:created>
  <dc:creator>elzingag</dc:creator>
  <dc:description/>
  <dc:language>en-US</dc:language>
  <cp:lastModifiedBy>bakerl</cp:lastModifiedBy>
  <dcterms:modified xsi:type="dcterms:W3CDTF">2006-05-02T14:59:32Z</dcterms:modified>
  <cp:revision>20</cp:revision>
  <dc:subject/>
  <dc:title>TB/HIV Challenges, Abuja </dc:title>
</cp:coreProperties>
</file>