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FC46-48AB-4E06-AB6A-DF88D31C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B08-0B18-4794-B938-BBF926C3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A7EC-83A7-433E-ACC0-8CF09435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915C-FBAA-437B-899C-48C86134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91CA-B2A3-4128-8531-8774E539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75C0-0697-4287-815F-B09EF0A6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77A9-074E-4763-B106-00D47F91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6617-15D8-4663-ADB8-11654ABC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8004-FA26-4922-A518-AE621CFB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47FB-088F-4035-B5A6-250E7113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99DA-4391-4B89-9FDC-FDF66475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C57-596C-43D9-A4FA-E1F11717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D234-4F6C-4055-B63D-3E8474FB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3740-95F8-4A49-AB6C-2209074E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30B2-2098-4697-B41B-B36EEBEB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A394-B7B2-4929-AD58-AB25852F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9149-4F14-42F0-B418-8BB2EB31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4B5-0E52-4862-9565-1BB02024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6E7-41EF-42CA-8F53-39523396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51E-95F4-4CD6-84F9-AD639294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C95-40AB-4F22-B37F-ED7CA515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1357-87BB-4A10-8DE0-1FF2F3F2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F6AC-1D35-44BB-AE1C-61B77ED8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776-FCF5-43EE-B440-2FEEC904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7A0C-FC4F-448E-B001-47D00448B57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BF15-4909-4D3D-A4BD-47E24E2A2D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buja 24-25 April, 2006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gress on commitments made by the WHO Regional Office for Africa during the 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2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resource mobilization for scaling up TB control activities at country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d implement TB Strategic Information systems for Programme monitoring and evaluation at all lev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leadership for TB Control has been re-affi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special urgent need to strengthen the human resource and financial capacity of Programmes at country and WHO Regional office levels to intensify and scale up TB Control inter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ry ownership, partnerships and coordination of TB control interventions under the leadership of national authorities are key for su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thank you for your atten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pres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s made by the WHO Regional Office for Africa during the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ordinating Board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s undertake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lle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y forw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mitments made during the 8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oordinating Board meet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ocate with African leadership for increased action against TB in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 a Regional Roadmap for intensifying TB Control action towards the MD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e with Stop TB Partnership secretariat to organize an African TB Financing Summit during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vocating with African leadership for increased action against TB in the Region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A Resolutio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declaring TB an Emergency in the African Region was adopted by the 55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session of the Regional Committee for Africa in August 2005 in Mapu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RD has formally called up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echnical and financial partners [Stop TB Partnership, IUATLD, KNCV, USAID, CDC, CIDA, etc), regional economic and technical bodies (AU, SADC, ECSA,ECOWAS, OCEAC, etc] and Ministers of Health of the African Region to support implementation of the Resolu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ritten commitments to support operationalisation of the Resolution has been obtained from Regional economic communities including the AU, OCEAC and SAD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th technical support from WHO (AFRO &amp; HQ), the Conference of East, Central and Southern African Ministers of Health (ECSA) adopted a Resolution ratifying the Maputo declaration and committing to operationalize it at country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egional Medium term Strategic Plan for TB Control 2006-2010 is being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Regional guidelin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for operationalizing the Maputo Resolution at country level are being develop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A Regional Plan of Ac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r implementing the Maputo Resolution has been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ional TB Advocacy, Communication and Social Mobilization Strategy (ACSM) is being developed in collaboration with Stop TB Partnership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cess to recruit Regional TB ACSM focal point is underway with funding from the Stop TB Part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B focal points have been placed in each of AFRO’s 3 inter-country team location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priority diseases (Ouagadougou, Libreville and Har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Costed Inter country support team (ICST) Programmes of 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2006-2007 have been elaborated with respective WRs and ICST sta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echnical support is being provided to countries and Regional Economic Communities to develop frameworks and plans of action for responding to th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TB declared as an emergenc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 some countries and process to declare an emergency underway in oth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Emergency plans developed and launched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some countries and under development in 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tions undertaken: Collaborate with Stop TB Partnership secretariat to organize an African TB Financing Summit during 2006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FRO is committed to work with Stop TB Partnership to organize the financing summit within 2006 on a date and venue to be agr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lleng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 Programme management capacity for strategic planning, monitoring and evaluation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decentralization of TB services for increased access and better coverage for maximum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human resources for implementation and scale up TB control interventions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dequate financial resources at all levels for intensified TB control activities in the Re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1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 scale up of intensified TB control interventions in high burden countries (prevalence &gt;300 per 100,000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 / build and sustain national capacity for implementation, monitoring and evaluation of intensified TB control interven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coordination of partner interventions by national authorities through implementation of a common acti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/ build partnerships for TB control at all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8:23:02Z</dcterms:created>
  <dc:creator>nkhomaw</dc:creator>
  <dc:description/>
  <dc:language>en-US</dc:language>
  <cp:lastModifiedBy>bakerl</cp:lastModifiedBy>
  <dcterms:modified xsi:type="dcterms:W3CDTF">2006-05-02T15:06:27Z</dcterms:modified>
  <cp:revision>38</cp:revision>
  <dc:subject/>
  <dc:title>TB CONTROL IN THE AFRICAN REGION</dc:title>
</cp:coreProperties>
</file>