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C994-719D-46BA-A591-0A2AF061D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825A-8666-4EB6-B453-A3CB93EB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BCF8-45B2-4837-889B-54F3D838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1480-576D-4917-A52C-86AF9D87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99A-D4F3-47DC-9508-83B48657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64FE-CCEA-402E-909A-476F488B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697-4A2F-47EA-BDE8-90639DB4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AAD-63C6-4CF2-91A9-0FFBFD5B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93FB-762D-4782-BCFC-1F04BD8D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9F6D-1160-4761-9DAC-7F6F8AF1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120-E43A-40D4-B137-8DCB3155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5CD7-CD45-4947-964C-AEA063F6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7EC-1D3A-45D3-8C2D-BDF85C4A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6C2F-9559-472A-B9AD-59A8FF0D0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708360" y="6284880"/>
            <a:ext cx="1704960" cy="457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7380360" cy="765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09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09920" y="3889440"/>
            <a:ext cx="2521080" cy="114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204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73200" y="28526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7928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0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320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804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679284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78000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79284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3780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3784680" y="5232240"/>
            <a:ext cx="17049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top TB Partnersh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ernal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issioned by the Stop TB Partnership Coordinating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nest Loevinsoh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1701720"/>
            <a:ext cx="2987640" cy="4319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03 External Evaluation Key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557360"/>
            <a:ext cx="55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widely respected  global health partnership, its mission and strategy commanded resp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ded value to what partners were  d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ftly created new initi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ilt a broadly supported Partnership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unched  a complex Global Drug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461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objective of the Stop TB Partnership external evaluation is to determine whether the global Partn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Adds major value to the individual efforts of      the Partners and exercises impact over the TB epidem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Has the appropriate strategic focus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Has appropriate structure, governance arrangements, managerial mechanisms, and management processes to continue functioning in an accountable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rinci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igorous and objectiv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urate reporting on evaluation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18640"/>
            <a:ext cx="91440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olicy Ke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783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d-based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mative in n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vide assurances on the Partnership's risk manag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olvement of stakehold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de dissemination of evaluation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6237360"/>
            <a:ext cx="172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640" y="2125800"/>
            <a:ext cx="8461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 elements of the Partnership, including GDF to be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to be covered 2001 to 2006, using  2003 evaluation and WG review as key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selection of countries where Partnership and GDF activities are being undertaken to be consul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udget around $800,000 (2003 evaluation cost US$882,3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unding secured from D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6308640"/>
            <a:ext cx="1512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1840" y="1413000"/>
            <a:ext cx="8713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lev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dressing problems of high priority  as viewed by actual and potential stakehold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ectivenes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ble to bring TB control to a higher level; give impetus to the Stop TB Movement and assess the impact on the iss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essing the outputs of the Partnership and their quality in relation to resources, funds and human efforts inves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stain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termining the suitability of the Partnership structure and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Milestones and Timelin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March to Decem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25600"/>
            <a:ext cx="885672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 - Finalisation of the working arrangements and commencement of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ly  - First draft report receiv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ptember – Second draft report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ctober- CB discussions on second draft report  management response prepar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ember- Final report received; approved by CB and disse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Board is as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325600"/>
            <a:ext cx="88567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dorsement of the evaluation objectives, variables, and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nal approval of the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ablishment of a steering committee (5 members) or mandating responsibility to the Ex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4:49:26Z</dcterms:created>
  <dc:creator>maggir</dc:creator>
  <dc:description/>
  <dc:language>en-US</dc:language>
  <cp:lastModifiedBy>user</cp:lastModifiedBy>
  <dcterms:modified xsi:type="dcterms:W3CDTF">2006-11-28T05:10:03Z</dcterms:modified>
  <cp:revision>1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