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7071-89DB-4EF8-9127-B339FF78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BED9-AC31-4D5A-A58B-2F2CF6DA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5A88-3E6A-4A01-A17E-66918BD7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BA79-18EE-4437-9D13-1BBAEFE5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7A9F2-CDF8-4E9A-858B-D33DCD51F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2A643-B239-4C59-A738-9B377C1B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14625-7E33-472A-B756-8DB997D0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62198-CDC9-4DFB-9366-E5636620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577A9-FE92-48CE-9912-DD95EE1C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F6CAF-C176-42A5-BA56-924A8F74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DDB70-91FD-4125-8701-443A237F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A804-9B95-445F-8B24-EFD55E5D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97B60-2B3F-4887-ABD3-473669E5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EC34D-A416-4501-8ADB-ED0F5544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901A4-5BB0-4A58-8080-B6DD641D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8EC9D-9557-4958-B872-FE099E262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BF989-DB4E-4883-825E-23C43FF8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98182-ECB8-4107-A2CD-CEB2A0E4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4692D-2ACC-4BA9-ABB1-CBE1AB0E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6BFC2-930D-4EE7-A074-882E30EC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F0F20-3879-467A-9D5B-5A65F696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B99B6-9D6C-4D78-8E38-7F557998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6FC6-1509-4EA8-B260-5E980433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FA8C2-61F6-4D7D-AA93-B2183F37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0448D-C977-4682-B787-B10D1CB2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B1831-37BA-4F48-94A9-4022BB70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AF6FF-C5CE-4869-8119-FB2BF63A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834F8-0BE8-4280-A15D-7766EF71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54C51-E357-4DF2-A122-708E5031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7C149-6825-42FA-8DEC-7D7F5ADA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19CE-FAF4-4E2E-8B28-60C97433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F3B3-5797-44D1-9730-84A58747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B353-40D6-4300-AF93-371E9A1C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CB53-E02E-4D4A-9C83-A4AB3E9A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7117-337F-45C8-B7D4-7BD768DA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62C5-5B58-4BEA-A793-D358C294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9644-FBA8-473E-BA33-B0813451D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706A-2F7F-4767-93A9-DA6A09C2C2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F74C-56C6-4D47-8BAB-2B7FBA3A2C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13012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TB Research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id Syed, Joanne Carter, Barbara Laughon, Peter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33280" y="463680"/>
          <a:ext cx="8675640" cy="593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463680"/>
                    <a:ext cx="8675640" cy="59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6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77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83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89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4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95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01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6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07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564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457200" y="46836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6836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13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457200" y="380880"/>
          <a:ext cx="8229600" cy="562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229600" cy="56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19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569880" y="539640"/>
          <a:ext cx="7975800" cy="545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880" y="539640"/>
                    <a:ext cx="7975800" cy="54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4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25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discussed in Abu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been accomplished si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uture dire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pecific deliver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049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Why are the GP2 numbers insuffici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P2 doesn’t include basic science or fully account for operational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P2 doesn’t account for research trial capacity building to address the R&amp;D needs for new tools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umptions of the funding available for TB new tools going into the first year of GP2 (2006) is less than what TAG tracked for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s available in 2005 needs to be increased by nearly 5 fold in order for the GP2 resource needs to be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440" y="5722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34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Y05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P 2006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se 5-fold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P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AG 10 yr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stimat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creas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y new to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diagnos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51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drug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vaccin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4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tools sub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6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8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3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957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c re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ed/Infrastructu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al re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tot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4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TB R&amp;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9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95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uch TB R&amp;D Funding is Really Needed (Dollars in Million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8120" y="5572080"/>
            <a:ext cx="120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8120" y="5400720"/>
            <a:ext cx="13557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41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320" y="0"/>
            <a:ext cx="49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y are the Global Plan Numbers Insuffic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45720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34290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50292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 a comprehensive global movement for TB R&amp;D to reach Global Plan 2 go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R&amp;D expenditures and activities need to be systematized and tracked annu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should increase reporting transpar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 recommends 5-fold increase, to 2 B/y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)  $1.05B/year is needed for new tools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i) $950M/year is needed for basic science, infrastructure development, and operational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8120" y="5842080"/>
            <a:ext cx="1051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7320" y="567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52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future dire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tr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ssessment every 1-2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this data to identify new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ocating for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Fair shar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Calculating Country Fair Shares of R&amp;D Need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oanne Car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ULTS/RESULTS Educational Fu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asic Assump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% of annual R&amp;D needs to be contributed by wealthy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ir share calculated as country’s percentage of global wealth (Country GNI 2005* as % of total World GNI 200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ir shares estimated for 22 OECD DAC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*GNI source: World Development Indicators database, World Bank, 1 July 2006. Online. http://siteresources.worldbank.org/DATASTATISTICS/Resources/GNI.pdf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39988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sed on the GPSTB 2006-2015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R&amp;D need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900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US Fair Share (28.83%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259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sed on TAG expanded R&amp;D estimat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R&amp;D need =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2 b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US Fair Share (28.83%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577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Outstanding Issues/Ques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cision on overall annual R&amp;D ne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ining and expanding current donor financing database building on TAG repor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thodolog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ECD/DAC countries only? Include other Higher-Income Countries (e.g. Middle East – Bahrain, Brunei, Kuwait, Qatar, Saudi Arabia, UAE; Asia – Hong Kong, South Korea, Singapore)? Separate “share” for the EC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nor countries providing 100% of R&amp;D? What about private sector and foundations? What about some endemic countries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Turning Fair Shares into an Advocacy Tool: </a:t>
            </a: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Example of the GFATM Donor Report Card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ading Sca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sed on % of each country’s fair share pledged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+  =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≥ 11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A    =  100-109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B    = 81-99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C    = 61-8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D    = 51-6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F    = 0-5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N   = Incomple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discussed in Abuj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ment that R&amp;D is critical to GP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 is Resear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date that the Partnership should advocate for increase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 are current resou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Does Report Card Look Like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835440" cy="4976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3830760" cy="49528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572000" y="1371600"/>
            <a:ext cx="0" cy="495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research activities in TB and TB/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 Federal TB Task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global funders of basic and clinical science (NIH, Gates Foundation, USAID, TB Alliance, FIND, Aeras, CDC, MRC, Wellcome Trust, EC, companies) to meet, compare portfolios and clinical activities/sites/resources, identify gaps and potential syner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utilization – coordinate lab, human resources, and clinic strengthening to benefit care and expand research opportunities and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future cooperative initiatives to fill research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tions for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of New Tools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connections for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inish concern re: duplication of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mobilization of new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of advocacy positions based on scientific landsc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 tender for resource 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Grant will cover some of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ate fair shar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CSM can best use TAG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d hoc group to map research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se activities fit within WG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 Deliverables (6 month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 awarded for tracking (Partnersh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of top donors (RESULTS/TA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ocacy plan (ACS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of research activities (ad hoc gro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accomplished si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tion of “research” - S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demiology and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zing impact of curr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&amp; D for new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res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tion of current resources -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50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funds TB R&amp;D; What do they fund; What are the gaps, What is nee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y Cindra Feuer, Javid Sy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b Huff, &amp; Mark Harr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Action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th Stop TB Partnership Coordinating Board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 29-30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karta, 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TB R&amp;D spending for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2005 actually compare to GP’s assumptions for 2006 and goals for 201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compare to what is really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3120" y="5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4720" y="601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60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Gs theory of change is borne out of 25 years of experience in HIV research activism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esearchers+Policy Makers+Community Activists= Increased Political Will+ Resources+ Efficient and Effective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development of a comprehensive research agenda that is implemented in a coordinated fashion can greatly improve research effectiveness and effici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3120" y="5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4720" y="601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68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57200" y="496800"/>
          <a:ext cx="8217000" cy="589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96800"/>
                    <a:ext cx="8217000" cy="58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20:26:52Z</dcterms:created>
  <dc:creator>Peter Small</dc:creator>
  <dc:description/>
  <dc:language>en-US</dc:language>
  <cp:lastModifiedBy>Peter Small</cp:lastModifiedBy>
  <dcterms:modified xsi:type="dcterms:W3CDTF">2006-11-30T01:47:02Z</dcterms:modified>
  <cp:revision>22</cp:revision>
  <dc:subject/>
  <dc:title>Global TB Research Movement</dc:title>
</cp:coreProperties>
</file>