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A656-CA56-4803-A32D-C9CEA153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406-5E2D-4F77-B8E7-7FEF990B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D02-542E-47CA-B161-A13DB0A79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217-E22D-49EA-9001-4692F75D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0E02-E9BB-43DB-80A4-A44CB24B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8D52-E95A-4542-9A95-B95C0DA6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A7E84-3173-4904-AA6E-54D391E8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9F76-DBBD-4419-83C4-43C18ABD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E8CC-0428-4E67-B503-23C3BC02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81EB-849C-476B-97E2-62A3F0CD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9739-4B8F-43B7-9DEB-1C47DEA9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884-C1BC-4E57-B47B-A2B55789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5483-DC18-49DE-AF3E-26764915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25BB-5712-4A77-9317-F9C9A0DE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21DF-5DF3-4560-B566-09509522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3540-9877-480B-9E00-139AD1AA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F854-22C5-45A9-AC14-AA1D3A84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2CED-3B17-4A92-8E79-96FDA859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04E-E548-4971-A585-97BEF051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DEEC-945C-44BC-871D-B359E85E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CF26-1578-4D70-ACBF-EED4E9F37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958-2456-436A-817F-94A705BC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35C-E62D-467C-967F-0E2CB97B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3E76-BCEB-4FEA-A79C-307CB7DA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020D-1515-496B-B3C1-1986E758873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28B8-EB8E-4A19-9EAA-A7E9ACA3143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optb.org/figo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WORKPLAN UPDATES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ordinating Board Meet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anzania, 28-29 October 2008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capacity in countries and commitment to scale-up strategic activities remain low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t Practice document needed to get evidence of effectiveness of ACSM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for countries to conduct KAP Survey or other operational research to better target ACSM activities and measure impact linked to TB control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World TB Day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am Stopping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 Forum site launched, including innovative e-discussion to build the Forum agenda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media coverage of the HV/TB Global Leaders Forum, and placement of opinion pieces in ten targeted high-burden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broad media coverage of joint announcement between the Stop TB Partnership GDF, WHO, UNITAID and FIND about scaling up MDR-TB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workshops for journalists organized in Paris and Dar es Salaam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mmunication officer in the Secretaria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PARTNERS ENGAGEMENT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rtnership welcomed 171 new partners, expanding its partner base from 589  to 760 partners as of October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Mediterranean Stop TB Regional Partnershi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Stop TB Partnerships were established in Afghanistan, Japan and Vietnam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Round of the Challenge Facility for Civil Socie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Forum preparation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rack to reach 13M patient treatments delivered by end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successful Technical Review and Business Advisory Committees meeting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of increasing by 25%  Global Fund Direct Procurement clients i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of effective stockpiles of first and second-line anti-TB drug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is on track to double the Number of Diagnostic Kit orders from '07 baseline &amp; together with GLI/FIND secured $26.1M UNITAID approval for supply of new diagnostic tools from 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of securing additional UNITAID funds for paediatric &amp; second-line anti-TB drugs realized: US$ 56.4M appro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CHALLENGES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all out effort will have to be made to procure drugs and carry out the required activities to use the money that has become availab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with WHO/EDM to increase the number of prequalified TB products particularly: 2nd line and pediatric drug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coming barriers to effective access: importation restrictions, registration, market prote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and strengthening of GDF's Direct Procurement Service; making it more self-sustain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business model based on close links with the business partners of GDF will have to be developed and implemen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557360"/>
          <a:ext cx="7848360" cy="1982880"/>
        </p:xfrm>
        <a:graphic>
          <a:graphicData uri="http://schemas.openxmlformats.org/drawingml/2006/table">
            <a:tbl>
              <a:tblPr/>
              <a:tblGrid>
                <a:gridCol w="2319120"/>
                <a:gridCol w="1733760"/>
                <a:gridCol w="1949400"/>
                <a:gridCol w="18460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5800" y="3933720"/>
          <a:ext cx="7846920" cy="2016360"/>
        </p:xfrm>
        <a:graphic>
          <a:graphicData uri="http://schemas.openxmlformats.org/drawingml/2006/table">
            <a:tbl>
              <a:tblPr/>
              <a:tblGrid>
                <a:gridCol w="2317680"/>
                <a:gridCol w="1733760"/>
                <a:gridCol w="1950840"/>
                <a:gridCol w="1844640"/>
              </a:tblGrid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DRUG FACILITY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413000"/>
          <a:ext cx="8785080" cy="4968360"/>
        </p:xfrm>
        <a:graphic>
          <a:graphicData uri="http://schemas.openxmlformats.org/drawingml/2006/table">
            <a:tbl>
              <a:tblPr/>
              <a:tblGrid>
                <a:gridCol w="415080"/>
                <a:gridCol w="2603880"/>
                <a:gridCol w="1279080"/>
                <a:gridCol w="1176840"/>
                <a:gridCol w="1324800"/>
                <a:gridCol w="960120"/>
                <a:gridCol w="1025280"/>
              </a:tblGrid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rtnership  Area of Work (AoW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.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level ACSM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5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,51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,3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dvocac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6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8,24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,65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Fund proposal preparation and implement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,2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 Profile enhanc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9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783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,1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communic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872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,86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anc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63,76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91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,04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build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25,84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9,97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,93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 and financial mgt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nd innov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8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,99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pport to Working Grou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88,9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0920" y="1773360"/>
          <a:ext cx="8713800" cy="3527280"/>
        </p:xfrm>
        <a:graphic>
          <a:graphicData uri="http://schemas.openxmlformats.org/drawingml/2006/table">
            <a:tbl>
              <a:tblPr/>
              <a:tblGrid>
                <a:gridCol w="453960"/>
                <a:gridCol w="2498760"/>
                <a:gridCol w="1487520"/>
                <a:gridCol w="1120680"/>
                <a:gridCol w="1189080"/>
                <a:gridCol w="961920"/>
                <a:gridCol w="100188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DF Area of Wor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review and monito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83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49,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6,29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t supply of quality GDF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007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29,1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934,38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urement and supply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,3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70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F General Manag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3,9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,94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02,32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External Evaluation satisfactorily comple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ses to recommendations agreed, and accepted recommendations being implement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Board meeting successfully held (Egypt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Executive Committee Teleconference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frequency of High Level Mission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use of the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LOBAL ADVOCAC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360" y="141264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gress in the US – PEPFAR etc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V-TB Global Leaders Forum held in June 2008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U &amp; German – Parliamentary events, budget discussions ongo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stablishment of the Centre for Resource Mobilization websit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ing Strategic approach to advocacy in endemic "emerging economies" – India, China, Russia, Brazil, et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-lateral work with potential donors (Spain, Ireland etc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election advocacy – US (from January) and EU (from Jul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 Gap analysis - publish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iculum on Resource Mobilization for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Move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UN SG Special Envoy to Stop TB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" y="1483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WTBD 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ss conference with Chan, Piot, Kazatchkin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unch of Figo's campaign in Lond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HIV/TB Global Leaders Forum – UN, New Yor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 Ki-moon, Srgjan Kerim, Bill Clinton, Pres of Togo and Mozambique, First Ladies of Rwanda and Georgia, Chan, Piot, Kazatchkine, Dybul, Chesire, Zulu, and more than 60 ministerial deleg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for Action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  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ivil Society Forum on Health Issues for CPLP - Lisb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linton Global Initiativ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Ambassador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Luis Fig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–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oster/postcard campaign to Stop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9 languages, launched in London APPG, distributed by Kempinski Hotels (53 locations) and Red Cross (189 countries),  </a:t>
            </a:r>
            <a:r>
              <a:rPr b="0" lang="en-GB" sz="1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www.stoptb.org/fig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, Burkina Faso: Ministry of Health through Total gas stations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   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omic Book on tuberculo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10 languages already and grow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edia Coverag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C: Special feature on Figo, CNN: featured in report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Anna Cataldi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issions to Afghanistan, Pakistan, Jordan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hoto Book: "Tuberculosis: voices of the unheard"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G8/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capacity for ACSM at Country Level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hops to help strategic implementation of Global Fund ACSM grants held in 4 WHO Regions. Specific country action plans develop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technical assistance coordinated in more than 10 countrie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sential ACSM tools for implementers developed: ACSM Handbook, KAP Survey Guide, Guiding Principles Community Involvem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upporting quality health journalis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ed country-level journalist training planned in Paris during Union Conference 2008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HDnet to engage their network of country-level journalists in covering key TB-related issu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3:19:11Z</dcterms:created>
  <dc:creator>bacligl</dc:creator>
  <dc:description/>
  <dc:language>en-US</dc:language>
  <cp:lastModifiedBy>bakerl</cp:lastModifiedBy>
  <dcterms:modified xsi:type="dcterms:W3CDTF">2008-11-04T14:30:42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345243</vt:r8>
  </property>
  <property fmtid="{D5CDD505-2E9C-101B-9397-08002B2CF9AE}" pid="3" name="_AuthorEmail">
    <vt:lpwstr>espinalm@who.int</vt:lpwstr>
  </property>
  <property fmtid="{D5CDD505-2E9C-101B-9397-08002B2CF9AE}" pid="4" name="_AuthorEmailDisplayName">
    <vt:lpwstr>Espinal Fuentes, Marcos Antonio</vt:lpwstr>
  </property>
  <property fmtid="{D5CDD505-2E9C-101B-9397-08002B2CF9AE}" pid="5" name="_EmailSubject">
    <vt:lpwstr>The Work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