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9C53-991B-4291-A2A3-73D26788FF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BDAB-149E-4BE9-A682-9752DC9A86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E46F-ABEA-47C8-963A-3C5744D89A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D607-1CA7-4DCC-B132-0064760A91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6B28-CF3D-4F45-96A8-861D1F5229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D94E-AA98-4E69-8068-ECE419DEAA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detection Rate-C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Success rate-T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ADAB-7703-4F0A-92E4-FF0472294A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d through FIND, PIH and WHO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011-B241-462E-B0FA-CF5DF439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BC5-29F7-40F1-B302-47E6A92E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0CB-457D-46C0-B6D1-E72B85E8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1F8-B8CB-4035-901F-9EC9A1BD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B921-8717-4DB7-B419-FEFA5157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919-F012-41B5-B5EE-77657523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A0B-3C52-4BA0-A711-C1245CCE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19AC-79AF-424F-8178-456EAF11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664C-EF4A-4D2C-B01C-CFAB6A3A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46B-A894-478E-BE58-D6679C9A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704-4A14-443B-8F65-8A9CB013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5E5-1365-4F7A-8ED4-83147B9B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DAF5-2310-442D-8A36-ABC752394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es_flag"/>
          <p:cNvPicPr/>
          <p:nvPr/>
        </p:nvPicPr>
        <p:blipFill>
          <a:blip r:embed="rId2"/>
          <a:stretch/>
        </p:blipFill>
        <p:spPr>
          <a:xfrm>
            <a:off x="7596360" y="260280"/>
            <a:ext cx="1161720" cy="86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gov Logo"/>
          <p:cNvPicPr/>
          <p:nvPr/>
        </p:nvPicPr>
        <p:blipFill>
          <a:blip r:embed="rId3"/>
          <a:stretch/>
        </p:blipFill>
        <p:spPr>
          <a:xfrm>
            <a:off x="250920" y="0"/>
            <a:ext cx="1127160" cy="107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47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640" y="2276280"/>
            <a:ext cx="7488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top TB Partnership Board Meeting   28-29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agamoyo-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nourable Minister of Health and Social Welfare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8CBE-B9AA-44E7-8AE3-03702BBF9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R-TB Situation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80% HIV co-infection in all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the art TB lab with liquid culture &amp;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ine D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art MDR-TB hospital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ecular test facilities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0A35-20A6-46F5-9ACC-29C1076B1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561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 to HIV/MDR-TB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,586 on ARVs (35,629 Adults &amp;2,957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Urban and rural health facilities provide AR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co-infected MDR-TB patients on ARVs regardless of CD4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Home based care provided for stable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8F72-CA97-4576-9407-A8A7CE04D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/HIV collaboration: Achievements</a:t>
            </a: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TB/HIV Coordinating Committee established at nation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technical working group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collaboration policy and strategic plan 2008-2014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 building for Health Care Workers on TB/HIV collaborati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ntralized TB/HIV services nation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3EEA-1C05-438A-BD92-F4FCF0948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570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TC of TB patients by distr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800" y="1681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68360" y="1646280"/>
            <a:ext cx="7632720" cy="4230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7550-622D-4AFB-829F-3C707A842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vision of CPT to TB patients 2007 by distr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800" y="18151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68360" y="1467000"/>
            <a:ext cx="7848720" cy="4410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511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393B-0A58-45EC-ADAD-7D3EA4B8A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vision of ART to TB patients i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24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E2EB-DEC7-4A67-B526-922E54F9B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for TB/HIV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900000" y="1317600"/>
          <a:ext cx="6985080" cy="46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17600"/>
                    <a:ext cx="698508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1696-E40E-450C-87D5-89A0BF4C8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entralization of TB/HIV services to the community leve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al TB/HIV collaborative interventions for all dually infected Basot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Human  Resources to provide TB/HIV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Cross boarder issues relating to implementation of TB &amp; TB/HIV control activities among migrant wor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ABA8-C29C-466F-8016-61B9233CA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decentralization of TB/HIV services to the community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-up TB/HIV collaborative interventions through expansion of public-private partnership; involvement &amp; full participation of civil society &amp; PL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OHSW, in collaboration with development partners working on ways to improve the Human  Resources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armonization of protocols with all neighbouring countries especiall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58A5-3FCE-43EA-8CB9-975556E59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H Collaborating Partners in the fight against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TON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3810-EF44-4FC3-A1EB-6BF98DE6F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/HIV Collabor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8C25-6053-4126-A836-1581E97F5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is land –locked b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population 1,880,6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% aged 0-1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% aged 15-6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7% aged 65 and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% active males work in the RSA 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% live below poverty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0B11-02DE-49F9-8FAA-757C78EF9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ealth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f CHWs 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Health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hospitals (3 private hospi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ferral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R-TB refer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A6FE-1C5C-46D9-98D9-B2325B641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6048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ational TB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established in 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es under the Disease Control Unit (D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-course chemotherapy (SCC) introduced in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control activities are integrated within the Primary Health Care (PHC) system, and are decentralized to the country’s 10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is aligned with strategic plan for 2008 – 2012  in line with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drugs are provided free of charge to patients, irrespective of where they are diagnosed or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% DOTS co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24B8-DA31-4BE2-A15C-BFAE7A775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NTP con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DF supports Lesotho with grant of anti-TB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LC approval obtained in 2007 for second line drugs for MDR-TB-  300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OL has established partnership with the NGOs and private sector for DOTS implementation (CHAL and G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5647-BA7B-460C-A39B-36D36D99C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337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 situation 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300 cases of all forms of TB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: 635 per 100,000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278 (30%) New smea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se Detection Rat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1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success rate is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3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 Mortality – 107 per 100,000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prevalence among TB patients –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6E7B-5D88-43B8-9158-4880C41B3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nd TB case detection &amp;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success rates 2002-200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042920" y="1647720"/>
          <a:ext cx="70581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47720"/>
                    <a:ext cx="70581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194F-3102-4022-B0B3-C381EA403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Arial"/>
              </a:rPr>
              <a:t>MDR-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06 emergency plan to address MDR-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9 MDR-TB patients registered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30% of the  MDR-TB patients are migrant workers- the rest can be traced to the same migrant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1:08:02Z</dcterms:created>
  <dc:creator>User</dc:creator>
  <dc:description/>
  <dc:language>en-US</dc:language>
  <cp:lastModifiedBy>cafeinternet</cp:lastModifiedBy>
  <dcterms:modified xsi:type="dcterms:W3CDTF">2008-10-29T10:02:19Z</dcterms:modified>
  <cp:revision>59</cp:revision>
  <dc:subject/>
  <dc:title>TB/HIV SITUATION IN LESOTHO</dc:title>
</cp:coreProperties>
</file>