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0" y="0"/>
            <a:ext cx="6797520" cy="9929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9880"/>
              <a:gd name="textAreaBottom" fmla="*/ 9929520 h 9929880"/>
            </a:gdLst>
            <a:ahLst/>
            <a:rect l="textAreaLeft" t="textAreaTop" r="textAreaRight" b="textAreaBottom"/>
            <a:pathLst>
              <a:path w="21600" h="31553">
                <a:moveTo>
                  <a:pt x="5" y="0"/>
                </a:moveTo>
                <a:arcTo wR="5" hR="5" stAng="16200000" swAng="-5400000"/>
                <a:lnTo>
                  <a:pt x="0" y="31548"/>
                </a:lnTo>
                <a:arcTo wR="5" hR="5" stAng="10800000" swAng="-5400000"/>
                <a:lnTo>
                  <a:pt x="21595" y="31553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4984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1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77880" y="4716000"/>
            <a:ext cx="5440320" cy="446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0" y="942984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49840" y="942984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228A4F8-8F92-4A95-987D-C137C3C8FD7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917640" y="744480"/>
            <a:ext cx="49640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body"/>
          </p:nvPr>
        </p:nvSpPr>
        <p:spPr>
          <a:xfrm>
            <a:off x="677880" y="4716360"/>
            <a:ext cx="544176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917640" y="744480"/>
            <a:ext cx="49640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body"/>
          </p:nvPr>
        </p:nvSpPr>
        <p:spPr>
          <a:xfrm>
            <a:off x="677880" y="4716000"/>
            <a:ext cx="544176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Enhanced, dynamic Partnership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ountrie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- better case detection, demand forecasting &amp; quantification of nee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GDF/GLC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– global needs assessment, review, submit and approve countries' requests for grants and place orders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GLI &amp; FIND –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making modern diagnostics available will be a key component in establishing a sustainable impact on the detection and management of MDR-T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Manufacturer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– expand number and quality of drugs, improve lead-times, produce and maintain safety/strategic stockp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UNITAID –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Proactively investigate quality, cost and supply dynamics of API and intermediaries; continue and augment funding for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Line and MRD/XDR-TB; seek and promote commitment by other donors to TB treatment and contro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920880" y="746280"/>
            <a:ext cx="4960800" cy="3720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body"/>
          </p:nvPr>
        </p:nvSpPr>
        <p:spPr>
          <a:xfrm>
            <a:off x="677880" y="4716000"/>
            <a:ext cx="544176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"There is a ‘fundamental imbalance’ with the world spending 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  <a:ea typeface="Arial"/>
              </a:rPr>
              <a:t>US$900bn</a:t>
            </a:r>
            <a:r>
              <a:rPr b="0" i="1" lang="en-GB" sz="1200" spc="-1" strike="noStrike">
                <a:solidFill>
                  <a:srgbClr val="f79646"/>
                </a:solidFill>
                <a:latin typeface="Arial"/>
                <a:ea typeface="Arial"/>
              </a:rPr>
              <a:t>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on defense; around 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  <a:ea typeface="Arial"/>
              </a:rPr>
              <a:t>US$325bn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on agricultural subsidies and only 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  <a:ea typeface="Arial"/>
              </a:rPr>
              <a:t>US$50 to 60bn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on aid.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James Wolfensoh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Former President of the World Ban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3849840" y="942984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60434F4-DA07-4118-80FA-55DDE775044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0" y="942984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84984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77880" y="4716000"/>
            <a:ext cx="544032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3849840" y="942984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010379D-789E-4822-84CD-3FBAB56EFF3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0" y="942984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384984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1031"/>
          <p:cNvSpPr/>
          <p:nvPr/>
        </p:nvSpPr>
        <p:spPr>
          <a:xfrm>
            <a:off x="3848040" y="9429840"/>
            <a:ext cx="29466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21DB2-7922-4C97-8A18-9E3E5E7030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7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917640" y="744480"/>
            <a:ext cx="49640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body"/>
          </p:nvPr>
        </p:nvSpPr>
        <p:spPr>
          <a:xfrm>
            <a:off x="677880" y="4716000"/>
            <a:ext cx="544176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800000"/>
                </a:solidFill>
                <a:latin typeface="Arial"/>
                <a:ea typeface="Arial"/>
              </a:rPr>
              <a:t>Fills some of the funding gap by targeting niche mark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917640" y="744480"/>
            <a:ext cx="49640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body"/>
          </p:nvPr>
        </p:nvSpPr>
        <p:spPr>
          <a:xfrm>
            <a:off x="677880" y="4716000"/>
            <a:ext cx="544176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ex: price reduction on pediatric (- 40%) and 2</a:t>
            </a:r>
            <a:r>
              <a:rPr b="0" i="1" lang="en-GB" sz="1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nd</a:t>
            </a:r>
            <a:r>
              <a:rPr b="0" i="1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 line ARVs (-25% to – 50%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ex: first fixed dose combinations for pediatric ARVs in 2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r>
              <a:rPr b="0" i="1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ex: support to WHO program for </a:t>
            </a:r>
            <a:r>
              <a:rPr b="0" i="1" lang="en-GB" sz="1000" spc="-1" strike="noStrike">
                <a:solidFill>
                  <a:srgbClr val="000000"/>
                </a:solidFill>
                <a:latin typeface="Arial"/>
                <a:ea typeface="MS PGothic"/>
              </a:rPr>
              <a:t>prequalification of  produc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ex: treatments already provided in a number of countries for ARV, TB and AC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ex: treatments already provided in a number of countries for ARV, TB and AC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917640" y="744480"/>
            <a:ext cx="49640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body"/>
          </p:nvPr>
        </p:nvSpPr>
        <p:spPr>
          <a:xfrm>
            <a:off x="677880" y="4716000"/>
            <a:ext cx="544176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Project Funding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TUBERCULOSIS (US$146mill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PRE-QUALIFICATION (US$55mill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GLOBAL FUND Round 6, Phase 1 (US$52million) of which the MDR-TB component project value is US$10.3million INCLUDED IN THE 146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HIV/AIDS (US$280mill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MALARIA (US$190mill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3849840" y="942984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6910A2D-891D-4425-BC38-93FFEA43FA5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0" y="942984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384984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77880" y="4716000"/>
            <a:ext cx="544032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DR-TB DRUGS ARE OFTEN PRODUCED TO ORDER IN SMALL BATCHES LEADING TO HIGH PRICES AND LONGER LEAD TI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Times New Roman"/>
              </a:rPr>
              <a:t>Higher or more stable volumes would allow manufacturers to move from a batch-wise "produce to order" model to more continuous production and warehousin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Times New Roman"/>
              </a:rPr>
              <a:t>Given the current situation, where suppliers do not hold large inventories</a:t>
            </a:r>
            <a:r>
              <a:rPr b="0" lang="en-GB" sz="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GB" sz="900" spc="-1" strike="noStrike">
                <a:solidFill>
                  <a:srgbClr val="000000"/>
                </a:solidFill>
                <a:latin typeface="Times New Roman"/>
              </a:rPr>
              <a:t>UNITAID </a:t>
            </a:r>
            <a:r>
              <a:rPr b="0" lang="en-GB" sz="900" spc="-1" strike="noStrike">
                <a:solidFill>
                  <a:srgbClr val="000000"/>
                </a:solidFill>
                <a:latin typeface="Times New Roman"/>
              </a:rPr>
              <a:t>can improve lead times by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10000"/>
              </a:lnSpc>
              <a:spcBef>
                <a:spcPts val="337"/>
              </a:spcBef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Funding partners to build larger drug stockpiles: 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10000"/>
              </a:lnSpc>
              <a:spcBef>
                <a:spcPts val="337"/>
              </a:spcBef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Providing a finance facility to place advanced orders on behalf of countri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37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917640" y="744480"/>
            <a:ext cx="49640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body"/>
          </p:nvPr>
        </p:nvSpPr>
        <p:spPr>
          <a:xfrm>
            <a:off x="677880" y="4716000"/>
            <a:ext cx="544176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Strategic Rotating Stockpile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Established in mid 2007 to prevent shortage or delays in receiving drug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Objectiv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To respond to emergency situations, risks of stock-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Help UNITAID-funded MDR-TB programs to scale-up rapid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宋体"/>
              </a:rPr>
              <a:t>The Augmentation of Strategic Rotating Stockpile (SRS) Approved by the Board in July 2008 wil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Acceleration of the pace at which larger volumes of second-line TB drugs are made available to GLC approved projects/programmes and the pace at which patients gain access to treatments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Enabling more rapid scale-up of MDR-TB treatment than would otherwise have been possible and enable GLC approved projects/programmes to meet their treatment enrolment targets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en-GB" sz="1000" spc="-1" strike="noStrike">
                <a:solidFill>
                  <a:srgbClr val="808080"/>
                </a:solidFill>
                <a:latin typeface="Arial"/>
                <a:ea typeface="Arial"/>
              </a:rPr>
              <a:t>In the case of Global Fund Grantees, meeting such targets has a positive externality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): it ensures that Global Fund disbursements, which are performance based, continue and are not suspend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宋体"/>
              </a:rPr>
              <a:t>Establishment of a Strategic Revolving F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Ensures stable, predictable funding by UNITA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Enables countries to more accurately forecast their needs and GDF to place advance orders for GLC approved projects/programm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Requires manufacturers to commit to heightened R&amp;D and supply scale u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Example of how this will work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the UNITAID facility would fund orders for countries who have secured, but not yet received Global Fund grants – these countries would then reimburse the facility once they receive fund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42F6F-5A05-497C-A231-1BB67F498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E60D5-CEAD-4AF0-8082-1F86A2A74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188BF-54D4-497C-895B-C16BEDC2D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DB71A-C880-4B62-907C-93855BDDA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1F584-5105-4DEC-82D6-B0508E9BB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CA7EB-2013-4448-ABCA-AA0A11487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27B8A-AE09-48CF-8929-4F1495C41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51500-B7DF-4A0B-B334-79696FBE6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C822D-97A9-4A0E-B650-C1EF294B8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55744-9FF2-4009-9B24-CD19C65D3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8E580-88D9-4740-9091-7B9BAEBBF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EC7AC-15BA-471F-B0D7-919390FDD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39DFC-30F2-4286-9B69-D4FC9F9AB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09F75-6367-4A8F-B81D-630BD90B6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8C7BD-3437-480E-A665-D8B237F0F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3B298-E2B0-452C-A623-0951FFCA7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A5A13-CE0D-475C-9861-E8CCF4E9D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500C2-CDAA-4008-A262-B2409888A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29EE3-7125-436A-B21A-A6B53A4EE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FBFCC-CFF9-4E86-8C59-E9DBD43CF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138B9-9401-429E-98E0-B44242040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AA2DE-CBD8-43E6-B542-755530065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B4619-BC81-42EB-B0B6-4A8030265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18415-C723-4104-99A2-B6E0F72B0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426EFA3-91CF-41AF-A125-86934B95A95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DejaVu Sans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  <a:ea typeface="DejaVu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DejaVu Sans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8F5B3B87-4026-40C9-A1AE-EB145E107F1F}" type="slidenum">
              <a:rPr b="0" lang="en-GB" sz="1400" spc="-1" strike="noStrike">
                <a:solidFill>
                  <a:srgbClr val="000000"/>
                </a:solidFill>
                <a:latin typeface="DejaVu Sans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rcRect l="4626" t="0" r="50382" b="77393"/>
          <a:stretch/>
        </p:blipFill>
        <p:spPr>
          <a:xfrm>
            <a:off x="326880" y="276120"/>
            <a:ext cx="2905200" cy="2274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7462800" y="5599080"/>
            <a:ext cx="3128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-360" y="1092240"/>
            <a:ext cx="6553080" cy="5765760"/>
          </a:xfrm>
          <a:prstGeom prst="rect">
            <a:avLst/>
          </a:prstGeom>
          <a:noFill/>
          <a:ln w="0">
            <a:noFill/>
          </a:ln>
        </p:spPr>
        <p:txBody>
          <a:bodyPr lIns="90000" rIns="132120" tIns="46800" bIns="46800" anchor="t">
            <a:normAutofit/>
          </a:bodyPr>
          <a:p>
            <a:pPr marL="3952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65160"/>
                <a:tab algn="l" pos="1879560"/>
                <a:tab algn="l" pos="2793960"/>
                <a:tab algn="l" pos="3708360"/>
                <a:tab algn="l" pos="4622760"/>
                <a:tab algn="l" pos="5537160"/>
                <a:tab algn="l" pos="6451560"/>
                <a:tab algn="l" pos="7365960"/>
                <a:tab algn="l" pos="8280360"/>
                <a:tab algn="l" pos="9194760"/>
                <a:tab algn="l" pos="1010916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952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65160"/>
                <a:tab algn="l" pos="1879560"/>
                <a:tab algn="l" pos="2793960"/>
                <a:tab algn="l" pos="3708360"/>
                <a:tab algn="l" pos="4622760"/>
                <a:tab algn="l" pos="5537160"/>
                <a:tab algn="l" pos="6451560"/>
                <a:tab algn="l" pos="7365960"/>
                <a:tab algn="l" pos="8280360"/>
                <a:tab algn="l" pos="9194760"/>
                <a:tab algn="l" pos="10109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5280" indent="0">
              <a:lnSpc>
                <a:spcPct val="80000"/>
              </a:lnSpc>
              <a:spcBef>
                <a:spcPts val="601"/>
              </a:spcBef>
              <a:spcAft>
                <a:spcPts val="2251"/>
              </a:spcAft>
              <a:buNone/>
              <a:tabLst>
                <a:tab algn="l" pos="0"/>
                <a:tab algn="l" pos="965160"/>
                <a:tab algn="l" pos="1879560"/>
                <a:tab algn="l" pos="2793960"/>
                <a:tab algn="l" pos="3708360"/>
                <a:tab algn="l" pos="4622760"/>
                <a:tab algn="l" pos="5537160"/>
                <a:tab algn="l" pos="6451560"/>
                <a:tab algn="l" pos="7365960"/>
                <a:tab algn="l" pos="8280360"/>
                <a:tab algn="l" pos="9194760"/>
                <a:tab algn="l" pos="10109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ole of UNITAID in suppor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5280" indent="0">
              <a:lnSpc>
                <a:spcPct val="80000"/>
              </a:lnSpc>
              <a:spcBef>
                <a:spcPts val="601"/>
              </a:spcBef>
              <a:spcAft>
                <a:spcPts val="2251"/>
              </a:spcAft>
              <a:buNone/>
              <a:tabLst>
                <a:tab algn="l" pos="0"/>
                <a:tab algn="l" pos="965160"/>
                <a:tab algn="l" pos="1879560"/>
                <a:tab algn="l" pos="2793960"/>
                <a:tab algn="l" pos="3708360"/>
                <a:tab algn="l" pos="4622760"/>
                <a:tab algn="l" pos="5537160"/>
                <a:tab algn="l" pos="6451560"/>
                <a:tab algn="l" pos="7365960"/>
                <a:tab algn="l" pos="8280360"/>
                <a:tab algn="l" pos="9194760"/>
                <a:tab algn="l" pos="10109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ine TB drug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5280" indent="0">
              <a:lnSpc>
                <a:spcPct val="80000"/>
              </a:lnSpc>
              <a:spcBef>
                <a:spcPts val="601"/>
              </a:spcBef>
              <a:spcAft>
                <a:spcPts val="2251"/>
              </a:spcAft>
              <a:buNone/>
              <a:tabLst>
                <a:tab algn="l" pos="0"/>
                <a:tab algn="l" pos="965160"/>
                <a:tab algn="l" pos="1879560"/>
                <a:tab algn="l" pos="2793960"/>
                <a:tab algn="l" pos="3708360"/>
                <a:tab algn="l" pos="4622760"/>
                <a:tab algn="l" pos="5537160"/>
                <a:tab algn="l" pos="6451560"/>
                <a:tab algn="l" pos="7365960"/>
                <a:tab algn="l" pos="8280360"/>
                <a:tab algn="l" pos="9194760"/>
                <a:tab algn="l" pos="10109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agement and Supp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5280" indent="0">
              <a:lnSpc>
                <a:spcPct val="80000"/>
              </a:lnSpc>
              <a:spcBef>
                <a:spcPts val="601"/>
              </a:spcBef>
              <a:spcAft>
                <a:spcPts val="2251"/>
              </a:spcAft>
              <a:buNone/>
              <a:tabLst>
                <a:tab algn="l" pos="0"/>
                <a:tab algn="l" pos="965160"/>
                <a:tab algn="l" pos="1879560"/>
                <a:tab algn="l" pos="2793960"/>
                <a:tab algn="l" pos="3708360"/>
                <a:tab algn="l" pos="4622760"/>
                <a:tab algn="l" pos="5537160"/>
                <a:tab algn="l" pos="6451560"/>
                <a:tab algn="l" pos="7365960"/>
                <a:tab algn="l" pos="8280360"/>
                <a:tab algn="l" pos="9194760"/>
                <a:tab algn="l" pos="10109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5280" indent="0" algn="ctr">
              <a:lnSpc>
                <a:spcPct val="80000"/>
              </a:lnSpc>
              <a:spcBef>
                <a:spcPts val="601"/>
              </a:spcBef>
              <a:spcAft>
                <a:spcPts val="2251"/>
              </a:spcAft>
              <a:buNone/>
              <a:tabLst>
                <a:tab algn="l" pos="0"/>
                <a:tab algn="l" pos="965160"/>
                <a:tab algn="l" pos="1879560"/>
                <a:tab algn="l" pos="2793960"/>
                <a:tab algn="l" pos="3708360"/>
                <a:tab algn="l" pos="4622760"/>
                <a:tab algn="l" pos="5537160"/>
                <a:tab algn="l" pos="6451560"/>
                <a:tab algn="l" pos="7365960"/>
                <a:tab algn="l" pos="8280360"/>
                <a:tab algn="l" pos="9194760"/>
                <a:tab algn="l" pos="10109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0" y="-73080"/>
            <a:ext cx="9144000" cy="981000"/>
            <a:chOff x="0" y="-73080"/>
            <a:chExt cx="9144000" cy="981000"/>
          </a:xfrm>
        </p:grpSpPr>
        <p:sp>
          <p:nvSpPr>
            <p:cNvPr id="95" name=""/>
            <p:cNvSpPr/>
            <p:nvPr/>
          </p:nvSpPr>
          <p:spPr>
            <a:xfrm>
              <a:off x="0" y="-73080"/>
              <a:ext cx="9144000" cy="98100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-73080"/>
              <a:ext cx="91440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7" name="" descr=""/>
          <p:cNvPicPr/>
          <p:nvPr/>
        </p:nvPicPr>
        <p:blipFill>
          <a:blip r:embed="rId1"/>
          <a:srcRect l="0" t="10631" r="4371" b="8457"/>
          <a:stretch/>
        </p:blipFill>
        <p:spPr>
          <a:xfrm>
            <a:off x="6948360" y="-100080"/>
            <a:ext cx="2195640" cy="1055880"/>
          </a:xfrm>
          <a:prstGeom prst="rect">
            <a:avLst/>
          </a:prstGeom>
          <a:ln w="12600">
            <a:solidFill>
              <a:srgbClr val="f8f8f8"/>
            </a:solidFill>
            <a:miter/>
          </a:ln>
        </p:spPr>
      </p:pic>
      <p:sp>
        <p:nvSpPr>
          <p:cNvPr id="98" name=""/>
          <p:cNvSpPr/>
          <p:nvPr/>
        </p:nvSpPr>
        <p:spPr>
          <a:xfrm>
            <a:off x="395280" y="4508640"/>
            <a:ext cx="4392720" cy="185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5280" indent="-92160">
              <a:lnSpc>
                <a:spcPct val="100000"/>
              </a:lnSpc>
              <a:tabLst>
                <a:tab algn="l" pos="0"/>
                <a:tab algn="l" pos="395280"/>
                <a:tab algn="l" pos="1309680"/>
                <a:tab algn="l" pos="2224080"/>
                <a:tab algn="l" pos="3138480"/>
                <a:tab algn="l" pos="4052880"/>
                <a:tab algn="l" pos="4967280"/>
                <a:tab algn="l" pos="5881680"/>
                <a:tab algn="l" pos="6796080"/>
                <a:tab algn="l" pos="7710480"/>
                <a:tab algn="l" pos="8624880"/>
                <a:tab algn="l" pos="9539280"/>
                <a:tab algn="l" pos="104536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Stop TB Partnership Coordinating Board Mee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5280" indent="-92160">
              <a:lnSpc>
                <a:spcPct val="80000"/>
              </a:lnSpc>
              <a:spcBef>
                <a:spcPts val="3149"/>
              </a:spcBef>
              <a:tabLst>
                <a:tab algn="l" pos="0"/>
                <a:tab algn="l" pos="395280"/>
                <a:tab algn="l" pos="1309680"/>
                <a:tab algn="l" pos="2224080"/>
                <a:tab algn="l" pos="3138480"/>
                <a:tab algn="l" pos="4052880"/>
                <a:tab algn="l" pos="4967280"/>
                <a:tab algn="l" pos="5881680"/>
                <a:tab algn="l" pos="6796080"/>
                <a:tab algn="l" pos="7710480"/>
                <a:tab algn="l" pos="8624880"/>
                <a:tab algn="l" pos="9539280"/>
                <a:tab algn="l" pos="104536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(Bagamoyo, 28-29 October 2008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5280" indent="-92160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395280"/>
                <a:tab algn="l" pos="1309680"/>
                <a:tab algn="l" pos="2224080"/>
                <a:tab algn="l" pos="3138480"/>
                <a:tab algn="l" pos="4052880"/>
                <a:tab algn="l" pos="4967280"/>
                <a:tab algn="l" pos="5881680"/>
                <a:tab algn="l" pos="6796080"/>
                <a:tab algn="l" pos="7710480"/>
                <a:tab algn="l" pos="8624880"/>
                <a:tab algn="l" pos="9539280"/>
                <a:tab algn="l" pos="104536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Jorge Bermudez, Executive-Secretary, UNITA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48360" y="1484280"/>
            <a:ext cx="3367080" cy="4489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0" y="1440"/>
            <a:ext cx="9144000" cy="90504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GB" sz="2800" spc="-1" strike="noStrike">
                <a:solidFill>
                  <a:srgbClr val="fdfffa"/>
                </a:solidFill>
                <a:latin typeface="Arial"/>
              </a:rPr>
              <a:t>Second-line T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rcRect l="0" t="10631" r="4371" b="8457"/>
          <a:stretch/>
        </p:blipFill>
        <p:spPr>
          <a:xfrm>
            <a:off x="7093080" y="0"/>
            <a:ext cx="2050920" cy="985680"/>
          </a:xfrm>
          <a:prstGeom prst="rect">
            <a:avLst/>
          </a:prstGeom>
          <a:ln w="9360">
            <a:solidFill>
              <a:srgbClr val="f8f8f8"/>
            </a:solidFill>
            <a:miter/>
          </a:ln>
        </p:spPr>
      </p:pic>
      <p:grpSp>
        <p:nvGrpSpPr>
          <p:cNvPr id="169" name=""/>
          <p:cNvGrpSpPr/>
          <p:nvPr/>
        </p:nvGrpSpPr>
        <p:grpSpPr>
          <a:xfrm>
            <a:off x="539640" y="1557360"/>
            <a:ext cx="8067960" cy="3730680"/>
            <a:chOff x="539640" y="1557360"/>
            <a:chExt cx="8067960" cy="3730680"/>
          </a:xfrm>
        </p:grpSpPr>
        <p:sp>
          <p:nvSpPr>
            <p:cNvPr id="170" name=""/>
            <p:cNvSpPr/>
            <p:nvPr/>
          </p:nvSpPr>
          <p:spPr>
            <a:xfrm>
              <a:off x="6156360" y="3728880"/>
              <a:ext cx="2449440" cy="155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Scaling up of MDR-TB patients diagnose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(3 fold increase over current situation - up to  74,000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67280" y="3728880"/>
              <a:ext cx="2089080" cy="155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Sam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195640" y="3728880"/>
              <a:ext cx="1871640" cy="155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Secure access at lowest possible price to diagnostics, reagents, and supplies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39640" y="3728880"/>
              <a:ext cx="1656000" cy="155736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"/>
                </a:rPr>
                <a:t>Diagnostic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195640" y="1557360"/>
              <a:ext cx="1871640" cy="7603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"/>
                </a:rPr>
                <a:t>Curr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195640" y="2317680"/>
              <a:ext cx="1871640" cy="14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stablishment of stockpil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Scaling-up acces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156360" y="1557360"/>
              <a:ext cx="2449440" cy="7603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"/>
                </a:rPr>
                <a:t>Potential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"/>
                </a:rPr>
                <a:t>(medium term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067280" y="1557360"/>
              <a:ext cx="2089080" cy="7603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"/>
                </a:rPr>
                <a:t>Potenti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GB" sz="2000" spc="-1" strike="noStrike">
                  <a:solidFill>
                    <a:srgbClr val="ffffff"/>
                  </a:solidFill>
                  <a:latin typeface="Arial"/>
                </a:rPr>
                <a:t>(short term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39640" y="1557360"/>
              <a:ext cx="1656000" cy="7603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156360" y="2317680"/>
              <a:ext cx="2449440" cy="14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ing the need for diagnostic capacity at country leve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Price reduc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067280" y="2317680"/>
              <a:ext cx="2089080" cy="14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duction of delivery</a:t>
              </a:r>
              <a:br>
                <a:rPr sz="1600"/>
              </a:b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 lead tim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PQ-incentiviz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Price containme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39640" y="2317680"/>
              <a:ext cx="1656000" cy="14112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"/>
                </a:rPr>
                <a:t>MDR-TB</a:t>
              </a:r>
              <a:br>
                <a:rPr sz="2000"/>
              </a:br>
              <a:r>
                <a:rPr b="1" lang="en-GB" sz="2000" spc="-1" strike="noStrike">
                  <a:solidFill>
                    <a:srgbClr val="ffffff"/>
                  </a:solidFill>
                  <a:latin typeface="Arial"/>
                </a:rPr>
                <a:t> (2</a:t>
              </a:r>
              <a:r>
                <a:rPr b="1" lang="en-GB" sz="2000" spc="-1" strike="noStrike" baseline="30000">
                  <a:solidFill>
                    <a:srgbClr val="ffffff"/>
                  </a:solidFill>
                  <a:latin typeface="Arial"/>
                </a:rPr>
                <a:t>nd</a:t>
              </a:r>
              <a:r>
                <a:rPr b="1" lang="en-GB" sz="2000" spc="-1" strike="noStrike">
                  <a:solidFill>
                    <a:srgbClr val="ffffff"/>
                  </a:solidFill>
                  <a:latin typeface="Arial"/>
                </a:rPr>
                <a:t> line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39640" y="1557360"/>
              <a:ext cx="8066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39640" y="5286240"/>
              <a:ext cx="80661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39640" y="1557360"/>
              <a:ext cx="1800" cy="3728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8605800" y="1557360"/>
              <a:ext cx="1800" cy="3728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195640" y="1557360"/>
              <a:ext cx="1440" cy="3728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067280" y="1557360"/>
              <a:ext cx="1440" cy="3728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156360" y="1557360"/>
              <a:ext cx="1440" cy="3728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39640" y="2317680"/>
              <a:ext cx="80661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39640" y="3728880"/>
              <a:ext cx="80661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539280" y="1125000"/>
            <a:ext cx="820908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1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101600"/>
                <a:tab algn="l" pos="2016000"/>
                <a:tab algn="l" pos="2930400"/>
                <a:tab algn="l" pos="3844800"/>
                <a:tab algn="l" pos="4759200"/>
                <a:tab algn="l" pos="5673600"/>
                <a:tab algn="l" pos="6588000"/>
                <a:tab algn="l" pos="7502400"/>
                <a:tab algn="l" pos="8416800"/>
                <a:tab algn="l" pos="9331200"/>
                <a:tab algn="l" pos="102456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1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101600"/>
                <a:tab algn="l" pos="2016000"/>
                <a:tab algn="l" pos="2930400"/>
                <a:tab algn="l" pos="3844800"/>
                <a:tab algn="l" pos="4759200"/>
                <a:tab algn="l" pos="5673600"/>
                <a:tab algn="l" pos="6588000"/>
                <a:tab algn="l" pos="7502400"/>
                <a:tab algn="l" pos="8416800"/>
                <a:tab algn="l" pos="9331200"/>
                <a:tab algn="l" pos="102456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0" y="3240"/>
            <a:ext cx="9144000" cy="9046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artnership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924360" y="2548440"/>
            <a:ext cx="1757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Count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651640" y="4275360"/>
            <a:ext cx="990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DF/GL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rcRect l="0" t="10631" r="4371" b="8457"/>
          <a:stretch/>
        </p:blipFill>
        <p:spPr>
          <a:xfrm>
            <a:off x="7020000" y="0"/>
            <a:ext cx="2124000" cy="1020600"/>
          </a:xfrm>
          <a:prstGeom prst="rect">
            <a:avLst/>
          </a:prstGeom>
          <a:ln w="9360">
            <a:solidFill>
              <a:srgbClr val="f8f8f8"/>
            </a:solidFill>
            <a:miter/>
          </a:ln>
        </p:spPr>
      </p:pic>
      <p:grpSp>
        <p:nvGrpSpPr>
          <p:cNvPr id="196" name=""/>
          <p:cNvGrpSpPr/>
          <p:nvPr/>
        </p:nvGrpSpPr>
        <p:grpSpPr>
          <a:xfrm>
            <a:off x="1441440" y="981000"/>
            <a:ext cx="5446440" cy="5688000"/>
            <a:chOff x="1441440" y="981000"/>
            <a:chExt cx="5446440" cy="5688000"/>
          </a:xfrm>
        </p:grpSpPr>
        <p:sp>
          <p:nvSpPr>
            <p:cNvPr id="197" name=""/>
            <p:cNvSpPr/>
            <p:nvPr/>
          </p:nvSpPr>
          <p:spPr>
            <a:xfrm>
              <a:off x="1596960" y="981000"/>
              <a:ext cx="5137200" cy="5688000"/>
            </a:xfrm>
            <a:custGeom>
              <a:avLst/>
              <a:gdLst>
                <a:gd name="textAreaLeft" fmla="*/ 360 w 5137200"/>
                <a:gd name="textAreaRight" fmla="*/ 5136840 w 5137200"/>
                <a:gd name="textAreaTop" fmla="*/ 360 h 5688000"/>
                <a:gd name="textAreaBottom" fmla="*/ 5687640 h 5688000"/>
              </a:gdLst>
              <a:ahLst/>
              <a:rect l="textAreaLeft" t="textAreaTop" r="textAreaRight" b="textAreaBottom"/>
              <a:pathLst>
                <a:path w="21600" h="23916">
                  <a:moveTo>
                    <a:pt x="6" y="0"/>
                  </a:moveTo>
                  <a:arcTo wR="6" hR="6" stAng="16200000" swAng="-5400000"/>
                  <a:lnTo>
                    <a:pt x="0" y="23910"/>
                  </a:lnTo>
                  <a:arcTo wR="6" hR="6" stAng="10800000" swAng="-5400000"/>
                  <a:lnTo>
                    <a:pt x="21594" y="23916"/>
                  </a:lnTo>
                  <a:arcTo wR="6" hR="6" stAng="5400000" swAng="-5400000"/>
                  <a:lnTo>
                    <a:pt x="21600" y="6"/>
                  </a:lnTo>
                  <a:arcTo wR="6" hR="6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505240" y="1639800"/>
              <a:ext cx="3321000" cy="3321000"/>
            </a:xfrm>
            <a:custGeom>
              <a:avLst/>
              <a:gdLst>
                <a:gd name="textAreaLeft" fmla="*/ 0 w 3321000"/>
                <a:gd name="textAreaRight" fmla="*/ 3321360 w 3321000"/>
                <a:gd name="textAreaTop" fmla="*/ 0 h 3321000"/>
                <a:gd name="textAreaBottom" fmla="*/ 3321360 h 3321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rot="7200000">
              <a:off x="2958480" y="2427120"/>
              <a:ext cx="3321360" cy="3321000"/>
            </a:xfrm>
            <a:custGeom>
              <a:avLst/>
              <a:gdLst>
                <a:gd name="textAreaLeft" fmla="*/ 0 w 3321360"/>
                <a:gd name="textAreaRight" fmla="*/ 3321720 w 3321360"/>
                <a:gd name="textAreaTop" fmla="*/ 0 h 3321000"/>
                <a:gd name="textAreaBottom" fmla="*/ 3321360 h 3321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rot="14400000">
              <a:off x="2049120" y="2427120"/>
              <a:ext cx="3321360" cy="3321000"/>
            </a:xfrm>
            <a:custGeom>
              <a:avLst/>
              <a:gdLst>
                <a:gd name="textAreaLeft" fmla="*/ 0 w 3321360"/>
                <a:gd name="textAreaRight" fmla="*/ 3321720 w 3321360"/>
                <a:gd name="textAreaTop" fmla="*/ 0 h 3321000"/>
                <a:gd name="textAreaBottom" fmla="*/ 3321360 h 3321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075280" y="2247840"/>
              <a:ext cx="1333440" cy="13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500" spc="-1" strike="noStrike">
                  <a:solidFill>
                    <a:srgbClr val="000000"/>
                  </a:solidFill>
                  <a:latin typeface="Arial"/>
                </a:rPr>
                <a:t>Countries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502080" y="4979880"/>
              <a:ext cx="1333440" cy="13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500" spc="-1" strike="noStrike">
                  <a:solidFill>
                    <a:srgbClr val="000000"/>
                  </a:solidFill>
                  <a:latin typeface="Arial"/>
                </a:rPr>
                <a:t>GDF/GLC/GLI/FIND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922400" y="2249640"/>
              <a:ext cx="1333440" cy="13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500" spc="-1" strike="noStrike">
                  <a:solidFill>
                    <a:srgbClr val="000000"/>
                  </a:solidFill>
                  <a:latin typeface="Arial"/>
                </a:rPr>
                <a:t>Manufacturers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511440" y="3170160"/>
              <a:ext cx="1333440" cy="13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Manufacturer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5" name="" descr=""/>
            <p:cNvPicPr/>
            <p:nvPr/>
          </p:nvPicPr>
          <p:blipFill>
            <a:blip r:embed="rId2"/>
            <a:srcRect l="0" t="10631" r="4371" b="8457"/>
            <a:stretch/>
          </p:blipFill>
          <p:spPr>
            <a:xfrm>
              <a:off x="2820960" y="3178080"/>
              <a:ext cx="2689200" cy="1292400"/>
            </a:xfrm>
            <a:prstGeom prst="rect">
              <a:avLst/>
            </a:prstGeom>
            <a:ln w="9360">
              <a:solidFill>
                <a:srgbClr val="f8f8f8"/>
              </a:solidFill>
              <a:miter/>
            </a:ln>
          </p:spPr>
        </p:pic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520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2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nterrey consensus on financing for development </a:t>
            </a:r>
            <a:br>
              <a:rPr sz="20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March 2002, 50 Member Stat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2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MDG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New York, 200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2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4 countries discussing innovative ways to finance develo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2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Global Action against Hunger and Poverty launched by President Lula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September 2004, 111 Member Stat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2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aris Declaration on Aid Effectiveness </a:t>
            </a:r>
            <a:br>
              <a:rPr sz="20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March 2005, 100 Member Stat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2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lobal Health landsca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2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lobalization, Trade and Heal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3240"/>
            <a:ext cx="9144000" cy="9046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ontext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for UNITAI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10631" r="4371" b="8457"/>
          <a:stretch/>
        </p:blipFill>
        <p:spPr>
          <a:xfrm>
            <a:off x="7020000" y="0"/>
            <a:ext cx="2124000" cy="1020600"/>
          </a:xfrm>
          <a:prstGeom prst="rect">
            <a:avLst/>
          </a:prstGeom>
          <a:ln w="9360">
            <a:solidFill>
              <a:srgbClr val="f8f8f8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1258920" y="5805360"/>
            <a:ext cx="7634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3240"/>
            <a:ext cx="9144000" cy="9046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9216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mber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rcRect l="0" t="10631" r="4371" b="8457"/>
          <a:stretch/>
        </p:blipFill>
        <p:spPr>
          <a:xfrm>
            <a:off x="7093080" y="-27000"/>
            <a:ext cx="2050920" cy="985680"/>
          </a:xfrm>
          <a:prstGeom prst="rect">
            <a:avLst/>
          </a:prstGeom>
          <a:ln w="9360">
            <a:solidFill>
              <a:srgbClr val="f8f8f8"/>
            </a:solidFill>
            <a:miter/>
          </a:ln>
        </p:spPr>
      </p:pic>
      <p:sp>
        <p:nvSpPr>
          <p:cNvPr id="107" name=""/>
          <p:cNvSpPr/>
          <p:nvPr/>
        </p:nvSpPr>
        <p:spPr>
          <a:xfrm>
            <a:off x="395280" y="1700280"/>
            <a:ext cx="3384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Established in 2006 by founding countries:</a:t>
            </a: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azil, Chile, France, Norway, U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11280" y="4797360"/>
            <a:ext cx="3095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Now: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supported by 28 countries and the Gates Found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rot="5400000">
            <a:off x="1583640" y="3609000"/>
            <a:ext cx="720720" cy="503280"/>
          </a:xfrm>
          <a:prstGeom prst="rightArrow">
            <a:avLst>
              <a:gd name="adj1" fmla="val 50000"/>
              <a:gd name="adj2" fmla="val 35801"/>
            </a:avLst>
          </a:prstGeom>
          <a:solidFill>
            <a:srgbClr val="fcbf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4067280" y="1773360"/>
            <a:ext cx="4719600" cy="37764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airbus"/>
          <p:cNvPicPr/>
          <p:nvPr/>
        </p:nvPicPr>
        <p:blipFill>
          <a:blip r:embed="rId1"/>
          <a:stretch/>
        </p:blipFill>
        <p:spPr>
          <a:xfrm>
            <a:off x="7020000" y="5157720"/>
            <a:ext cx="1822320" cy="112896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3"/>
          <p:cNvSpPr/>
          <p:nvPr/>
        </p:nvSpPr>
        <p:spPr>
          <a:xfrm>
            <a:off x="304200" y="457200"/>
            <a:ext cx="6159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mpact of the air tickets levy: an examp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143000" y="1270080"/>
          <a:ext cx="6703920" cy="3908520"/>
        </p:xfrm>
        <a:graphic>
          <a:graphicData uri="http://schemas.openxmlformats.org/drawingml/2006/table">
            <a:tbl>
              <a:tblPr/>
              <a:tblGrid>
                <a:gridCol w="2081160"/>
                <a:gridCol w="2311560"/>
                <a:gridCol w="2311200"/>
              </a:tblGrid>
              <a:tr h="91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x received on each ticket by UNITAID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in France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conomy clas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rst class or busines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1495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light in France or in Europ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</a:t>
                      </a: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ヒラギノ角ゴ Pro W3"/>
                        </a:rPr>
                        <a:t>€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 </a:t>
                      </a: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ヒラギノ角ゴ Pro W3"/>
                        </a:rPr>
                        <a:t>€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94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ternational fligh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</a:t>
                      </a: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ヒラギノ角ゴ Pro W3"/>
                        </a:rPr>
                        <a:t>€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 </a:t>
                      </a: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ヒラギノ角ゴ Pro W3"/>
                        </a:rPr>
                        <a:t>€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4" name="Text Box 22"/>
          <p:cNvSpPr/>
          <p:nvPr/>
        </p:nvSpPr>
        <p:spPr>
          <a:xfrm>
            <a:off x="826920" y="5257800"/>
            <a:ext cx="6640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0000"/>
                </a:solidFill>
                <a:latin typeface="Arial"/>
              </a:rPr>
              <a:t>An aircraft with 300 passengers on board leaving from Paris will cover the treatment for 1 person with multi drug resistant tuberculosis (MDR-TB), which is very expensive (approx. 4.000 $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23"/>
          <p:cNvSpPr/>
          <p:nvPr/>
        </p:nvSpPr>
        <p:spPr>
          <a:xfrm>
            <a:off x="3289320" y="2666880"/>
            <a:ext cx="2209680" cy="757440"/>
          </a:xfrm>
          <a:prstGeom prst="ellipse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b1403"/>
                </a:solidFill>
                <a:latin typeface="Arial"/>
              </a:rPr>
              <a:t>Antimalarial treatmen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b1403"/>
                </a:solidFill>
                <a:latin typeface="Arial"/>
              </a:rPr>
              <a:t>for 2 childr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Oval 24"/>
          <p:cNvSpPr/>
          <p:nvPr/>
        </p:nvSpPr>
        <p:spPr>
          <a:xfrm>
            <a:off x="5587920" y="4076640"/>
            <a:ext cx="2210040" cy="865080"/>
          </a:xfrm>
          <a:prstGeom prst="ellipse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b1403"/>
                </a:solidFill>
                <a:latin typeface="Arial"/>
              </a:rPr>
              <a:t>1 HIV-positive chi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b1403"/>
                </a:solidFill>
                <a:latin typeface="Arial"/>
              </a:rPr>
              <a:t>under treatmen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b1403"/>
                </a:solidFill>
                <a:latin typeface="Arial"/>
              </a:rPr>
              <a:t>for 1 y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5"/>
          <p:cNvSpPr/>
          <p:nvPr/>
        </p:nvSpPr>
        <p:spPr>
          <a:xfrm>
            <a:off x="3325680" y="3341520"/>
            <a:ext cx="215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ex: flight Paris - Berl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26"/>
          <p:cNvSpPr/>
          <p:nvPr/>
        </p:nvSpPr>
        <p:spPr>
          <a:xfrm>
            <a:off x="5578200" y="4844880"/>
            <a:ext cx="217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ex: flight Paris - Dak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27"/>
          <p:cNvSpPr/>
          <p:nvPr/>
        </p:nvSpPr>
        <p:spPr>
          <a:xfrm>
            <a:off x="1092240" y="6202440"/>
            <a:ext cx="7137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7d"/>
                </a:solidFill>
                <a:latin typeface="Arial"/>
              </a:rPr>
              <a:t>Furthermore… no economic impact on air traff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28"/>
          <p:cNvSpPr/>
          <p:nvPr/>
        </p:nvSpPr>
        <p:spPr>
          <a:xfrm>
            <a:off x="8321760" y="44877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37"/>
          <p:cNvSpPr/>
          <p:nvPr/>
        </p:nvSpPr>
        <p:spPr>
          <a:xfrm>
            <a:off x="0" y="0"/>
            <a:ext cx="9144000" cy="90504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16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fr-FR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3000" spc="-1" strike="noStrike">
                <a:solidFill>
                  <a:srgbClr val="ffffff"/>
                </a:solidFill>
                <a:latin typeface="Arial"/>
              </a:rPr>
              <a:t>Impact of the levy: the French exemp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29" descr=""/>
          <p:cNvPicPr/>
          <p:nvPr/>
        </p:nvPicPr>
        <p:blipFill>
          <a:blip r:embed="rId2"/>
          <a:srcRect l="0" t="10631" r="4371" b="8457"/>
          <a:stretch/>
        </p:blipFill>
        <p:spPr>
          <a:xfrm>
            <a:off x="7262640" y="0"/>
            <a:ext cx="1881360" cy="903240"/>
          </a:xfrm>
          <a:prstGeom prst="rect">
            <a:avLst/>
          </a:prstGeom>
          <a:ln w="9360">
            <a:solidFill>
              <a:srgbClr val="f8f8f8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684360" y="1413000"/>
            <a:ext cx="763272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8160">
              <a:lnSpc>
                <a:spcPct val="100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16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able, predictable and sustain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160">
              <a:lnSpc>
                <a:spcPct val="100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16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sburses funds rapidly for greater and faster imp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160">
              <a:lnSpc>
                <a:spcPct val="100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16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sults-orien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160">
              <a:lnSpc>
                <a:spcPct val="100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16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ased on air ticket lev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0" y="0"/>
            <a:ext cx="8101080" cy="905040"/>
            <a:chOff x="0" y="0"/>
            <a:chExt cx="8101080" cy="905040"/>
          </a:xfrm>
        </p:grpSpPr>
        <p:sp>
          <p:nvSpPr>
            <p:cNvPr id="125" name=""/>
            <p:cNvSpPr/>
            <p:nvPr/>
          </p:nvSpPr>
          <p:spPr>
            <a:xfrm>
              <a:off x="0" y="0"/>
              <a:ext cx="8101080" cy="90504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0" y="173160"/>
              <a:ext cx="810108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40680" tIns="0" bIns="0" anchor="ctr">
              <a:noAutofit/>
            </a:bodyPr>
            <a:p>
              <a:pPr marL="38160">
                <a:lnSpc>
                  <a:spcPct val="100000"/>
                </a:lnSpc>
                <a:tabLst>
                  <a:tab algn="l" pos="0"/>
                  <a:tab algn="l" pos="38160"/>
                  <a:tab algn="l" pos="123840"/>
                  <a:tab algn="l" pos="936720"/>
                  <a:tab algn="l" pos="1825560"/>
                  <a:tab algn="l" pos="2739960"/>
                  <a:tab algn="l" pos="3654360"/>
                  <a:tab algn="l" pos="4568760"/>
                  <a:tab algn="l" pos="5483160"/>
                  <a:tab algn="l" pos="6397560"/>
                  <a:tab algn="l" pos="7311960"/>
                  <a:tab algn="l" pos="8226360"/>
                  <a:tab algn="l" pos="9140760"/>
                  <a:tab algn="l" pos="1005516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GB" sz="2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en-GB" sz="2800" spc="-1" strike="noStrike">
                  <a:solidFill>
                    <a:srgbClr val="ffffff"/>
                  </a:solidFill>
                  <a:latin typeface="Arial"/>
                </a:rPr>
                <a:t>Innovative funding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7" name="" descr=""/>
          <p:cNvPicPr/>
          <p:nvPr/>
        </p:nvPicPr>
        <p:blipFill>
          <a:blip r:embed="rId1"/>
          <a:srcRect l="0" t="10631" r="4371" b="8457"/>
          <a:stretch/>
        </p:blipFill>
        <p:spPr>
          <a:xfrm>
            <a:off x="7020000" y="0"/>
            <a:ext cx="2124000" cy="1020600"/>
          </a:xfrm>
          <a:prstGeom prst="rect">
            <a:avLst/>
          </a:prstGeom>
          <a:ln w="12600">
            <a:solidFill>
              <a:srgbClr val="f8f8f8"/>
            </a:solidFill>
            <a:miter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539640" y="1341000"/>
            <a:ext cx="8066160" cy="451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act markets and </a:t>
            </a:r>
            <a:r>
              <a:rPr b="0" lang="en-US" sz="2000" spc="-1" strike="noStrike">
                <a:solidFill>
                  <a:srgbClr val="eb1403"/>
                </a:solidFill>
                <a:latin typeface="Arial"/>
              </a:rPr>
              <a:t>reduce pric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more drugs for same budge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sure medicines </a:t>
            </a:r>
            <a:r>
              <a:rPr b="0" lang="en-US" sz="2000" spc="-1" strike="noStrike">
                <a:solidFill>
                  <a:srgbClr val="eb1403"/>
                </a:solidFill>
                <a:latin typeface="Arial"/>
              </a:rPr>
              <a:t>better adapt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 patient needs  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Contribute to addressing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MS PGothic"/>
              </a:rPr>
              <a:t>quality issu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  (incentive for manufacturers to invest)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r>
              <a:rPr b="0" lang="en-US" sz="2000" spc="-1" strike="noStrike">
                <a:solidFill>
                  <a:srgbClr val="eb1403"/>
                </a:solidFill>
                <a:latin typeface="Arial"/>
                <a:ea typeface="MS PGothic"/>
              </a:rPr>
              <a:t>R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MS PGothic"/>
              </a:rPr>
              <a:t>apid deliver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r>
              <a:rPr b="0" lang="en-US" sz="2000" spc="-1" strike="noStrike">
                <a:solidFill>
                  <a:srgbClr val="eb1403"/>
                </a:solidFill>
                <a:latin typeface="Arial"/>
                <a:ea typeface="MS PGothic"/>
              </a:rPr>
              <a:t>medicines and diagnostic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to the countries in need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  (basic model - products instead of funds)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3240"/>
            <a:ext cx="9144000" cy="9046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dded val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rcRect l="0" t="10631" r="4371" b="8457"/>
          <a:stretch/>
        </p:blipFill>
        <p:spPr>
          <a:xfrm>
            <a:off x="7093080" y="-27000"/>
            <a:ext cx="2050920" cy="985680"/>
          </a:xfrm>
          <a:prstGeom prst="rect">
            <a:avLst/>
          </a:prstGeom>
          <a:ln w="9360">
            <a:solidFill>
              <a:srgbClr val="f8f8f8"/>
            </a:solidFill>
            <a:miter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68360" y="1484280"/>
            <a:ext cx="896472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More than 92 countries already receiving UNITAID support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3240"/>
            <a:ext cx="9144000" cy="9046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argeted nic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10631" r="4371" b="8457"/>
          <a:stretch/>
        </p:blipFill>
        <p:spPr>
          <a:xfrm>
            <a:off x="7201080" y="0"/>
            <a:ext cx="1942920" cy="933480"/>
          </a:xfrm>
          <a:prstGeom prst="rect">
            <a:avLst/>
          </a:prstGeom>
          <a:ln w="9360">
            <a:solidFill>
              <a:srgbClr val="f8f8f8"/>
            </a:solidFill>
            <a:miter/>
          </a:ln>
        </p:spPr>
      </p:pic>
      <p:grpSp>
        <p:nvGrpSpPr>
          <p:cNvPr id="134" name=""/>
          <p:cNvGrpSpPr/>
          <p:nvPr/>
        </p:nvGrpSpPr>
        <p:grpSpPr>
          <a:xfrm>
            <a:off x="222120" y="2363760"/>
            <a:ext cx="8713800" cy="2016000"/>
            <a:chOff x="222120" y="2363760"/>
            <a:chExt cx="8713800" cy="2016000"/>
          </a:xfrm>
        </p:grpSpPr>
        <p:pic>
          <p:nvPicPr>
            <p:cNvPr id="135" name="" descr=""/>
            <p:cNvPicPr/>
            <p:nvPr/>
          </p:nvPicPr>
          <p:blipFill>
            <a:blip r:embed="rId2"/>
            <a:stretch/>
          </p:blipFill>
          <p:spPr>
            <a:xfrm>
              <a:off x="222120" y="2363760"/>
              <a:ext cx="2881440" cy="2013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" name="" descr=""/>
            <p:cNvPicPr/>
            <p:nvPr/>
          </p:nvPicPr>
          <p:blipFill>
            <a:blip r:embed="rId3"/>
            <a:stretch/>
          </p:blipFill>
          <p:spPr>
            <a:xfrm>
              <a:off x="3174840" y="2363760"/>
              <a:ext cx="2881440" cy="2013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" name="" descr=""/>
            <p:cNvPicPr/>
            <p:nvPr/>
          </p:nvPicPr>
          <p:blipFill>
            <a:blip r:embed="rId4"/>
            <a:stretch/>
          </p:blipFill>
          <p:spPr>
            <a:xfrm>
              <a:off x="6127920" y="2363760"/>
              <a:ext cx="2808000" cy="201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8" name=""/>
          <p:cNvSpPr/>
          <p:nvPr/>
        </p:nvSpPr>
        <p:spPr>
          <a:xfrm>
            <a:off x="531000" y="4437000"/>
            <a:ext cx="227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990000"/>
                </a:solidFill>
                <a:latin typeface="Arial"/>
              </a:rPr>
              <a:t>HIV / AI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990000"/>
                </a:solidFill>
                <a:latin typeface="Arial"/>
              </a:rPr>
              <a:t>53 recipient count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483720" y="4437000"/>
            <a:ext cx="227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ea5f00"/>
                </a:solidFill>
                <a:latin typeface="Arial"/>
              </a:rPr>
              <a:t>Malar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ea5f00"/>
                </a:solidFill>
                <a:latin typeface="Arial"/>
              </a:rPr>
              <a:t>22 recipient count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522120" y="4437000"/>
            <a:ext cx="227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6666"/>
                </a:solidFill>
                <a:latin typeface="Arial"/>
              </a:rPr>
              <a:t>Tuberculo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6666"/>
                </a:solidFill>
                <a:latin typeface="Arial"/>
              </a:rPr>
              <a:t>58 recipient count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826920" y="5111640"/>
            <a:ext cx="1800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- Paediatric AR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- Second line AR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- PMT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211640" y="5084640"/>
            <a:ext cx="865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L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877080" y="5084640"/>
            <a:ext cx="17272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- First line T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- Pediatric T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DR-T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agnosti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877080" y="5157720"/>
            <a:ext cx="144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84080" y="5156280"/>
            <a:ext cx="180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197240" y="5141880"/>
            <a:ext cx="1800" cy="37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608200" y="62564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11280" y="5950080"/>
            <a:ext cx="763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333399"/>
                </a:solidFill>
                <a:latin typeface="Arial"/>
              </a:rPr>
              <a:t>Pre-qualification of medicines and diagnost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539280" y="1125000"/>
            <a:ext cx="820908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3240"/>
            <a:ext cx="9144000" cy="9046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9216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t Dynamics - Challen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title"/>
          </p:nvPr>
        </p:nvSpPr>
        <p:spPr>
          <a:xfrm>
            <a:off x="1547640" y="980640"/>
            <a:ext cx="61200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Vicious cycle limiting the MDR-TB Mark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rot="407400">
            <a:off x="2916000" y="1989000"/>
            <a:ext cx="3573360" cy="1901880"/>
          </a:xfrm>
          <a:custGeom>
            <a:avLst/>
            <a:gdLst/>
            <a:ahLst/>
            <a:rect l="l" t="t" r="r" b="b"/>
            <a:pathLst>
              <a:path w="1553" h="753">
                <a:moveTo>
                  <a:pt x="983" y="584"/>
                </a:moveTo>
                <a:lnTo>
                  <a:pt x="1417" y="541"/>
                </a:lnTo>
                <a:lnTo>
                  <a:pt x="1552" y="150"/>
                </a:lnTo>
                <a:lnTo>
                  <a:pt x="1447" y="227"/>
                </a:lnTo>
                <a:lnTo>
                  <a:pt x="1398" y="186"/>
                </a:lnTo>
                <a:lnTo>
                  <a:pt x="1347" y="149"/>
                </a:lnTo>
                <a:lnTo>
                  <a:pt x="1294" y="116"/>
                </a:lnTo>
                <a:lnTo>
                  <a:pt x="1238" y="87"/>
                </a:lnTo>
                <a:lnTo>
                  <a:pt x="1181" y="61"/>
                </a:lnTo>
                <a:lnTo>
                  <a:pt x="1122" y="41"/>
                </a:lnTo>
                <a:lnTo>
                  <a:pt x="1060" y="23"/>
                </a:lnTo>
                <a:lnTo>
                  <a:pt x="999" y="12"/>
                </a:lnTo>
                <a:lnTo>
                  <a:pt x="936" y="4"/>
                </a:lnTo>
                <a:lnTo>
                  <a:pt x="873" y="0"/>
                </a:lnTo>
                <a:lnTo>
                  <a:pt x="810" y="2"/>
                </a:lnTo>
                <a:lnTo>
                  <a:pt x="748" y="8"/>
                </a:lnTo>
                <a:lnTo>
                  <a:pt x="685" y="19"/>
                </a:lnTo>
                <a:lnTo>
                  <a:pt x="624" y="34"/>
                </a:lnTo>
                <a:lnTo>
                  <a:pt x="564" y="53"/>
                </a:lnTo>
                <a:lnTo>
                  <a:pt x="506" y="76"/>
                </a:lnTo>
                <a:lnTo>
                  <a:pt x="449" y="104"/>
                </a:lnTo>
                <a:lnTo>
                  <a:pt x="395" y="137"/>
                </a:lnTo>
                <a:lnTo>
                  <a:pt x="342" y="172"/>
                </a:lnTo>
                <a:lnTo>
                  <a:pt x="294" y="212"/>
                </a:lnTo>
                <a:lnTo>
                  <a:pt x="248" y="254"/>
                </a:lnTo>
                <a:lnTo>
                  <a:pt x="205" y="301"/>
                </a:lnTo>
                <a:lnTo>
                  <a:pt x="165" y="350"/>
                </a:lnTo>
                <a:lnTo>
                  <a:pt x="130" y="401"/>
                </a:lnTo>
                <a:lnTo>
                  <a:pt x="98" y="456"/>
                </a:lnTo>
                <a:lnTo>
                  <a:pt x="71" y="512"/>
                </a:lnTo>
                <a:lnTo>
                  <a:pt x="46" y="570"/>
                </a:lnTo>
                <a:lnTo>
                  <a:pt x="27" y="631"/>
                </a:lnTo>
                <a:lnTo>
                  <a:pt x="11" y="692"/>
                </a:lnTo>
                <a:lnTo>
                  <a:pt x="0" y="752"/>
                </a:lnTo>
                <a:lnTo>
                  <a:pt x="222" y="608"/>
                </a:lnTo>
                <a:lnTo>
                  <a:pt x="440" y="749"/>
                </a:lnTo>
                <a:lnTo>
                  <a:pt x="455" y="710"/>
                </a:lnTo>
                <a:lnTo>
                  <a:pt x="474" y="670"/>
                </a:lnTo>
                <a:lnTo>
                  <a:pt x="498" y="632"/>
                </a:lnTo>
                <a:lnTo>
                  <a:pt x="525" y="596"/>
                </a:lnTo>
                <a:lnTo>
                  <a:pt x="556" y="563"/>
                </a:lnTo>
                <a:lnTo>
                  <a:pt x="589" y="533"/>
                </a:lnTo>
                <a:lnTo>
                  <a:pt x="626" y="507"/>
                </a:lnTo>
                <a:lnTo>
                  <a:pt x="665" y="485"/>
                </a:lnTo>
                <a:lnTo>
                  <a:pt x="706" y="467"/>
                </a:lnTo>
                <a:lnTo>
                  <a:pt x="749" y="453"/>
                </a:lnTo>
                <a:lnTo>
                  <a:pt x="793" y="443"/>
                </a:lnTo>
                <a:lnTo>
                  <a:pt x="837" y="438"/>
                </a:lnTo>
                <a:lnTo>
                  <a:pt x="882" y="438"/>
                </a:lnTo>
                <a:lnTo>
                  <a:pt x="927" y="442"/>
                </a:lnTo>
                <a:lnTo>
                  <a:pt x="971" y="450"/>
                </a:lnTo>
                <a:lnTo>
                  <a:pt x="1014" y="464"/>
                </a:lnTo>
                <a:lnTo>
                  <a:pt x="1055" y="480"/>
                </a:lnTo>
                <a:lnTo>
                  <a:pt x="1095" y="502"/>
                </a:lnTo>
                <a:lnTo>
                  <a:pt x="983" y="584"/>
                </a:lnTo>
              </a:path>
            </a:pathLst>
          </a:custGeom>
          <a:solidFill>
            <a:srgbClr val="3366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324000">
            <a:off x="4643280" y="2923920"/>
            <a:ext cx="2057400" cy="3130560"/>
          </a:xfrm>
          <a:custGeom>
            <a:avLst/>
            <a:gdLst/>
            <a:ahLst/>
            <a:rect l="l" t="t" r="r" b="b"/>
            <a:pathLst>
              <a:path w="793" h="1440">
                <a:moveTo>
                  <a:pt x="286" y="1316"/>
                </a:moveTo>
                <a:lnTo>
                  <a:pt x="340" y="1290"/>
                </a:lnTo>
                <a:lnTo>
                  <a:pt x="392" y="1260"/>
                </a:lnTo>
                <a:lnTo>
                  <a:pt x="442" y="1225"/>
                </a:lnTo>
                <a:lnTo>
                  <a:pt x="490" y="1187"/>
                </a:lnTo>
                <a:lnTo>
                  <a:pt x="535" y="1146"/>
                </a:lnTo>
                <a:lnTo>
                  <a:pt x="576" y="1102"/>
                </a:lnTo>
                <a:lnTo>
                  <a:pt x="616" y="1055"/>
                </a:lnTo>
                <a:lnTo>
                  <a:pt x="650" y="1005"/>
                </a:lnTo>
                <a:lnTo>
                  <a:pt x="682" y="953"/>
                </a:lnTo>
                <a:lnTo>
                  <a:pt x="709" y="900"/>
                </a:lnTo>
                <a:lnTo>
                  <a:pt x="734" y="844"/>
                </a:lnTo>
                <a:lnTo>
                  <a:pt x="753" y="786"/>
                </a:lnTo>
                <a:lnTo>
                  <a:pt x="770" y="727"/>
                </a:lnTo>
                <a:lnTo>
                  <a:pt x="781" y="668"/>
                </a:lnTo>
                <a:lnTo>
                  <a:pt x="789" y="608"/>
                </a:lnTo>
                <a:lnTo>
                  <a:pt x="792" y="547"/>
                </a:lnTo>
                <a:lnTo>
                  <a:pt x="790" y="487"/>
                </a:lnTo>
                <a:lnTo>
                  <a:pt x="786" y="427"/>
                </a:lnTo>
                <a:lnTo>
                  <a:pt x="775" y="367"/>
                </a:lnTo>
                <a:lnTo>
                  <a:pt x="762" y="308"/>
                </a:lnTo>
                <a:lnTo>
                  <a:pt x="744" y="249"/>
                </a:lnTo>
                <a:lnTo>
                  <a:pt x="722" y="193"/>
                </a:lnTo>
                <a:lnTo>
                  <a:pt x="697" y="137"/>
                </a:lnTo>
                <a:lnTo>
                  <a:pt x="667" y="84"/>
                </a:lnTo>
                <a:lnTo>
                  <a:pt x="639" y="41"/>
                </a:lnTo>
                <a:lnTo>
                  <a:pt x="609" y="0"/>
                </a:lnTo>
                <a:lnTo>
                  <a:pt x="521" y="247"/>
                </a:lnTo>
                <a:lnTo>
                  <a:pt x="277" y="280"/>
                </a:lnTo>
                <a:lnTo>
                  <a:pt x="294" y="308"/>
                </a:lnTo>
                <a:lnTo>
                  <a:pt x="316" y="347"/>
                </a:lnTo>
                <a:lnTo>
                  <a:pt x="332" y="389"/>
                </a:lnTo>
                <a:lnTo>
                  <a:pt x="345" y="431"/>
                </a:lnTo>
                <a:lnTo>
                  <a:pt x="353" y="475"/>
                </a:lnTo>
                <a:lnTo>
                  <a:pt x="357" y="519"/>
                </a:lnTo>
                <a:lnTo>
                  <a:pt x="355" y="564"/>
                </a:lnTo>
                <a:lnTo>
                  <a:pt x="350" y="608"/>
                </a:lnTo>
                <a:lnTo>
                  <a:pt x="339" y="652"/>
                </a:lnTo>
                <a:lnTo>
                  <a:pt x="325" y="694"/>
                </a:lnTo>
                <a:lnTo>
                  <a:pt x="306" y="734"/>
                </a:lnTo>
                <a:lnTo>
                  <a:pt x="284" y="772"/>
                </a:lnTo>
                <a:lnTo>
                  <a:pt x="257" y="808"/>
                </a:lnTo>
                <a:lnTo>
                  <a:pt x="227" y="841"/>
                </a:lnTo>
                <a:lnTo>
                  <a:pt x="193" y="871"/>
                </a:lnTo>
                <a:lnTo>
                  <a:pt x="156" y="896"/>
                </a:lnTo>
                <a:lnTo>
                  <a:pt x="113" y="761"/>
                </a:lnTo>
                <a:lnTo>
                  <a:pt x="0" y="1169"/>
                </a:lnTo>
                <a:lnTo>
                  <a:pt x="321" y="1439"/>
                </a:lnTo>
                <a:lnTo>
                  <a:pt x="286" y="1316"/>
                </a:lnTo>
              </a:path>
            </a:pathLst>
          </a:custGeom>
          <a:solidFill>
            <a:srgbClr val="3366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rot="448800">
            <a:off x="2338560" y="3436560"/>
            <a:ext cx="2952720" cy="2305080"/>
          </a:xfrm>
          <a:custGeom>
            <a:avLst/>
            <a:gdLst/>
            <a:ahLst/>
            <a:rect l="l" t="t" r="r" b="b"/>
            <a:pathLst>
              <a:path w="1221" h="1071">
                <a:moveTo>
                  <a:pt x="1220" y="1042"/>
                </a:moveTo>
                <a:lnTo>
                  <a:pt x="1002" y="847"/>
                </a:lnTo>
                <a:lnTo>
                  <a:pt x="1081" y="630"/>
                </a:lnTo>
                <a:lnTo>
                  <a:pt x="1038" y="635"/>
                </a:lnTo>
                <a:lnTo>
                  <a:pt x="994" y="636"/>
                </a:lnTo>
                <a:lnTo>
                  <a:pt x="950" y="634"/>
                </a:lnTo>
                <a:lnTo>
                  <a:pt x="906" y="626"/>
                </a:lnTo>
                <a:lnTo>
                  <a:pt x="865" y="614"/>
                </a:lnTo>
                <a:lnTo>
                  <a:pt x="823" y="599"/>
                </a:lnTo>
                <a:lnTo>
                  <a:pt x="784" y="579"/>
                </a:lnTo>
                <a:lnTo>
                  <a:pt x="747" y="556"/>
                </a:lnTo>
                <a:lnTo>
                  <a:pt x="713" y="528"/>
                </a:lnTo>
                <a:lnTo>
                  <a:pt x="682" y="496"/>
                </a:lnTo>
                <a:lnTo>
                  <a:pt x="653" y="463"/>
                </a:lnTo>
                <a:lnTo>
                  <a:pt x="629" y="427"/>
                </a:lnTo>
                <a:lnTo>
                  <a:pt x="609" y="390"/>
                </a:lnTo>
                <a:lnTo>
                  <a:pt x="594" y="352"/>
                </a:lnTo>
                <a:lnTo>
                  <a:pt x="581" y="314"/>
                </a:lnTo>
                <a:lnTo>
                  <a:pt x="573" y="273"/>
                </a:lnTo>
                <a:lnTo>
                  <a:pt x="568" y="232"/>
                </a:lnTo>
                <a:lnTo>
                  <a:pt x="712" y="232"/>
                </a:lnTo>
                <a:lnTo>
                  <a:pt x="368" y="0"/>
                </a:lnTo>
                <a:lnTo>
                  <a:pt x="0" y="235"/>
                </a:lnTo>
                <a:lnTo>
                  <a:pt x="134" y="234"/>
                </a:lnTo>
                <a:lnTo>
                  <a:pt x="139" y="296"/>
                </a:lnTo>
                <a:lnTo>
                  <a:pt x="148" y="358"/>
                </a:lnTo>
                <a:lnTo>
                  <a:pt x="161" y="419"/>
                </a:lnTo>
                <a:lnTo>
                  <a:pt x="178" y="479"/>
                </a:lnTo>
                <a:lnTo>
                  <a:pt x="200" y="538"/>
                </a:lnTo>
                <a:lnTo>
                  <a:pt x="227" y="595"/>
                </a:lnTo>
                <a:lnTo>
                  <a:pt x="257" y="650"/>
                </a:lnTo>
                <a:lnTo>
                  <a:pt x="291" y="702"/>
                </a:lnTo>
                <a:lnTo>
                  <a:pt x="328" y="751"/>
                </a:lnTo>
                <a:lnTo>
                  <a:pt x="369" y="797"/>
                </a:lnTo>
                <a:lnTo>
                  <a:pt x="413" y="841"/>
                </a:lnTo>
                <a:lnTo>
                  <a:pt x="459" y="882"/>
                </a:lnTo>
                <a:lnTo>
                  <a:pt x="509" y="919"/>
                </a:lnTo>
                <a:lnTo>
                  <a:pt x="562" y="951"/>
                </a:lnTo>
                <a:lnTo>
                  <a:pt x="617" y="981"/>
                </a:lnTo>
                <a:lnTo>
                  <a:pt x="673" y="1007"/>
                </a:lnTo>
                <a:lnTo>
                  <a:pt x="732" y="1027"/>
                </a:lnTo>
                <a:lnTo>
                  <a:pt x="791" y="1045"/>
                </a:lnTo>
                <a:lnTo>
                  <a:pt x="852" y="1057"/>
                </a:lnTo>
                <a:lnTo>
                  <a:pt x="913" y="1067"/>
                </a:lnTo>
                <a:lnTo>
                  <a:pt x="975" y="1070"/>
                </a:lnTo>
                <a:lnTo>
                  <a:pt x="1037" y="1070"/>
                </a:lnTo>
                <a:lnTo>
                  <a:pt x="1098" y="1066"/>
                </a:lnTo>
                <a:lnTo>
                  <a:pt x="1160" y="1056"/>
                </a:lnTo>
                <a:lnTo>
                  <a:pt x="1220" y="1042"/>
                </a:lnTo>
              </a:path>
            </a:pathLst>
          </a:custGeom>
          <a:solidFill>
            <a:srgbClr val="3366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924360" y="2358360"/>
            <a:ext cx="1757160" cy="5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7000"/>
              </a:lnSpc>
              <a:spcBef>
                <a:spcPts val="799"/>
              </a:spcBef>
              <a:tabLst>
                <a:tab algn="l" pos="0"/>
                <a:tab algn="l" pos="787320"/>
                <a:tab algn="l" pos="1574640"/>
                <a:tab algn="l" pos="2362320"/>
                <a:tab algn="l" pos="3149640"/>
                <a:tab algn="l" pos="3936960"/>
                <a:tab algn="l" pos="4724280"/>
                <a:tab algn="l" pos="5511960"/>
                <a:tab algn="l" pos="6299280"/>
                <a:tab algn="l" pos="7086600"/>
                <a:tab algn="l" pos="7873920"/>
                <a:tab algn="l" pos="8661240"/>
                <a:tab algn="l" pos="9448920"/>
                <a:tab algn="l" pos="10236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certain dem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651640" y="4085640"/>
            <a:ext cx="990360" cy="5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7000"/>
              </a:lnSpc>
              <a:spcBef>
                <a:spcPts val="799"/>
              </a:spcBef>
              <a:tabLst>
                <a:tab algn="l" pos="0"/>
                <a:tab algn="l" pos="787320"/>
                <a:tab algn="l" pos="1574640"/>
                <a:tab algn="l" pos="2362320"/>
                <a:tab algn="l" pos="3149640"/>
                <a:tab algn="l" pos="3936960"/>
                <a:tab algn="l" pos="4724280"/>
                <a:tab algn="l" pos="5511960"/>
                <a:tab algn="l" pos="6299280"/>
                <a:tab algn="l" pos="7086600"/>
                <a:tab algn="l" pos="7873920"/>
                <a:tab algn="l" pos="8661240"/>
                <a:tab algn="l" pos="9448920"/>
                <a:tab algn="l" pos="10236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ed supp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916360" y="4446000"/>
            <a:ext cx="1230120" cy="5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7000"/>
              </a:lnSpc>
              <a:spcBef>
                <a:spcPts val="799"/>
              </a:spcBef>
              <a:tabLst>
                <a:tab algn="l" pos="0"/>
                <a:tab algn="l" pos="787320"/>
                <a:tab algn="l" pos="1574640"/>
                <a:tab algn="l" pos="2362320"/>
                <a:tab algn="l" pos="3149640"/>
                <a:tab algn="l" pos="3936960"/>
                <a:tab algn="l" pos="4724280"/>
                <a:tab algn="l" pos="5511960"/>
                <a:tab algn="l" pos="6299280"/>
                <a:tab algn="l" pos="7086600"/>
                <a:tab algn="l" pos="7873920"/>
                <a:tab algn="l" pos="8661240"/>
                <a:tab algn="l" pos="9448920"/>
                <a:tab algn="l" pos="10236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igher pr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55640" y="2060640"/>
            <a:ext cx="23623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ncertainty about demand in LICs &amp; LMICs leads industry to limit investments in capac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11280" y="4581360"/>
            <a:ext cx="2361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gher prices keep LICs &amp; LMICs uncertain about demand and donors uncertain about financing nee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877080" y="458136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mited MDR-TB drug supply keeps prices relatively hig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rcRect l="0" t="10631" r="4371" b="8457"/>
          <a:stretch/>
        </p:blipFill>
        <p:spPr>
          <a:xfrm>
            <a:off x="7020000" y="0"/>
            <a:ext cx="2124000" cy="1020600"/>
          </a:xfrm>
          <a:prstGeom prst="rect">
            <a:avLst/>
          </a:prstGeom>
          <a:ln w="9360">
            <a:solidFill>
              <a:srgbClr val="f8f8f8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684360" y="1413000"/>
            <a:ext cx="763272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8160">
              <a:lnSpc>
                <a:spcPct val="100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16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DR-TB Scale-up 2007-2011 - US$37.6mill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160">
              <a:lnSpc>
                <a:spcPct val="100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16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ategic Rotating Stockpile – US$11.5mill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160">
              <a:lnSpc>
                <a:spcPct val="100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16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ategic Revolving Fund – US$22.1mill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160">
              <a:lnSpc>
                <a:spcPct val="100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16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agnostics (laboratory equipment) – US$26.1million in collaboration with GLI and FI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160">
              <a:lnSpc>
                <a:spcPct val="100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16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DR-TB component GF Round 6 Phase 1 – US$10.3mill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0"/>
            <a:ext cx="8101080" cy="905040"/>
            <a:chOff x="0" y="0"/>
            <a:chExt cx="8101080" cy="905040"/>
          </a:xfrm>
        </p:grpSpPr>
        <p:sp>
          <p:nvSpPr>
            <p:cNvPr id="164" name=""/>
            <p:cNvSpPr/>
            <p:nvPr/>
          </p:nvSpPr>
          <p:spPr>
            <a:xfrm>
              <a:off x="0" y="0"/>
              <a:ext cx="8101080" cy="90504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173160"/>
              <a:ext cx="810108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40680" tIns="0" bIns="0" anchor="ctr">
              <a:noAutofit/>
            </a:bodyPr>
            <a:p>
              <a:pPr marL="38160">
                <a:lnSpc>
                  <a:spcPct val="100000"/>
                </a:lnSpc>
                <a:tabLst>
                  <a:tab algn="l" pos="0"/>
                  <a:tab algn="l" pos="38160"/>
                  <a:tab algn="l" pos="123840"/>
                  <a:tab algn="l" pos="936720"/>
                  <a:tab algn="l" pos="1825560"/>
                  <a:tab algn="l" pos="2739960"/>
                  <a:tab algn="l" pos="3654360"/>
                  <a:tab algn="l" pos="4568760"/>
                  <a:tab algn="l" pos="5483160"/>
                  <a:tab algn="l" pos="6397560"/>
                  <a:tab algn="l" pos="7311960"/>
                  <a:tab algn="l" pos="8226360"/>
                  <a:tab algn="l" pos="9140760"/>
                  <a:tab algn="l" pos="1005516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GB" sz="2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GB" sz="2800" spc="-1" strike="noStrike">
                  <a:solidFill>
                    <a:srgbClr val="ffffff"/>
                  </a:solidFill>
                  <a:latin typeface="Arial"/>
                </a:rPr>
                <a:t>Second-line T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6" name="" descr=""/>
          <p:cNvPicPr/>
          <p:nvPr/>
        </p:nvPicPr>
        <p:blipFill>
          <a:blip r:embed="rId1"/>
          <a:srcRect l="0" t="10631" r="4371" b="8457"/>
          <a:stretch/>
        </p:blipFill>
        <p:spPr>
          <a:xfrm>
            <a:off x="7020000" y="0"/>
            <a:ext cx="2124000" cy="1020600"/>
          </a:xfrm>
          <a:prstGeom prst="rect">
            <a:avLst/>
          </a:prstGeom>
          <a:ln w="12600">
            <a:solidFill>
              <a:srgbClr val="f8f8f8"/>
            </a:solidFill>
            <a:miter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HARANTP</dc:creator>
  <dc:description/>
  <dc:language>en-US</dc:language>
  <cp:lastModifiedBy>bakerl</cp:lastModifiedBy>
  <dcterms:modified xsi:type="dcterms:W3CDTF">2008-10-29T05:38:56Z</dcterms:modified>
  <cp:revision>2</cp:revision>
  <dc:subject/>
  <dc:title>Slide 1</dc:title>
</cp:coreProperties>
</file>