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3E2E-B40C-4F9A-9227-D4FE0FA8A3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FC4A-F667-4495-A2DD-F734999FD8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C51B-5206-4096-9044-FC61DF53DE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FD82-4FFA-4FBF-8BE7-B8C08ED598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091D-51DF-45EC-A5E9-A95EABC908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76BD-20A8-4DC1-B66C-ACF8F4A06F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A0EF-E9DC-4A71-B8B1-BE907AE209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7763-DE32-42C8-B389-2202A3B7D8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4056-53BE-46E3-8AB5-53342C4282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B182-106C-46A2-A122-C6C8269FA1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BC39-C9B1-428D-9663-6D5126B99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E9ED-8C8B-4168-A55C-E31DBB3E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822B-824F-4496-8726-B376F6D84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89A0-DA77-4B7F-AD02-67CD70CB3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F361-9CEB-4F87-8092-DC26A6FA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EF79-19D1-4F82-B466-8F4AEDF7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1A1C-B843-4692-B5E7-E5CCDAE2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B93F-0559-4690-9C97-3115BC3F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0159-4A04-4D60-A082-D53D05D9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CF01-AA09-4DF9-AA47-FE469D4B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6E53-C621-4485-B048-B2C8770C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DE3A-6E98-49B3-AEB0-347757FB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88FB-B7A2-4667-BF5C-652DA11617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tballiance.org/why/tb-threat.php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2" descr="Headline Slide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609480" y="4114800"/>
            <a:ext cx="67057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Stop TB Partnershi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oordinating Board Mee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609480" y="533412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gamayo, Tanzan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8-29 October,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traight Connector 7"/>
          <p:cNvSpPr/>
          <p:nvPr/>
        </p:nvSpPr>
        <p:spPr>
          <a:xfrm>
            <a:off x="609480" y="5257800"/>
            <a:ext cx="5715000" cy="144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304920" y="1371600"/>
            <a:ext cx="7772400" cy="23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lobal Business Coalition on HIV/AIDS, Tuberculosis and Malaria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private sector fight against TB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rends &amp; Opportun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7" name="Picture 34" descr="Normal Slide copy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762120" y="14479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se Study #2: Xstrata Coal South Afr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533520" y="2286000"/>
            <a:ext cx="8305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strata’s workplace TB screening drive is integrated with the district TB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intervention capitalizes on a strong public-private mix (PPM) between Xstrata, the Mpumalanga District Department of Health and Social Services and PEPF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strata’s TB efforts are fully integrated with the company’s extensive HIV/AIDS initiative, using outreach workers to spread the, “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 know! the way to li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” campa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ealth Systems Strengthen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Xstrata’s employs a strategy of capacity-building to underpin treatment access and community respons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8" descr=""/>
          <p:cNvPicPr/>
          <p:nvPr/>
        </p:nvPicPr>
        <p:blipFill>
          <a:blip r:embed="rId2"/>
          <a:stretch/>
        </p:blipFill>
        <p:spPr>
          <a:xfrm>
            <a:off x="7315200" y="1371600"/>
            <a:ext cx="125748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3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9"/>
          <p:cNvSpPr/>
          <p:nvPr/>
        </p:nvSpPr>
        <p:spPr>
          <a:xfrm>
            <a:off x="2895480" y="4572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BC’s TB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" name="Group 10"/>
          <p:cNvGrpSpPr/>
          <p:nvPr/>
        </p:nvGrpSpPr>
        <p:grpSpPr>
          <a:xfrm>
            <a:off x="457200" y="1295280"/>
            <a:ext cx="2133720" cy="1600200"/>
            <a:chOff x="457200" y="1295280"/>
            <a:chExt cx="2133720" cy="1600200"/>
          </a:xfrm>
        </p:grpSpPr>
        <p:sp>
          <p:nvSpPr>
            <p:cNvPr id="136" name="Rounded Rectangle 11"/>
            <p:cNvSpPr/>
            <p:nvPr/>
          </p:nvSpPr>
          <p:spPr>
            <a:xfrm>
              <a:off x="457200" y="1295280"/>
              <a:ext cx="2082960" cy="1507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ounded Rectangle 4"/>
            <p:cNvSpPr/>
            <p:nvPr/>
          </p:nvSpPr>
          <p:spPr>
            <a:xfrm>
              <a:off x="530640" y="1368720"/>
              <a:ext cx="2060280" cy="15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pecific Objective  1: 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Provide TB Advisory Services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" name="TextBox 16"/>
          <p:cNvSpPr/>
          <p:nvPr/>
        </p:nvSpPr>
        <p:spPr>
          <a:xfrm>
            <a:off x="6400800" y="1377720"/>
            <a:ext cx="19810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ffective workplace and community based TB progr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7"/>
          <p:cNvSpPr/>
          <p:nvPr/>
        </p:nvSpPr>
        <p:spPr>
          <a:xfrm>
            <a:off x="6324480" y="9144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pected Out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Group 20"/>
          <p:cNvGrpSpPr/>
          <p:nvPr/>
        </p:nvGrpSpPr>
        <p:grpSpPr>
          <a:xfrm>
            <a:off x="457200" y="2971800"/>
            <a:ext cx="2082960" cy="1463760"/>
            <a:chOff x="457200" y="2971800"/>
            <a:chExt cx="2082960" cy="1463760"/>
          </a:xfrm>
        </p:grpSpPr>
        <p:sp>
          <p:nvSpPr>
            <p:cNvPr id="141" name="Rounded Rectangle 21"/>
            <p:cNvSpPr/>
            <p:nvPr/>
          </p:nvSpPr>
          <p:spPr>
            <a:xfrm>
              <a:off x="457200" y="2971800"/>
              <a:ext cx="2082960" cy="14637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ounded Rectangle 4"/>
            <p:cNvSpPr/>
            <p:nvPr/>
          </p:nvSpPr>
          <p:spPr>
            <a:xfrm>
              <a:off x="528480" y="3043080"/>
              <a:ext cx="1940040" cy="13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pecific Objective 2: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Mobilize Core Competencies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TextBox 26"/>
          <p:cNvSpPr/>
          <p:nvPr/>
        </p:nvSpPr>
        <p:spPr>
          <a:xfrm>
            <a:off x="6400800" y="2918520"/>
            <a:ext cx="19810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re competencies of private sector used to strengthen national TB programs and health syste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27"/>
          <p:cNvGrpSpPr/>
          <p:nvPr/>
        </p:nvGrpSpPr>
        <p:grpSpPr>
          <a:xfrm>
            <a:off x="457200" y="4572000"/>
            <a:ext cx="2133720" cy="1676520"/>
            <a:chOff x="457200" y="4572000"/>
            <a:chExt cx="2133720" cy="1676520"/>
          </a:xfrm>
        </p:grpSpPr>
        <p:sp>
          <p:nvSpPr>
            <p:cNvPr id="145" name="Rounded Rectangle 28"/>
            <p:cNvSpPr/>
            <p:nvPr/>
          </p:nvSpPr>
          <p:spPr>
            <a:xfrm>
              <a:off x="457200" y="4572000"/>
              <a:ext cx="2133720" cy="16765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ounded Rectangle 4"/>
            <p:cNvSpPr/>
            <p:nvPr/>
          </p:nvSpPr>
          <p:spPr>
            <a:xfrm>
              <a:off x="524880" y="4653720"/>
              <a:ext cx="199836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pecific Objective 3: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Provide leadership to structure and expand corporate engagemen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Group 30"/>
          <p:cNvGrpSpPr/>
          <p:nvPr/>
        </p:nvGrpSpPr>
        <p:grpSpPr>
          <a:xfrm>
            <a:off x="2971800" y="1219320"/>
            <a:ext cx="3352680" cy="1752480"/>
            <a:chOff x="2971800" y="1219320"/>
            <a:chExt cx="3352680" cy="1752480"/>
          </a:xfrm>
        </p:grpSpPr>
        <p:sp>
          <p:nvSpPr>
            <p:cNvPr id="148" name="Right Arrow 31"/>
            <p:cNvSpPr/>
            <p:nvPr/>
          </p:nvSpPr>
          <p:spPr>
            <a:xfrm>
              <a:off x="2971800" y="1219320"/>
              <a:ext cx="3352680" cy="1752480"/>
            </a:xfrm>
            <a:prstGeom prst="rightArrow">
              <a:avLst>
                <a:gd name="adj1" fmla="val 75000"/>
                <a:gd name="adj2" fmla="val 31070"/>
              </a:avLst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Right Arrow 4"/>
            <p:cNvSpPr/>
            <p:nvPr/>
          </p:nvSpPr>
          <p:spPr>
            <a:xfrm>
              <a:off x="2971800" y="1438200"/>
              <a:ext cx="294444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rovide technical and programmatic support to GBC members to develop and/or strengthen work place and community based TB program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TextBox 33"/>
          <p:cNvSpPr/>
          <p:nvPr/>
        </p:nvSpPr>
        <p:spPr>
          <a:xfrm>
            <a:off x="6400800" y="4652640"/>
            <a:ext cx="19810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d private sector engagement on T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" name="Group 34"/>
          <p:cNvGrpSpPr/>
          <p:nvPr/>
        </p:nvGrpSpPr>
        <p:grpSpPr>
          <a:xfrm>
            <a:off x="2895480" y="4648320"/>
            <a:ext cx="3200400" cy="1447560"/>
            <a:chOff x="2895480" y="4648320"/>
            <a:chExt cx="3200400" cy="1447560"/>
          </a:xfrm>
        </p:grpSpPr>
        <p:sp>
          <p:nvSpPr>
            <p:cNvPr id="152" name="Right Arrow 35"/>
            <p:cNvSpPr/>
            <p:nvPr/>
          </p:nvSpPr>
          <p:spPr>
            <a:xfrm>
              <a:off x="2895480" y="4648320"/>
              <a:ext cx="3200400" cy="1447560"/>
            </a:xfrm>
            <a:prstGeom prst="rightArrow">
              <a:avLst>
                <a:gd name="adj1" fmla="val 75000"/>
                <a:gd name="adj2" fmla="val 38148"/>
              </a:avLst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Right Arrow 4"/>
            <p:cNvSpPr/>
            <p:nvPr/>
          </p:nvSpPr>
          <p:spPr>
            <a:xfrm>
              <a:off x="2895480" y="4829040"/>
              <a:ext cx="278640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Serve as Global Fund Private Sector Delegation Focal Poin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4" name="Group 37"/>
          <p:cNvGrpSpPr/>
          <p:nvPr/>
        </p:nvGrpSpPr>
        <p:grpSpPr>
          <a:xfrm>
            <a:off x="2895480" y="3048120"/>
            <a:ext cx="3200400" cy="1447560"/>
            <a:chOff x="2895480" y="3048120"/>
            <a:chExt cx="3200400" cy="1447560"/>
          </a:xfrm>
        </p:grpSpPr>
        <p:sp>
          <p:nvSpPr>
            <p:cNvPr id="155" name="Right Arrow 38"/>
            <p:cNvSpPr/>
            <p:nvPr/>
          </p:nvSpPr>
          <p:spPr>
            <a:xfrm>
              <a:off x="2895480" y="3048120"/>
              <a:ext cx="3200400" cy="1447560"/>
            </a:xfrm>
            <a:prstGeom prst="rightArrow">
              <a:avLst>
                <a:gd name="adj1" fmla="val 75000"/>
                <a:gd name="adj2" fmla="val 38148"/>
              </a:avLst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Right Arrow 4"/>
            <p:cNvSpPr/>
            <p:nvPr/>
          </p:nvSpPr>
          <p:spPr>
            <a:xfrm>
              <a:off x="2895480" y="3228840"/>
              <a:ext cx="278640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ducate and  assist GBC  members to identify core competencies within the private sector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9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7"/>
          <p:cNvGrpSpPr/>
          <p:nvPr/>
        </p:nvGrpSpPr>
        <p:grpSpPr>
          <a:xfrm>
            <a:off x="380880" y="1676520"/>
            <a:ext cx="2362320" cy="1600200"/>
            <a:chOff x="380880" y="1676520"/>
            <a:chExt cx="2362320" cy="1600200"/>
          </a:xfrm>
        </p:grpSpPr>
        <p:sp>
          <p:nvSpPr>
            <p:cNvPr id="161" name="Rounded Rectangle 8"/>
            <p:cNvSpPr/>
            <p:nvPr/>
          </p:nvSpPr>
          <p:spPr>
            <a:xfrm>
              <a:off x="380880" y="1676520"/>
              <a:ext cx="2362320" cy="16002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Rounded Rectangle 4"/>
            <p:cNvSpPr/>
            <p:nvPr/>
          </p:nvSpPr>
          <p:spPr>
            <a:xfrm>
              <a:off x="440640" y="1754640"/>
              <a:ext cx="2242800" cy="14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ctr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Specific Objective 4: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Facilitate Networking Opportunities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" name="TextBox 23"/>
          <p:cNvSpPr/>
          <p:nvPr/>
        </p:nvSpPr>
        <p:spPr>
          <a:xfrm>
            <a:off x="6248520" y="1909440"/>
            <a:ext cx="25146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hanced networks and visibility to private sector efforts on T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Group 25"/>
          <p:cNvGrpSpPr/>
          <p:nvPr/>
        </p:nvGrpSpPr>
        <p:grpSpPr>
          <a:xfrm>
            <a:off x="3124080" y="1371600"/>
            <a:ext cx="3124440" cy="2666880"/>
            <a:chOff x="3124080" y="1371600"/>
            <a:chExt cx="3124440" cy="2666880"/>
          </a:xfrm>
        </p:grpSpPr>
        <p:sp>
          <p:nvSpPr>
            <p:cNvPr id="165" name="Right Arrow 26"/>
            <p:cNvSpPr/>
            <p:nvPr/>
          </p:nvSpPr>
          <p:spPr>
            <a:xfrm>
              <a:off x="3124080" y="1371600"/>
              <a:ext cx="3124440" cy="2666880"/>
            </a:xfrm>
            <a:prstGeom prst="rightArrow">
              <a:avLst>
                <a:gd name="adj1" fmla="val 75000"/>
                <a:gd name="adj2" fmla="val 22818"/>
              </a:avLst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Right Arrow 4"/>
            <p:cNvSpPr/>
            <p:nvPr/>
          </p:nvSpPr>
          <p:spPr>
            <a:xfrm>
              <a:off x="3124080" y="1704960"/>
              <a:ext cx="266832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onvene meetings of GBC members and key stakeholders to address efforts on TB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Identify external meetings for GBC members to showcase private sector involvement and share best practi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9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7"/>
          <p:cNvSpPr/>
          <p:nvPr/>
        </p:nvSpPr>
        <p:spPr>
          <a:xfrm>
            <a:off x="1447920" y="6094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Way Forward: GBC in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8"/>
          <p:cNvSpPr/>
          <p:nvPr/>
        </p:nvSpPr>
        <p:spPr>
          <a:xfrm>
            <a:off x="457200" y="1295280"/>
            <a:ext cx="8077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lobal Advoca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try-specific Focus (Russia, South Afric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B Advisory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to the Stop TB Partn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4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Box 4"/>
          <p:cNvSpPr/>
          <p:nvPr/>
        </p:nvSpPr>
        <p:spPr>
          <a:xfrm>
            <a:off x="533520" y="1752480"/>
            <a:ext cx="78483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gether we c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OP T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5"/>
          <p:cNvSpPr/>
          <p:nvPr/>
        </p:nvSpPr>
        <p:spPr>
          <a:xfrm>
            <a:off x="609480" y="3505320"/>
            <a:ext cx="77724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ilding a comprehensive approach to engage the private sector in the fight against T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traight Connector 7"/>
          <p:cNvSpPr/>
          <p:nvPr/>
        </p:nvSpPr>
        <p:spPr>
          <a:xfrm>
            <a:off x="838080" y="3124080"/>
            <a:ext cx="7315200" cy="180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6"/>
          <p:cNvSpPr/>
          <p:nvPr/>
        </p:nvSpPr>
        <p:spPr>
          <a:xfrm>
            <a:off x="1523880" y="4572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533520" y="1371600"/>
            <a:ext cx="8076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conomic impact of T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essing business engagement on TB: GBC’s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e State of Business and HIV/AIDS, TB and Malar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que strengths of the private sec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e studies: BD and Xstr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BC’s TB strate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Way Forw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2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609480" y="5335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conomic Impact of T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762120" y="1828800"/>
            <a:ext cx="754380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5% of those who become ill with TB are between the ages of 15 and 54, resulting in employee absenteeism during prime working years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ldwide, TB results in a decline in worker productivity totaling US$12 billion yearly.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 out of 5 countries with an HIV prevalence above 20% expect TB to have a negative impact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228600" y="5638680"/>
            <a:ext cx="8915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Tackling Tuberculosis: The Business Respons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WEF, February 200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The Threat of TB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TB Alliance: Global Alliance for TB Drug Development,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tballiance.org/why/tb-threat.php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,2008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, wi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8" name="Picture 34" descr="Normal Slide copy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685800" y="1066680"/>
            <a:ext cx="7620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gagement around the tuberculosis epidemic has been an organizational priority at GBC since 2006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year, we conducted a survey of member companies to identify trends in corporate action on the three disea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key findings of the resulting report, “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e State of Business and AIDS, Tuberculosis and Malaria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” were launched in New York  on September 2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ident Sampaio presented opportunities for business engagement on TB at laun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1676520" y="22860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BC and T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3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2"/>
          <p:cNvSpPr/>
          <p:nvPr/>
        </p:nvSpPr>
        <p:spPr>
          <a:xfrm>
            <a:off x="2253960" y="1460520"/>
            <a:ext cx="439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mpanies Response to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ngagement in activities around tubercul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285840" y="1819440"/>
            <a:ext cx="4333680" cy="44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formation and education on TB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trategies to address and prevent transmission of active disease in the workplace and/or community set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llaborative activities to integrate TB and HIV respo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dministration of appropriate treatment regimen in line with NTP guidelines and Int'l Standards of TB C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arly identification of suspected TB cases, followed by prompt diagnos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Line 22"/>
          <p:cNvSpPr/>
          <p:nvPr/>
        </p:nvSpPr>
        <p:spPr>
          <a:xfrm>
            <a:off x="6243480" y="1695600"/>
            <a:ext cx="0" cy="4640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hart 7" descr=""/>
          <p:cNvPicPr/>
          <p:nvPr/>
        </p:nvPicPr>
        <p:blipFill>
          <a:blip r:embed="rId2"/>
          <a:stretch/>
        </p:blipFill>
        <p:spPr>
          <a:xfrm>
            <a:off x="4754520" y="1560600"/>
            <a:ext cx="2975040" cy="47480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6"/>
          <p:cNvSpPr/>
          <p:nvPr/>
        </p:nvSpPr>
        <p:spPr>
          <a:xfrm>
            <a:off x="1523880" y="304920"/>
            <a:ext cx="716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40% of the 83 surveyed companies offer TB information and education in the work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1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Object 3" descr=""/>
          <p:cNvPicPr/>
          <p:nvPr/>
        </p:nvPicPr>
        <p:blipFill>
          <a:blip r:embed="rId2"/>
          <a:stretch/>
        </p:blipFill>
        <p:spPr>
          <a:xfrm>
            <a:off x="2724120" y="1654200"/>
            <a:ext cx="4262400" cy="43228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4"/>
          <p:cNvSpPr/>
          <p:nvPr/>
        </p:nvSpPr>
        <p:spPr>
          <a:xfrm>
            <a:off x="2835360" y="5591160"/>
            <a:ext cx="2030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344600" y="5591160"/>
            <a:ext cx="13730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 / Entertai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6986520" y="1838160"/>
            <a:ext cx="35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1222200" y="1838160"/>
            <a:ext cx="1495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dustrial Manufactu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6986520" y="2214720"/>
            <a:ext cx="3571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1774800" y="2214720"/>
            <a:ext cx="9428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tals / M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6238800" y="2590920"/>
            <a:ext cx="2811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83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609560" y="2590920"/>
            <a:ext cx="11080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od / Bever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6099120" y="2962440"/>
            <a:ext cx="279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5819760" y="3338640"/>
            <a:ext cx="279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71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1093680" y="3338640"/>
            <a:ext cx="16239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nergy (Oil, Gas, Electri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5553000" y="3714840"/>
            <a:ext cx="2811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67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16"/>
          <p:cNvSpPr/>
          <p:nvPr/>
        </p:nvSpPr>
        <p:spPr>
          <a:xfrm>
            <a:off x="2016000" y="2962440"/>
            <a:ext cx="7016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utomo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3654360" y="4838760"/>
            <a:ext cx="279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18"/>
          <p:cNvSpPr/>
          <p:nvPr/>
        </p:nvSpPr>
        <p:spPr>
          <a:xfrm>
            <a:off x="222120" y="4467240"/>
            <a:ext cx="2495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ancial Services / Banking / Insu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19"/>
          <p:cNvSpPr/>
          <p:nvPr/>
        </p:nvSpPr>
        <p:spPr>
          <a:xfrm>
            <a:off x="3927600" y="4467240"/>
            <a:ext cx="279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27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20"/>
          <p:cNvSpPr/>
          <p:nvPr/>
        </p:nvSpPr>
        <p:spPr>
          <a:xfrm>
            <a:off x="1440000" y="4091040"/>
            <a:ext cx="12776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ealthcare / Medic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21"/>
          <p:cNvSpPr/>
          <p:nvPr/>
        </p:nvSpPr>
        <p:spPr>
          <a:xfrm>
            <a:off x="4586400" y="4091040"/>
            <a:ext cx="280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22"/>
          <p:cNvSpPr/>
          <p:nvPr/>
        </p:nvSpPr>
        <p:spPr>
          <a:xfrm>
            <a:off x="684360" y="3714840"/>
            <a:ext cx="20332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iotechnology / Pharmaceut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3"/>
          <p:cNvSpPr/>
          <p:nvPr/>
        </p:nvSpPr>
        <p:spPr>
          <a:xfrm>
            <a:off x="1477800" y="4838760"/>
            <a:ext cx="12398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sumer Produ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4"/>
          <p:cNvSpPr/>
          <p:nvPr/>
        </p:nvSpPr>
        <p:spPr>
          <a:xfrm>
            <a:off x="2835360" y="5214960"/>
            <a:ext cx="2030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17680" y="5214960"/>
            <a:ext cx="21999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sul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26"/>
          <p:cNvSpPr/>
          <p:nvPr/>
        </p:nvSpPr>
        <p:spPr>
          <a:xfrm>
            <a:off x="3411360" y="1460520"/>
            <a:ext cx="268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ngagement in activities around T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28"/>
          <p:cNvSpPr/>
          <p:nvPr/>
        </p:nvSpPr>
        <p:spPr>
          <a:xfrm>
            <a:off x="1676520" y="304920"/>
            <a:ext cx="7086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100% of manufacturers and mining companies have TB progra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29"/>
          <p:cNvSpPr/>
          <p:nvPr/>
        </p:nvSpPr>
        <p:spPr>
          <a:xfrm>
            <a:off x="304920" y="5943600"/>
            <a:ext cx="883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Calibri"/>
              </a:rPr>
              <a:t>Note: The above analysis includes industries where 3 or more companies responded to the surve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0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1371600" y="38088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views with member companies have revealed tha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685800" y="1600200"/>
            <a:ext cx="777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B programs tend to fall under the occupational health umbrell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nies feel that there needs to be more advocacy around T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pondents indicated that HIV/AIDS programs are a successful template and can be a starting point for TB engage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5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6"/>
          <p:cNvSpPr/>
          <p:nvPr/>
        </p:nvSpPr>
        <p:spPr>
          <a:xfrm>
            <a:off x="1523880" y="3808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ivate sector brings unique strengths to the fight against T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457200" y="1066680"/>
            <a:ext cx="8153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harmaceutical and medical technology 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mpanies ca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velop new drugs and diagnostic system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address TB, as well as enhance TB control programs in countr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ross all industries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ies can implement comprehensi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orkplace program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can leverage companies in their supply chain to do the sam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ross all industries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ies have a unique opportunity to perform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utreach in the communiti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re they opera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ross all industries,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ie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se their core competenci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enhance the reach of public sector TB progra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ross all industries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ies can serve a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werful advocat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TB issues by mobilizing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oice of busin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0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/>
          <p:cNvSpPr/>
          <p:nvPr/>
        </p:nvSpPr>
        <p:spPr>
          <a:xfrm>
            <a:off x="1447920" y="304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number of GBC member companies have deepened their involvement in addressing T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762120" y="14479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se Study #1: B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457200" y="2133720"/>
            <a:ext cx="8305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D joined with the Foundation for Innovative Diagnostics (FIND) to demonstrate the effectiveness of the BD-designed liquid culture technology for TB diagnos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monstration studies paved the way for the WHO endorsement of the liquid culture method for TB diagnos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airing of unique core competencies: BD’s excellence in TB diagnostic development, and FIND’s ability to initiate and coordinate the stud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BD/FIND Pricing Agreement benefits 39 high-burden, low-income countries (as defined by the WHO and the World Bank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2"/>
          <a:stretch/>
        </p:blipFill>
        <p:spPr>
          <a:xfrm>
            <a:off x="6934320" y="1447920"/>
            <a:ext cx="16142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27:38Z</dcterms:created>
  <dc:creator>Jacob Nettleton</dc:creator>
  <dc:description/>
  <dc:language>en-US</dc:language>
  <cp:lastModifiedBy>Lakshmi Sundaram</cp:lastModifiedBy>
  <dcterms:modified xsi:type="dcterms:W3CDTF">2008-10-27T14:36:27Z</dcterms:modified>
  <cp:revision>139</cp:revision>
  <dc:subject/>
  <dc:title>Slide 1</dc:title>
</cp:coreProperties>
</file>