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6EF3D-1F6F-41E2-93E6-E4453FB2BD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6D4E6-4E12-424B-94D6-9A4833DD78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23776-F18A-4EAE-AA5C-0AD0F9C031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AE01769-B6E4-476E-97C5-130D3A85E5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0025B524-FFEC-4F79-8FFD-5C32D09DB0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BE2F7F9-46ED-4D8B-91E0-9481A2DE63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DD7FFD5-364A-4945-8A39-FF52BA5007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639B10-529C-4839-A170-9C13EC98ED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2E5E7BC-989B-40F8-B971-2B0C019112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9449CC7-903B-4436-B18A-D7B2E7A8A3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88480E8-6070-408E-AC90-17BD048C6F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27A3C7A-E5B2-4DA2-B8D1-60532058E84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DF3D-EB20-4B41-A6E3-3394B8D552A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5A02-DED3-4C18-8C7F-A122AC5F8E1D}" type="datetime3">
              <a:rPr b="0" lang="en-US" sz="1200" spc="-1" strike="noStrike">
                <a:solidFill>
                  <a:srgbClr val="ffffff"/>
                </a:solidFill>
                <a:latin typeface="Times New Roman"/>
              </a:rPr>
              <a:t>July 29,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