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A145-DE60-440F-864E-DB2C70E87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F3C2-629D-46DF-B3DC-6524D757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E1F5-A60D-4463-9E22-443ACDBE4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14B7-639E-4EE7-9E29-5684FA1C6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7C6F-5582-435A-AE9E-69AE72DB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77A8-BAD2-4FDF-AC1F-DA0A52EC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CA3B-E539-4875-85FB-16A8F33D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481A-B74B-4A08-91CB-D634BAD4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3C7D-EDB7-4FAB-A0CC-929F9738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50BC-6BAA-412C-924B-25C6E7B5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8CB2-4950-4FFB-ACE8-C234DC71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0C9A-4C9F-4864-BDE5-AB6D7DCC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FAA22-490C-4C07-8066-FB7071AD145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64360" y="5950080"/>
            <a:ext cx="1684440" cy="688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Isoniazid preventive therapy</a:t>
            </a:r>
            <a:br>
              <a:rPr sz="4000"/>
            </a:b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+Intensified case finding</a:t>
            </a:r>
            <a:br>
              <a:rPr sz="4000"/>
            </a:b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n-GB" sz="4000" spc="-1" strike="noStrike" u="sng">
                <a:solidFill>
                  <a:srgbClr val="ff0000"/>
                </a:solidFill>
                <a:uFillTx/>
                <a:latin typeface="Arial"/>
              </a:rPr>
              <a:t>Infection control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964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3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IV Department, April 2-4, 2008, Gen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bjective and Resul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decide ways HIV community could scale up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mmend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larify/develop policy in all 3 area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Develop indicator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Advocate from top: create demand from bottom 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Raise resources through UNITAID etc for isoniazid and infection control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372360" y="1197000"/>
            <a:ext cx="2771640" cy="2079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20000" y="3357720"/>
            <a:ext cx="193176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International AIDS Societ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overning council committed to TB/H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IAS is standing member of the TB/HIV Core Group and the President, Pedro Cahn attends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Endorsed the IPT consensus statement of the WG and disseminating it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Mainstreamed TB infection control in their work on health workers safety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IDS 2008, Mexico City, August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B/HIV Activitie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nary Session (August 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. Chakay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 Driven S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Oral session (TB and ART)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oster driven session (TB and HIV, a deadly partnership)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ellite sympos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"TB Shack" in commercial exhibit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AG and IAS on infection control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WHO guidelines on TB and HIV services in drug users: launch 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ily visibility of TB/HIV in the daily newsletter of the conference-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anoscop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the TB/HIV logo with 2-4 page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of journalists from the south on TB/HIV to report on the conference and later in their respective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9:54:42Z</dcterms:created>
  <dc:creator>nunnp</dc:creator>
  <dc:description/>
  <dc:language>en-US</dc:language>
  <cp:lastModifiedBy>hendersons</cp:lastModifiedBy>
  <dcterms:modified xsi:type="dcterms:W3CDTF">2008-05-13T08:32:24Z</dcterms:modified>
  <cp:revision>3</cp:revision>
  <dc:subject/>
  <dc:title>  Isoniazid preventive therapy +Intensified case finding +Infection contr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65127637</vt:r8>
  </property>
  <property fmtid="{D5CDD505-2E9C-101B-9397-08002B2CF9AE}" pid="3" name="_AuthorEmail">
    <vt:lpwstr>nunnp@who.int</vt:lpwstr>
  </property>
  <property fmtid="{D5CDD505-2E9C-101B-9397-08002B2CF9AE}" pid="4" name="_AuthorEmailDisplayName">
    <vt:lpwstr>Nunn, Paul P.</vt:lpwstr>
  </property>
  <property fmtid="{D5CDD505-2E9C-101B-9397-08002B2CF9AE}" pid="5" name="_EmailSubject">
    <vt:lpwstr>Cairo Presentatio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