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E1B2-2A1B-4D6E-A923-C17E50772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947B-1679-4BF5-80EE-53E3B098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C776-7049-4311-88C1-C2C974D2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5C82-EE0E-41E0-9494-717391899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2BBE-9048-48B6-AE5A-74B365AA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2D85-6532-42B6-BE79-1135BA5A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3191-CC05-4F8B-A7D4-6EBC9A1C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E1CA-A810-4FD4-AC34-E799D67D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1993-6704-4778-86EE-DFA329A1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A706-D966-432F-A9B5-7D57FFAE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8F06-31FD-408B-B2BE-68057872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670B-A33D-4EF0-9AE9-4A9117B0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C645-12DF-450C-AD23-9413324F51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64360" y="5950080"/>
            <a:ext cx="1684440" cy="688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Isoniazid preventive therapy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+Intensified case finding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GB" sz="4000" spc="-1" strike="noStrike" u="sng">
                <a:solidFill>
                  <a:srgbClr val="ff0000"/>
                </a:solidFill>
                <a:uFillTx/>
                <a:latin typeface="Arial"/>
              </a:rPr>
              <a:t>Infection control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964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3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IV Department, April 2-4, 2008,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bjective and Resul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ecide ways HIV community could scale up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mmend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larify/develop policy in all 3 area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Develop indicator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Advocate from top: create demand from bottom 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Raise resources through UNITAID etc for isoniazid and infection contro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72360" y="1197000"/>
            <a:ext cx="2771640" cy="2079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3357720"/>
            <a:ext cx="193176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International AIDS Societ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verning council committed to TB/H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IAS is standing member of the TB/HIV Core Group and the President, Pedro Cahn attends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Endorsed the IPT consensus statement of the WG and disseminating it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Mainstreamed TB infection control in their work on health workers safety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IDS 2008, Mexico City, August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B/HIV Activiti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nary Session (August 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. Chakay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 Driven S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Oral session (TB and ART)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oster driven session (TB and HIV, a deadly partnership)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ellite sympos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"TB Shack" in commercial exhibi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AG and IAS on infection control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WHO guidelines on TB and HIV services in drug users: launch 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ily visibility of TB/HIV in the daily newsletter of the conference-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anoscop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the TB/HIV logo with 2-4 page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of journalists from the south on TB/HIV to report on the conference and later in their respective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9:54:42Z</dcterms:created>
  <dc:creator>nunnp</dc:creator>
  <dc:description/>
  <dc:language>en-US</dc:language>
  <cp:lastModifiedBy>hendersons</cp:lastModifiedBy>
  <dcterms:modified xsi:type="dcterms:W3CDTF">2008-05-13T08:32:24Z</dcterms:modified>
  <cp:revision>3</cp:revision>
  <dc:subject/>
  <dc:title>  Isoniazid preventive therapy +Intensified case finding +Infection contr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65127637</vt:r8>
  </property>
  <property fmtid="{D5CDD505-2E9C-101B-9397-08002B2CF9AE}" pid="3" name="_AuthorEmail">
    <vt:lpwstr>nunnp@who.int</vt:lpwstr>
  </property>
  <property fmtid="{D5CDD505-2E9C-101B-9397-08002B2CF9AE}" pid="4" name="_AuthorEmailDisplayName">
    <vt:lpwstr>Nunn, Paul P.</vt:lpwstr>
  </property>
  <property fmtid="{D5CDD505-2E9C-101B-9397-08002B2CF9AE}" pid="5" name="_EmailSubject">
    <vt:lpwstr>Cairo Presentatio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