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5170-E047-4D45-AFE8-C40E28EA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1ECA-EA02-4080-8BE9-9CF2072F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70AF-8928-4810-BB38-6DD82C07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C376-1D01-4856-A26D-829935A8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BD18-7252-4E10-BC97-9BCAA2E1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167E-367D-40E9-BAA9-E5EBC036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2E91-B3AC-4386-AEFC-49947516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DB9C-A285-4C6D-8363-00073154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FB5D-F93E-4371-9172-9647A907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D485-98FA-4CA0-9499-FF9F6EB1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E977-92AC-408B-B793-2272ED8B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CC85-0CE5-4D8B-A102-C1452D25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37C3-F99B-4061-849E-D622527DF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27320" y="3511440"/>
            <a:ext cx="6916680" cy="3346560"/>
          </a:xfrm>
          <a:prstGeom prst="rect">
            <a:avLst/>
          </a:prstGeom>
          <a:noFill/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24 October 20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Berlin,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Paul Sommerf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hair, ACSM Working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826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SM Working Group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iennium Workplan</a:t>
            </a:r>
            <a:br>
              <a:rPr sz="3600"/>
            </a:br>
            <a:br>
              <a:rPr sz="3600"/>
            </a:b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trategic Action to Stop T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4379" t="0" r="32732" b="0"/>
          <a:stretch/>
        </p:blipFill>
        <p:spPr>
          <a:xfrm>
            <a:off x="228600" y="887400"/>
            <a:ext cx="2754360" cy="4226040"/>
          </a:xfrm>
          <a:prstGeom prst="rect">
            <a:avLst/>
          </a:prstGeom>
          <a:ln w="57240">
            <a:solidFill>
              <a:srgbClr val="66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Strategic Fra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 Opportunities for More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gage Civil Society; Promote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mote ACSM Approaches in TB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ort other Partnership Working Groups and Initi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velop Opportun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8560" y="1562040"/>
            <a:ext cx="8020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targets and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a "Library of Evidenc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ise strategy for each 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Link Secretariat and Partner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onitor resource mobilization activ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gage Civil Socie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4880" y="1562040"/>
            <a:ext cx="8020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mote Regional and Nat'l STB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nvene Reg’l and Nat’l dialogu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ordinate partn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round key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messa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 Civil Society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3040" y="1981080"/>
            <a:ext cx="802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tion learning on civil society 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trengthen and link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use of Patients' Charter and International Standards of TB C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0280" y="1657440"/>
            <a:ext cx="80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regional ACSM planning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cilitate technical assistance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rain consulta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tegrate ACSM into existing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isseminate "how-to" ACSM  gu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4880" y="1486080"/>
            <a:ext cx="8020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best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duce regional case study colle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llect examples of good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global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nnually review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pport other Working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6720" y="1581120"/>
            <a:ext cx="80200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exchange of information and sh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SM-related tools and best pract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Work with advocacy people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CSM Core Group individuals to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ass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vide training, tools and materials to develop advocacy capacity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Next Steps 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4880" y="1486080"/>
            <a:ext cx="8020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anslate objectives into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Partners meet in Cape Town to develop strategy and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resources for WG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(Regular support is in Secretari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s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User</cp:lastModifiedBy>
  <cp:lastPrinted>2002-05-31T10:14:11Z</cp:lastPrinted>
  <dcterms:modified xsi:type="dcterms:W3CDTF">2007-10-24T06:26:30Z</dcterms:modified>
  <cp:revision>10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