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B2525E-17BA-48F5-9EF0-230C6BB39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389E2-DF51-4F63-ABAF-E49056362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8ADAD-72E8-4AB7-BAB5-01666EC63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61104-71D3-4987-958B-EE3EE92A0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8EA61-EBA3-48D4-92FE-9372878BB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891C5-A930-4B01-B16F-ED9231A5E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BBC68-AE23-4092-8C3F-6B6C9C6FC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FA248-AC0A-463D-95E8-3BBC5350E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4C994-6F30-4427-AF21-966E9125C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D4139-FF0D-489B-84FC-4D55A22B0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A8232-E9C7-4985-9590-211CAAF1E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186AA-1E20-44C0-883F-A952FFEBE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D570B-A93A-4A91-8B0C-DD4FD97F95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emro.who.int/stb" TargetMode="External"/><Relationship Id="rId2" Type="http://schemas.openxmlformats.org/officeDocument/2006/relationships/hyperlink" Target="mailto:stb@emro.who.int"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761760" y="1447560"/>
            <a:ext cx="7924680" cy="4267080"/>
          </a:xfrm>
          <a:prstGeom prst="rect">
            <a:avLst/>
          </a:prstGeom>
          <a:noFill/>
          <a:ln w="0">
            <a:noFill/>
          </a:ln>
        </p:spPr>
        <p:txBody>
          <a:bodyPr lIns="90000" rIns="90000" tIns="46800" bIns="46800" anchor="t">
            <a:normAutofit fontScale="95000"/>
          </a:bodyPr>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Palatino Linotype"/>
              </a:rPr>
              <a:t>Tuberculosis in Afghanistan</a:t>
            </a:r>
            <a:endParaRPr b="0" lang="en-US" sz="4400" spc="-1" strike="noStrike">
              <a:solidFill>
                <a:srgbClr val="000000"/>
              </a:solidFill>
              <a:latin typeface="Arial"/>
            </a:endParaRPr>
          </a:p>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hotography by: Riccardo Venturi</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resented by: World Health Organization Regional Office for the Eastern Mediterranean </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2007</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
          <p:cNvSpPr/>
          <p:nvPr/>
        </p:nvSpPr>
        <p:spPr>
          <a:xfrm>
            <a:off x="990720" y="-76320"/>
            <a:ext cx="7162560" cy="56944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mail, 9 years old, is in need of better nutrition. He is waiting with his mother in the food distribution line provided by the World Food Programme (WFP) at the TB Hospital in Kabul.</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
          <p:cNvSpPr/>
          <p:nvPr/>
        </p:nvSpPr>
        <p:spPr>
          <a:xfrm>
            <a:off x="609480" y="0"/>
            <a:ext cx="8153640" cy="54356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efforts are being made by all to combat the disease: WHO, WFP, BRAC, Red Cross, USAID and others... Here, a doctor checks the X-ray of a TB suspect at the German TB Clinic in Kabu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ople are responding to the efforts. With stigma declining, TB suspects are coming forward for sputum examination.</a:t>
            </a:r>
            <a:endParaRPr b="0" lang="en-US" sz="1800" spc="-1" strike="noStrike">
              <a:solidFill>
                <a:srgbClr val="000000"/>
              </a:solidFill>
              <a:latin typeface="Arial"/>
            </a:endParaRPr>
          </a:p>
        </p:txBody>
      </p:sp>
      <p:pic>
        <p:nvPicPr>
          <p:cNvPr id="75" name="" descr=""/>
          <p:cNvPicPr/>
          <p:nvPr/>
        </p:nvPicPr>
        <p:blipFill>
          <a:blip r:embed="rId1"/>
          <a:stretch/>
        </p:blipFill>
        <p:spPr>
          <a:xfrm>
            <a:off x="457200" y="0"/>
            <a:ext cx="8229600" cy="548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
          <p:cNvSpPr/>
          <p:nvPr/>
        </p:nvSpPr>
        <p:spPr>
          <a:xfrm>
            <a:off x="2006640" y="-1600200"/>
            <a:ext cx="4775040" cy="71629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laboratory results are positive for TB, the patient is immediately put under DO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
          <p:cNvSpPr/>
          <p:nvPr/>
        </p:nvSpPr>
        <p:spPr>
          <a:xfrm>
            <a:off x="912960" y="5715000"/>
            <a:ext cx="769752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is a proven successful endeavour that is saving thousands of lives in Afghanistan and saves millions more around the world every year.</a:t>
            </a:r>
            <a:endParaRPr b="0" lang="en-US" sz="1800" spc="-1" strike="noStrike">
              <a:solidFill>
                <a:srgbClr val="000000"/>
              </a:solidFill>
              <a:latin typeface="Arial"/>
            </a:endParaRPr>
          </a:p>
        </p:txBody>
      </p:sp>
      <p:pic>
        <p:nvPicPr>
          <p:cNvPr id="81" name="" descr=""/>
          <p:cNvPicPr/>
          <p:nvPr/>
        </p:nvPicPr>
        <p:blipFill>
          <a:blip r:embed="rId1"/>
          <a:stretch/>
        </p:blipFill>
        <p:spPr>
          <a:xfrm>
            <a:off x="380880" y="0"/>
            <a:ext cx="845820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
          <p:cNvSpPr/>
          <p:nvPr/>
        </p:nvSpPr>
        <p:spPr>
          <a:xfrm>
            <a:off x="1116000" y="-3048120"/>
            <a:ext cx="6732720" cy="83822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akayeva is a woman who watched her mother die of TB years ago. Now, while pregnant, Zakayeva has been diagnosed with TB. But she will not share her mother’s fate. Thanks to the efforts of the community, DOTS has reached 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
          <p:cNvSpPr/>
          <p:nvPr/>
        </p:nvSpPr>
        <p:spPr>
          <a:xfrm>
            <a:off x="1752480" y="0"/>
            <a:ext cx="5078520" cy="51055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912960" y="5334120"/>
            <a:ext cx="7313400" cy="182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and good care will cure Zakayev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t will everyone else in Afghanistan and other countries of the Eastern Mediterranean Region and the world be so luck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needs to be done to stop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We need you to Stop TB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Stop TB</a:t>
            </a:r>
            <a:r>
              <a:rPr b="1" lang="en-US" sz="4000" spc="-1" strike="noStrike">
                <a:solidFill>
                  <a:srgbClr val="ffffff"/>
                </a:solidFill>
                <a:latin typeface="Arial"/>
              </a:rPr>
              <a:t> </a:t>
            </a: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ld Health Organiza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ional Office for the Eastern Mediterranea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mro.who.int/stb</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ail us at: </a:t>
            </a:r>
            <a:r>
              <a:rPr b="0" lang="en-US" sz="3200" spc="-1" strike="noStrike" u="sng">
                <a:solidFill>
                  <a:srgbClr val="009999"/>
                </a:solidFill>
                <a:uFillTx/>
                <a:latin typeface="Arial"/>
                <a:hlinkClick r:id="rId2"/>
              </a:rPr>
              <a:t>stb@emro.who.i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
          <p:cNvSpPr/>
          <p:nvPr/>
        </p:nvSpPr>
        <p:spPr>
          <a:xfrm>
            <a:off x="76320" y="-380880"/>
            <a:ext cx="8991360" cy="59943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bul 2007: a city in turmoil. People are dying from a totally preventable and curable disease, tuberculosis (TB), better known to Afghanis as “</a:t>
            </a:r>
            <a:r>
              <a:rPr b="1" i="1" lang="en-US" sz="1800" spc="-1" strike="noStrike">
                <a:solidFill>
                  <a:srgbClr val="ffffff"/>
                </a:solidFill>
                <a:latin typeface="Arial"/>
              </a:rPr>
              <a:t>sal</a:t>
            </a:r>
            <a:r>
              <a:rPr b="1" lang="en-US"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bos’s baby is suffering from malnutrition. He is coughing and sweating too. Dibos and her baby are at the TB clinic waiting to see a doctor. Is it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912960" y="5638680"/>
            <a:ext cx="7313400" cy="182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dorga is a 33 year-old woman who has been suffering from TB for 3 long years. Now, finally, she is at the Kabul hospital receiving directly observed treatment, short-course (DO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OTS is the WHO-recommended strategy for the treatment of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Rounded MT Bold"/>
            </a:endParaRPr>
          </a:p>
        </p:txBody>
      </p:sp>
      <p:sp>
        <p:nvSpPr>
          <p:cNvPr id="52" name=""/>
          <p:cNvSpPr/>
          <p:nvPr/>
        </p:nvSpPr>
        <p:spPr>
          <a:xfrm>
            <a:off x="0" y="-152280"/>
            <a:ext cx="8686800" cy="57909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ose who suffer from TB, but whose names appear in a TB treatment sheet like this one, may be among the lucky ones who escape death from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
          <p:cNvSpPr/>
          <p:nvPr/>
        </p:nvSpPr>
        <p:spPr>
          <a:xfrm>
            <a:off x="685800" y="0"/>
            <a:ext cx="7924680" cy="63612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23880" y="6033960"/>
            <a:ext cx="6096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12960" y="5805360"/>
            <a:ext cx="762156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kten is a grandmother who lives with her big family in a small house in Kabul. She and her two grandchildren are affected by TB.</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
          <p:cNvSpPr/>
          <p:nvPr/>
        </p:nvSpPr>
        <p:spPr>
          <a:xfrm>
            <a:off x="685800" y="-609480"/>
            <a:ext cx="7696080" cy="61941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iam, on the left, shown with her baby and her sister, is suffering from multidrug-resistant TB (MDR TB). She is under treatment. Will they too be in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
          <p:cNvSpPr/>
          <p:nvPr/>
        </p:nvSpPr>
        <p:spPr>
          <a:xfrm>
            <a:off x="1203480" y="-1600200"/>
            <a:ext cx="679752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yas is a 24 year-old man with MDR TB. Fayas is receiving second-line TB medicines under close medical supervision in the TB ward at Kabul General Hospi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
          <p:cNvSpPr/>
          <p:nvPr/>
        </p:nvSpPr>
        <p:spPr>
          <a:xfrm>
            <a:off x="1467000" y="-304920"/>
            <a:ext cx="5924520" cy="59436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matulla is a bus ticket salesman. He also has MDR TB and is the only provider for his poor family. Will he recover soon from the disease that is threatening his whole fami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09:11:31Z</dcterms:created>
  <dc:creator>ibrahimsa</dc:creator>
  <dc:description/>
  <dc:language>en-US</dc:language>
  <cp:lastModifiedBy>ibrahimsa</cp:lastModifiedBy>
  <dcterms:modified xsi:type="dcterms:W3CDTF">2007-10-17T11:30:36Z</dcterms:modified>
  <cp:revision>56</cp:revision>
  <dc:subject/>
  <dc:title>Slide 1</dc:title>
</cp:coreProperties>
</file>