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61FBC-630F-4B88-9EA9-2F37AA9A6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B1ACA-36DF-452E-87F7-7D647806D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59F86-AA7E-402B-94DA-D1DB65569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418DA-4B86-4F7C-84EC-227A2B79F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5B15D-54E3-4EBF-B42E-A13AE5C08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ACDE2-9CF6-468B-BA0D-FA5129E59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16D2B-8F48-49AD-98F7-21D7EB616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6D0C8-A51B-47E1-A355-7C5D7DE2F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42887-29D1-4238-83F6-DF849CFAF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7080D-FD5C-4368-9914-35964366B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1B4ED-CFB4-492C-A14E-B47E4D851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D2836-19AA-480F-9D3F-1216CD801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F42AF-8B45-48B5-A7E3-7B1B5341B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66E21-ED68-4A8C-97B0-D9544F812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91775-20C2-44B9-A4FF-020F31160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C7A6C-400C-4BC6-9FF4-8A9C6164C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D6A59-D575-49B9-8383-4E54356E4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89DC7-2253-44D1-86B4-20EE19DC1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E571E-45DE-4DAF-98C6-A2F923C0B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07FCA-883A-4D6F-A766-A686487C0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3A376-DF4A-4B46-8C44-1A6C42E01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1D7B5-B501-4B85-AAA3-28620B229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9A118-4E9A-4A7E-B888-FAB55EA4B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706D4-A240-4FB4-9F49-D750DC189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B660E-107A-4CB1-8E4A-FD13C8BEEB23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3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44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47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9B66E-044D-41B3-9A40-8D905D327D8C}" type="slidenum">
              <a:rPr b="0" lang="en-GB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stoptb.org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stoptb.org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stoptb.org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stoptb.org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stoptb.org/" TargetMode="External"/><Relationship Id="rId2" Type="http://schemas.openxmlformats.org/officeDocument/2006/relationships/image" Target="../media/image1.png"/><Relationship Id="rId3" Type="http://schemas.openxmlformats.org/officeDocument/2006/relationships/hyperlink" Target="http://www.stoptb.org/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hyperlink" Target="http://www.stoptb.org/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Stop TB Partnership Websit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916360" y="201600"/>
            <a:ext cx="3095640" cy="92376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>
            <a:off x="1619280" y="2565360"/>
            <a:ext cx="604836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0000"/>
                  </a:solidFill>
                  <a:miter/>
                </a:ln>
                <a:gradFill rotWithShape="0">
                  <a:gsLst>
                    <a:gs pos="0">
                      <a:srgbClr val="f60000"/>
                    </a:gs>
                    <a:gs pos="100000">
                      <a:srgbClr val="ffcf01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PLAN OF ACTION 2008-09</a:t>
            </a:r>
            <a:endParaRPr b="1" lang="en-US" sz="1800" spc="1" strike="noStrike">
              <a:ln w="19080">
                <a:solidFill>
                  <a:srgbClr val="990000"/>
                </a:solidFill>
                <a:miter/>
              </a:ln>
              <a:gradFill rotWithShape="0">
                <a:gsLst>
                  <a:gs pos="0">
                    <a:srgbClr val="f60000"/>
                  </a:gs>
                  <a:gs pos="100000">
                    <a:srgbClr val="ffcf01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0000"/>
                  </a:solidFill>
                  <a:miter/>
                </a:ln>
                <a:gradFill rotWithShape="0">
                  <a:gsLst>
                    <a:gs pos="0">
                      <a:srgbClr val="f60000"/>
                    </a:gs>
                    <a:gs pos="100000">
                      <a:srgbClr val="ffcf01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"IMPLEMENTING"</a:t>
            </a:r>
            <a:endParaRPr b="1" lang="en-US" sz="1800" spc="1" strike="noStrike">
              <a:ln w="19080">
                <a:solidFill>
                  <a:srgbClr val="990000"/>
                </a:solidFill>
                <a:miter/>
              </a:ln>
              <a:gradFill rotWithShape="0">
                <a:gsLst>
                  <a:gs pos="0">
                    <a:srgbClr val="f60000"/>
                  </a:gs>
                  <a:gs pos="100000">
                    <a:srgbClr val="ffcf01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0000"/>
                  </a:solidFill>
                  <a:miter/>
                </a:ln>
                <a:gradFill rotWithShape="0">
                  <a:gsLst>
                    <a:gs pos="0">
                      <a:srgbClr val="f60000"/>
                    </a:gs>
                    <a:gs pos="100000">
                      <a:srgbClr val="ffcf01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WORKING GROUPS</a:t>
            </a:r>
            <a:endParaRPr b="1" lang="en-US" sz="1800" spc="1" strike="noStrike">
              <a:ln w="19080">
                <a:solidFill>
                  <a:srgbClr val="990000"/>
                </a:solidFill>
                <a:miter/>
              </a:ln>
              <a:gradFill rotWithShape="0">
                <a:gsLst>
                  <a:gs pos="0">
                    <a:srgbClr val="f60000"/>
                  </a:gs>
                  <a:gs pos="100000">
                    <a:srgbClr val="ffcf01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slow">
    <p:strips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8" name=""/>
          <p:cNvGraphicFramePr/>
          <p:nvPr/>
        </p:nvGraphicFramePr>
        <p:xfrm>
          <a:off x="395280" y="1628640"/>
          <a:ext cx="8424720" cy="4392360"/>
        </p:xfrm>
        <a:graphic>
          <a:graphicData uri="http://schemas.openxmlformats.org/drawingml/2006/table">
            <a:tbl>
              <a:tblPr/>
              <a:tblGrid>
                <a:gridCol w="4024440"/>
                <a:gridCol w="1257120"/>
                <a:gridCol w="376200"/>
                <a:gridCol w="1509840"/>
                <a:gridCol w="1257120"/>
              </a:tblGrid>
              <a:tr h="55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Requir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Availabl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Ga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Working Grou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WG Chairmanshi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MDR-TB WG Secretariat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8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4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4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Activities of core group     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and subgroup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8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8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Annual meeting of the WG (two meetings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4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4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Tota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2,1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4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,7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9" name=""/>
          <p:cNvSpPr/>
          <p:nvPr/>
        </p:nvSpPr>
        <p:spPr>
          <a:xfrm>
            <a:off x="395280" y="404640"/>
            <a:ext cx="8389800" cy="1015920"/>
          </a:xfrm>
          <a:prstGeom prst="rect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ble 2. Costs of operations of the MDR-T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G and sub-groups for 2008-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140360" y="2205000"/>
            <a:ext cx="20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 US$ thous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50920" y="1628640"/>
            <a:ext cx="8642160" cy="0"/>
          </a:xfrm>
          <a:prstGeom prst="line">
            <a:avLst/>
          </a:prstGeom>
          <a:ln w="381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50920" y="1700280"/>
            <a:ext cx="8642160" cy="0"/>
          </a:xfrm>
          <a:prstGeom prst="line">
            <a:avLst/>
          </a:prstGeom>
          <a:ln w="38160">
            <a:solidFill>
              <a:srgbClr val="d2d5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50920" y="6093000"/>
            <a:ext cx="8642160" cy="0"/>
          </a:xfrm>
          <a:prstGeom prst="line">
            <a:avLst/>
          </a:prstGeom>
          <a:ln w="381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50920" y="6021360"/>
            <a:ext cx="8642160" cy="0"/>
          </a:xfrm>
          <a:prstGeom prst="line">
            <a:avLst/>
          </a:prstGeom>
          <a:ln w="38160">
            <a:solidFill>
              <a:srgbClr val="d2d5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Stop TB Partnership Website"/>
          <p:cNvPicPr/>
          <p:nvPr/>
        </p:nvPicPr>
        <p:blipFill>
          <a:blip r:embed="rId1"/>
          <a:stretch/>
        </p:blipFill>
        <p:spPr>
          <a:xfrm>
            <a:off x="7020000" y="692280"/>
            <a:ext cx="1657440" cy="4935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773360" y="441396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916200" y="468684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56320" y="5869800"/>
            <a:ext cx="847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(1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This does not include pledges received by partners of the WG other than WH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50920" y="1704960"/>
          <a:ext cx="8642160" cy="4100400"/>
        </p:xfrm>
        <a:graphic>
          <a:graphicData uri="http://schemas.openxmlformats.org/drawingml/2006/table">
            <a:tbl>
              <a:tblPr/>
              <a:tblGrid>
                <a:gridCol w="4000320"/>
                <a:gridCol w="216000"/>
                <a:gridCol w="1880640"/>
                <a:gridCol w="1333080"/>
                <a:gridCol w="1212120"/>
              </a:tblGrid>
              <a:tr h="57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Requir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Availa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Ga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Technical assistance and GLC </a:t>
                      </a:r>
                      <a:r>
                        <a:rPr b="1" lang="en-US" sz="1800" spc="-1" strike="noStrike" baseline="40000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(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7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GLC (according to business pla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31,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3,8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27,7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Technical assistance other than GLC (including laboratory strengthening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95,4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,3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94,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0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Subto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26,9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5,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21,8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29,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5,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23,50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baseline="40000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(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50920" y="436680"/>
            <a:ext cx="8642160" cy="1015920"/>
          </a:xfrm>
          <a:prstGeom prst="rect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ble 2. Costs of technical assistance 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DR-TB management for 2008-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356000" y="2276640"/>
            <a:ext cx="165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n US$ thousan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50920" y="1628640"/>
            <a:ext cx="8642160" cy="0"/>
          </a:xfrm>
          <a:prstGeom prst="line">
            <a:avLst/>
          </a:prstGeom>
          <a:ln w="381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50920" y="1700280"/>
            <a:ext cx="8642160" cy="0"/>
          </a:xfrm>
          <a:prstGeom prst="line">
            <a:avLst/>
          </a:prstGeom>
          <a:ln w="38160">
            <a:solidFill>
              <a:srgbClr val="d2d5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50920" y="5877000"/>
            <a:ext cx="8642160" cy="0"/>
          </a:xfrm>
          <a:prstGeom prst="line">
            <a:avLst/>
          </a:prstGeom>
          <a:ln w="381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50920" y="5805360"/>
            <a:ext cx="8642160" cy="0"/>
          </a:xfrm>
          <a:prstGeom prst="line">
            <a:avLst/>
          </a:prstGeom>
          <a:ln w="38160">
            <a:solidFill>
              <a:srgbClr val="d2d5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Stop TB Partnership Website"/>
          <p:cNvPicPr/>
          <p:nvPr/>
        </p:nvPicPr>
        <p:blipFill>
          <a:blip r:embed="rId1"/>
          <a:stretch/>
        </p:blipFill>
        <p:spPr>
          <a:xfrm>
            <a:off x="6948360" y="620640"/>
            <a:ext cx="1657440" cy="4939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50560" y="414000"/>
            <a:ext cx="8569080" cy="114300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TB/HIV 1: Catalyse I</a:t>
            </a:r>
            <a:r>
              <a:rPr b="1" lang="en-GB" sz="3200" spc="-1" strike="noStrike" u="sng">
                <a:solidFill>
                  <a:srgbClr val="ffffff"/>
                </a:solidFill>
                <a:uFillTx/>
                <a:latin typeface="Arial"/>
              </a:rPr>
              <a:t>mplementation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  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of HIV/TB activities through:  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844640"/>
            <a:ext cx="84358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宋体"/>
              </a:rPr>
              <a:t>Regional TB/HIV implementation meeting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Asia Pacific  and Africa regional meeting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宋体"/>
              </a:rPr>
              <a:t>Training and Engagement of  NAP and NTP manager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Introduce TB/HIV components (including TB infection control) into Global Fund proposal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Advocate for TB/HIV implementation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Joint UN teams on AIDS and partners at country leve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Harmonized TB/HIV data coll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Facilitate a freely accessible web-based collection and sharing of data and information on implement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"/>
          <p:cNvSpPr/>
          <p:nvPr/>
        </p:nvSpPr>
        <p:spPr>
          <a:xfrm>
            <a:off x="395280" y="1773360"/>
            <a:ext cx="820908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50920" y="1700280"/>
            <a:ext cx="85690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50920" y="6669000"/>
            <a:ext cx="871380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95280" y="6597720"/>
            <a:ext cx="83534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Stop TB Partnership Website"/>
          <p:cNvPicPr/>
          <p:nvPr/>
        </p:nvPicPr>
        <p:blipFill>
          <a:blip r:embed="rId1"/>
          <a:stretch/>
        </p:blipFill>
        <p:spPr>
          <a:xfrm>
            <a:off x="7164360" y="1052640"/>
            <a:ext cx="1657440" cy="4935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7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5" dur="5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8" dur="5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4" dur="500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7" dur="500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0" dur="500"/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50920" y="475920"/>
            <a:ext cx="8424720" cy="114300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TB/HIV 2: Promote TB/HIV 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research activities and their funding 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24000" y="1933200"/>
            <a:ext cx="829152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00"/>
                </a:solidFill>
                <a:latin typeface="Tahoma"/>
                <a:ea typeface="宋体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宋体"/>
              </a:rPr>
              <a:t>TB/HIV  Research Meetings linked to major HIV meetings  (CROI and IAS) 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宋体"/>
              </a:rPr>
              <a:t>To enhance ongoing efforts to increase  HIV/TB research issues into the mainstream of HIV treatment and prevention research.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宋体"/>
              </a:rPr>
              <a:t>To engage funders to increase research suppo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support optimal TB prevention, treatment and infection control  within HIV research network activities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395280" y="3716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5280" y="4653000"/>
            <a:ext cx="8229600" cy="16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95280" y="1844640"/>
            <a:ext cx="820908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50920" y="1771560"/>
            <a:ext cx="85690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50920" y="6669000"/>
            <a:ext cx="871380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95280" y="6595920"/>
            <a:ext cx="83534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Stop TB Partnership Website"/>
          <p:cNvPicPr/>
          <p:nvPr/>
        </p:nvPicPr>
        <p:blipFill>
          <a:blip r:embed="rId1"/>
          <a:stretch/>
        </p:blipFill>
        <p:spPr>
          <a:xfrm>
            <a:off x="6948360" y="620640"/>
            <a:ext cx="1657440" cy="4939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2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5" dur="5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8" dur="5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1" dur="5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50920" y="340920"/>
            <a:ext cx="8424720" cy="114300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TB/HIV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 3: Engage leading NGOs in 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TB/HIV and community mobilization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52000" y="1978200"/>
            <a:ext cx="8496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宋体"/>
              </a:rPr>
              <a:t>Engage leading HIV/AIDS NGOs in TB/HIV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宋体"/>
              </a:rPr>
              <a:t>Emphasis on TB screening and provision of preventive therapy for PLHIV and TB infection control, including in PMTCT servic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宋体"/>
              </a:rPr>
              <a:t>Expand and strengthen community mobilization for TB/HIV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宋体"/>
              </a:rPr>
              <a:t>Technical assistance to community groups and networks to catalyse national level implementation of collaborative TB/HIV activities, including TB infection control and prevention of MDR and XDR TB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"/>
          <p:cNvSpPr/>
          <p:nvPr/>
        </p:nvSpPr>
        <p:spPr>
          <a:xfrm>
            <a:off x="395280" y="1773360"/>
            <a:ext cx="820908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50920" y="1700280"/>
            <a:ext cx="85690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50920" y="6238800"/>
            <a:ext cx="871380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95280" y="6165720"/>
            <a:ext cx="83534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Stop TB Partnership Website"/>
          <p:cNvPicPr/>
          <p:nvPr/>
        </p:nvPicPr>
        <p:blipFill>
          <a:blip r:embed="rId1"/>
          <a:stretch/>
        </p:blipFill>
        <p:spPr>
          <a:xfrm>
            <a:off x="6948360" y="620640"/>
            <a:ext cx="1657440" cy="4939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8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3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6" dur="50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1" dur="500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4" dur="500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50560" y="485280"/>
            <a:ext cx="8497800" cy="114300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TB/HIV</a:t>
            </a: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 4: Communications </a:t>
            </a:r>
            <a:br>
              <a:rPr sz="3000"/>
            </a:b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and Guidelines on key HIV/TB Activities 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24000" y="1978200"/>
            <a:ext cx="8496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Declaration of Importance of INH Preventive Therapy in HIV program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Dissemination of revised infection control guideline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Monogram on monitoring of HIV/TB activitie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"/>
          <p:cNvSpPr/>
          <p:nvPr/>
        </p:nvSpPr>
        <p:spPr>
          <a:xfrm>
            <a:off x="395280" y="1916280"/>
            <a:ext cx="820908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50920" y="1844640"/>
            <a:ext cx="85690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50920" y="6524640"/>
            <a:ext cx="871380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95280" y="6453360"/>
            <a:ext cx="83534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Stop TB Partnership Website"/>
          <p:cNvPicPr/>
          <p:nvPr/>
        </p:nvPicPr>
        <p:blipFill>
          <a:blip r:embed="rId1"/>
          <a:stretch/>
        </p:blipFill>
        <p:spPr>
          <a:xfrm>
            <a:off x="7020000" y="620640"/>
            <a:ext cx="1657440" cy="4939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1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8" dur="10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5" dur="1000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2" dur="1000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50560" y="485280"/>
            <a:ext cx="8497800" cy="114300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Funding TB/HIV activities 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24000" y="1978200"/>
            <a:ext cx="8496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Overall needs at global level to implement TB/HIV activities in count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Needs identified in GP 2008-09: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$1.153 bill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Gap estimated for 2008-09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$700 mill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Funding the working group operations 2008-09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$ 1.5 mill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"/>
          <p:cNvSpPr/>
          <p:nvPr/>
        </p:nvSpPr>
        <p:spPr>
          <a:xfrm>
            <a:off x="395280" y="1916280"/>
            <a:ext cx="820908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50920" y="1844640"/>
            <a:ext cx="85690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50920" y="6524640"/>
            <a:ext cx="871380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95280" y="6453360"/>
            <a:ext cx="83534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" descr="Stop TB Partnership Website"/>
          <p:cNvPicPr/>
          <p:nvPr/>
        </p:nvPicPr>
        <p:blipFill>
          <a:blip r:embed="rId1"/>
          <a:stretch/>
        </p:blipFill>
        <p:spPr>
          <a:xfrm>
            <a:off x="7020000" y="620640"/>
            <a:ext cx="1657440" cy="4939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9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6" dur="10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3" dur="100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0" dur="100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7" dur="1000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4" dur="1000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50920" y="1712880"/>
            <a:ext cx="8713800" cy="228852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OTS Expansion Working Group (DEW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Sub-group on Laboratory Capacity Strengthening (SLC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Sub-group on Public Private Mix (PP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Sub-group on childhood T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Sub-group on TB and pover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50920" y="3807000"/>
            <a:ext cx="8713800" cy="1922760"/>
          </a:xfrm>
          <a:prstGeom prst="rect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ing Group on MDR-T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Sub-group on advocacy and resource mobilis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Sub group on re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Sub-group on drug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Green Light Committee (GL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Stop TB Partnership Websit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4000" y="189000"/>
            <a:ext cx="3816360" cy="11383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250920" y="5910120"/>
            <a:ext cx="8713800" cy="825480"/>
          </a:xfrm>
          <a:prstGeom prst="rect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B/HIV Working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Sub-group on infection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0560" y="340920"/>
            <a:ext cx="8569080" cy="11430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100" spc="-1" strike="noStrike">
                <a:solidFill>
                  <a:srgbClr val="ffffff"/>
                </a:solidFill>
                <a:latin typeface="Arial"/>
              </a:rPr>
              <a:t>DOTS Expansion Working Group </a:t>
            </a:r>
            <a:br>
              <a:rPr sz="3100"/>
            </a:br>
            <a:r>
              <a:rPr b="1" lang="en-GB" sz="3100" spc="-1" strike="noStrike">
                <a:solidFill>
                  <a:srgbClr val="ffffff"/>
                </a:solidFill>
                <a:latin typeface="Arial"/>
              </a:rPr>
              <a:t>(DEWG) plan of action 2008-2009</a:t>
            </a:r>
            <a:endParaRPr b="0" lang="en-US" sz="3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39400" y="1846440"/>
            <a:ext cx="843588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in areas of 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anding service coverage, Strengthening quality of DOTS implementation and increase access to services for childr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oratory strengthening to expand quality assured microscopy, culture and D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man resources development plan including mapping of existing resources from different health care providers with a focus on the services to the po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king existing health care providers to NTP including promotion of international standard for TB care (IST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itoring and evaluation including impact measur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"/>
          <p:cNvSpPr/>
          <p:nvPr/>
        </p:nvSpPr>
        <p:spPr>
          <a:xfrm>
            <a:off x="250920" y="1700280"/>
            <a:ext cx="864216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50920" y="1771560"/>
            <a:ext cx="864216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50920" y="6740640"/>
            <a:ext cx="864216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50920" y="6669000"/>
            <a:ext cx="864216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Stop TB Partnership Websit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948360" y="620640"/>
            <a:ext cx="1657440" cy="4939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5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8497800" cy="11430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100" spc="-1" strike="noStrike">
                <a:solidFill>
                  <a:srgbClr val="ffffff"/>
                </a:solidFill>
                <a:latin typeface="Arial"/>
              </a:rPr>
              <a:t>DOTS Expansion Working Group </a:t>
            </a:r>
            <a:br>
              <a:rPr sz="3100"/>
            </a:br>
            <a:r>
              <a:rPr b="1" lang="en-GB" sz="3100" spc="-1" strike="noStrike">
                <a:solidFill>
                  <a:srgbClr val="ffffff"/>
                </a:solidFill>
                <a:latin typeface="Arial"/>
              </a:rPr>
              <a:t>Activities planned for 2008-2009</a:t>
            </a:r>
            <a:endParaRPr b="0" lang="en-US" sz="3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52360" y="1701360"/>
            <a:ext cx="864072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inforcing support to countries and its coordination: TB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itoring Global Plan implementation and technical suppo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p countries accessing funding for TB control (GF, WB and other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oratory capacity strengthening (strategic plan in prepara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 countries in addressing Health System Strengthening issues and to implement P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250920" y="1486080"/>
            <a:ext cx="864216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0920" y="1557360"/>
            <a:ext cx="864216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50920" y="6669000"/>
            <a:ext cx="864216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50920" y="6597720"/>
            <a:ext cx="864216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Stop TB Partnership Websit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948360" y="549360"/>
            <a:ext cx="1657440" cy="4935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5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5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0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77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4" dur="77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6" dur="77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8" dur="77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8497800" cy="11430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100" spc="-1" strike="noStrike">
                <a:solidFill>
                  <a:srgbClr val="ffffff"/>
                </a:solidFill>
                <a:latin typeface="Arial"/>
              </a:rPr>
              <a:t>DOTS Expansion Working Group </a:t>
            </a:r>
            <a:br>
              <a:rPr sz="3100"/>
            </a:br>
            <a:r>
              <a:rPr b="1" lang="en-GB" sz="3100" spc="-1" strike="noStrike">
                <a:solidFill>
                  <a:srgbClr val="ffffff"/>
                </a:solidFill>
                <a:latin typeface="Arial"/>
              </a:rPr>
              <a:t>Activities planned 2008-09 (cont)</a:t>
            </a:r>
            <a:endParaRPr b="0" lang="en-US" sz="3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52360" y="1701720"/>
            <a:ext cx="86407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 countries to develop HRD plans including mapping of existing resources from different health care provid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chanisms to involve community and patients in TB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tegies to enhance equitable access to TB diagnosis and c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 countries in incorporating childhood TB in strategic p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le up and expand PPM activities including promotion of I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king research groups within and outside  countries to develop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"/>
          <p:cNvSpPr/>
          <p:nvPr/>
        </p:nvSpPr>
        <p:spPr>
          <a:xfrm>
            <a:off x="250920" y="1486080"/>
            <a:ext cx="864216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50920" y="1557360"/>
            <a:ext cx="864216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50920" y="6669000"/>
            <a:ext cx="864216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50920" y="6597720"/>
            <a:ext cx="864216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Stop TB Partnership Website"/>
          <p:cNvPicPr/>
          <p:nvPr/>
        </p:nvPicPr>
        <p:blipFill>
          <a:blip r:embed="rId1"/>
          <a:stretch/>
        </p:blipFill>
        <p:spPr>
          <a:xfrm>
            <a:off x="6948360" y="549360"/>
            <a:ext cx="1657440" cy="4935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9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424720" cy="115092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DOTS Expansion Working Group 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lan of action 2008-2009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50560" y="2349000"/>
            <a:ext cx="843588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1437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Total needs of countries for DOTS Expansion (2008-09)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Tahoma"/>
              </a:rPr>
              <a:t>US$3 billion/year</a:t>
            </a: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 for all countries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(gap US$250 million in 2007 for HBC only)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1437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Total needs for support to countries (2008-09)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Tahoma"/>
              </a:rPr>
              <a:t>US$ 65 million/year</a:t>
            </a: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 (without laboratory)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(gap US$ 35 million in 2007)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1437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Costs of operations of the DEWG in 2008-09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Tahoma"/>
              </a:rPr>
              <a:t>US$ 2.2 million for 2 years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(gap US$ 1.6 million for the period)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250920" y="1844640"/>
            <a:ext cx="864216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50920" y="1916280"/>
            <a:ext cx="864216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50920" y="6381720"/>
            <a:ext cx="864216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50920" y="6308640"/>
            <a:ext cx="864216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Stop TB Partnership Websit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091280" y="5589720"/>
            <a:ext cx="1657440" cy="4935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Stop TB Partnership Websit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020000" y="620640"/>
            <a:ext cx="1657440" cy="4939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4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9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4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9" dur="5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4" dur="5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9" dur="500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4" dur="5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9" dur="500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4" dur="500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8569080" cy="1368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DEWG plan of action 2008-2009 </a:t>
            </a:r>
            <a:br>
              <a:rPr sz="3200"/>
            </a:b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Coordination work of WG 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and sub-groups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50560" y="1197000"/>
            <a:ext cx="84358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324000" y="1701720"/>
            <a:ext cx="8351640" cy="504036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3780000" y="1700280"/>
            <a:ext cx="208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In US$ thousa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50920" y="1628640"/>
            <a:ext cx="864216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50920" y="1700280"/>
            <a:ext cx="864216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50920" y="6669000"/>
            <a:ext cx="864216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50920" y="6597720"/>
            <a:ext cx="864216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Stop TB Partnership Websit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948360" y="620640"/>
            <a:ext cx="1657440" cy="4939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16000" y="188640"/>
            <a:ext cx="8604000" cy="93636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Global MDR/XDR-TB Response Plan: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the operational plan of the MDR-TB WG</a:t>
            </a:r>
            <a:endParaRPr b="0" lang="en-US" sz="27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50560" y="1268280"/>
            <a:ext cx="511308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rengthen basic TB and HIV/AIDS control, to avoid creation of MDR-TB and XDR-TB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-up programmatic management of MDR-TB and XDR-TB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rengthen laboratory services for adequate and timely diagnosis of MDR-TB and XDR-TB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pand MDR-TB and XDR-TB surveillance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infection control, especially in high HIV prevalence setting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rengthen advocacy, communication and social mobilization (e.g., Response Plan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ursue resource mobilization at global, regional and country level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mote research and development into new diagnostics, drugs and vaccin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5580000" y="1771560"/>
            <a:ext cx="3021120" cy="4249800"/>
          </a:xfrm>
          <a:prstGeom prst="rect">
            <a:avLst/>
          </a:prstGeom>
          <a:ln w="28440">
            <a:solidFill>
              <a:srgbClr val="d2d543"/>
            </a:solidFill>
            <a:miter/>
          </a:ln>
          <a:effectLst>
            <a:outerShdw dist="107932" dir="18900000" blurRad="0" rotWithShape="0">
              <a:srgbClr val="ffcf01">
                <a:alpha val="50000"/>
              </a:srgbClr>
            </a:outerShdw>
          </a:effectLst>
        </p:spPr>
      </p:pic>
      <p:sp>
        <p:nvSpPr>
          <p:cNvPr id="139" name=""/>
          <p:cNvSpPr/>
          <p:nvPr/>
        </p:nvSpPr>
        <p:spPr>
          <a:xfrm>
            <a:off x="250920" y="1268280"/>
            <a:ext cx="8642160" cy="5400720"/>
          </a:xfrm>
          <a:prstGeom prst="rect">
            <a:avLst/>
          </a:prstGeom>
          <a:noFill/>
          <a:ln w="38160">
            <a:solidFill>
              <a:srgbClr val="ffcf01"/>
            </a:solidFill>
            <a:miter/>
          </a:ln>
          <a:effectLst>
            <a:outerShdw dist="107932" dir="18900000" blurRad="0" rotWithShape="0">
              <a:srgbClr val="d2d54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Stop TB Partnership Website"/>
          <p:cNvPicPr/>
          <p:nvPr/>
        </p:nvPicPr>
        <p:blipFill>
          <a:blip r:embed="rId2"/>
          <a:stretch/>
        </p:blipFill>
        <p:spPr>
          <a:xfrm>
            <a:off x="7093080" y="404640"/>
            <a:ext cx="1657080" cy="4939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9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4" dur="5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9" dur="500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4" dur="500"/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9" dur="500"/>
                                        <p:tgtEl>
                                          <p:spTgt spid="1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4" dur="500"/>
                                        <p:tgtEl>
                                          <p:spTgt spid="13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9" dur="500"/>
                                        <p:tgtEl>
                                          <p:spTgt spid="13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4" dur="500"/>
                                        <p:tgtEl>
                                          <p:spTgt spid="13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1" name=""/>
          <p:cNvGraphicFramePr/>
          <p:nvPr/>
        </p:nvGraphicFramePr>
        <p:xfrm>
          <a:off x="324000" y="1569960"/>
          <a:ext cx="8496000" cy="4756320"/>
        </p:xfrm>
        <a:graphic>
          <a:graphicData uri="http://schemas.openxmlformats.org/drawingml/2006/table">
            <a:tbl>
              <a:tblPr/>
              <a:tblGrid>
                <a:gridCol w="2282760"/>
                <a:gridCol w="62132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Subgroup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Produc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Advocacy and resource mobiliz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Updated business plan of the GLC; resource mobilization plan; advocacy products on MDR-TB, including quarterly newslet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Resear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Updated research agenda published; promotion of operational research; assistance to WHO in updating guidelines; two in-person meetings to assess progress and strategize next step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Drug manage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Plan of action to tackle the drug procurement crisis; six regional meetings to promote WHO Prequalification of second-line anti-TB drugs; four in-person meetings of the sub-group to assess progress and strategize next steps as per TO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9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ore Grou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Annual monitoring report on progress in implementing response plan; strategic guidance to WG and subgroup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2" name=""/>
          <p:cNvSpPr/>
          <p:nvPr/>
        </p:nvSpPr>
        <p:spPr>
          <a:xfrm>
            <a:off x="250920" y="260280"/>
            <a:ext cx="8642160" cy="101592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ble 1. Products of the sub-groups 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Working Group on MDR-TB (2008-200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50920" y="1484280"/>
            <a:ext cx="8642160" cy="0"/>
          </a:xfrm>
          <a:prstGeom prst="line">
            <a:avLst/>
          </a:prstGeom>
          <a:ln w="381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50920" y="1557360"/>
            <a:ext cx="8642160" cy="0"/>
          </a:xfrm>
          <a:prstGeom prst="line">
            <a:avLst/>
          </a:prstGeom>
          <a:ln w="38160">
            <a:solidFill>
              <a:srgbClr val="d2d5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0920" y="6381720"/>
            <a:ext cx="8642160" cy="0"/>
          </a:xfrm>
          <a:prstGeom prst="line">
            <a:avLst/>
          </a:prstGeom>
          <a:ln w="381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0920" y="6308640"/>
            <a:ext cx="8642160" cy="0"/>
          </a:xfrm>
          <a:prstGeom prst="line">
            <a:avLst/>
          </a:prstGeom>
          <a:ln w="38160">
            <a:solidFill>
              <a:srgbClr val="d2d5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Stop TB Partnership Website"/>
          <p:cNvPicPr/>
          <p:nvPr/>
        </p:nvPicPr>
        <p:blipFill>
          <a:blip r:embed="rId1"/>
          <a:stretch/>
        </p:blipFill>
        <p:spPr>
          <a:xfrm>
            <a:off x="7020000" y="476280"/>
            <a:ext cx="1657440" cy="4935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1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8T18:19:53Z</dcterms:created>
  <dc:creator>nunnp</dc:creator>
  <dc:description/>
  <dc:language>en-US</dc:language>
  <cp:lastModifiedBy>k.kolbe</cp:lastModifiedBy>
  <dcterms:modified xsi:type="dcterms:W3CDTF">2007-10-23T04:49:03Z</dcterms:modified>
  <cp:revision>173</cp:revision>
  <dc:subject/>
  <dc:title>14th Conference on Retroviruses and Opportunistic Infections     Urgent Issues in the Developing World  Transmission of Extreme Drug Resistant TB in South Africa: Discussion of the Global Impl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51497786</vt:r8>
  </property>
  <property fmtid="{D5CDD505-2E9C-101B-9397-08002B2CF9AE}" pid="3" name="_AuthorEmail">
    <vt:lpwstr>blancl@who.int</vt:lpwstr>
  </property>
  <property fmtid="{D5CDD505-2E9C-101B-9397-08002B2CF9AE}" pid="4" name="_AuthorEmailDisplayName">
    <vt:lpwstr>Blanc, Leopold Joseph</vt:lpwstr>
  </property>
  <property fmtid="{D5CDD505-2E9C-101B-9397-08002B2CF9AE}" pid="5" name="_EmailSubject">
    <vt:lpwstr>WGs for CB 20 Oct 2007.ppt</vt:lpwstr>
  </property>
  <property fmtid="{D5CDD505-2E9C-101B-9397-08002B2CF9AE}" pid="6" name="_NewReviewCycle">
    <vt:lpwstr/>
  </property>
  <property fmtid="{D5CDD505-2E9C-101B-9397-08002B2CF9AE}" pid="7" name="_PreviousAdHocReviewCycleID">
    <vt:r8>80680260</vt:r8>
  </property>
  <property fmtid="{D5CDD505-2E9C-101B-9397-08002B2CF9AE}" pid="8" name="_ReviewingToolsShownOnce">
    <vt:lpwstr/>
  </property>
</Properties>
</file>