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30A1-23B6-4D5E-BCAF-5416CA27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F868-FA4E-4130-B391-9F2F2E30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6AF9-E8A2-47C8-9F9C-32CB8763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93B-2068-45A7-AC8A-07FBD339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702-3FD6-4AFA-820A-FC2DFE02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18F1-234A-4621-A473-03A15174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161E-FF38-411C-8708-947E334D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E612-4816-49B7-832F-745596EB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FC38-B5DB-4798-91E1-9549B9D8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DFE-FA1A-40A3-A7A7-AD260EE5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6810-75CD-4C3C-AF0D-9EF445D0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AAA-2F54-4ABC-8499-9CCA45C3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1846-18DD-4303-8BC5-A4263E166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000" y="1341000"/>
            <a:ext cx="676764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Bef>
                <a:spcPts val="6001"/>
              </a:spcBef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-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76000" y="1412640"/>
            <a:ext cx="748836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 providing advice to the GDF on meeting its strategic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elping GDF to effectively execute its broad ranging operations in a complex business environ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n members with wide-ranging expertise, selected through competitive nomin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aw material manufacturing, pharm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duct formulation for drugs and diagnos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gulatory law, contract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usiness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etitive procuremen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icing and distribu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cus of 1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BAC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36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sufficient number of prequalified suppliers of anti-TB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Strategies for effective introduction of additional TB products to the GDF cat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Evolution of GDF servic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Increasing number of prequalified supp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892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nd biased supplier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 inventory of drug finished product and API manufacturers, including, local industries, analysis of volume and target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address bottlenecks in the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the process of pre-qualification by providing process and technical assistance to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ffectively introducing new items to GDF produc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21044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ediatric formulations: Lack of PQ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ly and demand of 2nd line products not 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: Lack  of international qualit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gressive approach required to pre-qualify suppliers of paediatric products and to identify low cost quality for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convergence of GDF and GLC should be exped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respective roles, ensure integrated service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t analysis on supply capability (including API), true demand, and local regulatory obstacles to 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to advocate quality standards for current 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prepare supply strategy upon adoption of new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Strategic approach to developing GDF servic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17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/Increasing grant servic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trictive local drug licensing, procuremen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’s perceived position in tende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lack of local drug management cap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stomer experience – need for accurate feed-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essively decrease dependence on grants and promote direct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with donors, private sector, NGOs, principal grant recip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innovative approaches to procurement service provision in context of government or dono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sue a targeted approach for TA on dru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steps to hire a TA manager in GD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inely collect, analyze and adopt lessons learned from customer feedback – act effectively on crit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ly advocate its strategic position relative to the Global Fund, WHO and other donors and technic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k to increase the number of manufacturers prequalified by WHO to supply anti-TB drugs, and increase the number of programmes that order strictly from such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versify its donor base,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GDF sustain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 support for existing GDF 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field experiences on service needs, perceptions and obstacles with the three New Tools 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ve is better, affordable, accessible interventions to serve patient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Bernard</cp:lastModifiedBy>
  <dcterms:modified xsi:type="dcterms:W3CDTF">2007-04-19T06:20:01Z</dcterms:modified>
  <cp:revision>36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