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6201-5267-4DCA-8DBF-574AC024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11EF-B1F8-46C9-8624-85FF5E16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D506-97BA-456E-AC7D-6FE055BC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F6D5-8405-4C59-86F2-8457F2D84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73BF-F088-47FD-B3D0-A9E46ED3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74EE-BCB3-496A-BE0B-2B23FE5D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6946-5AAF-4484-9236-B6A7F531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3D0E-AC8A-42A9-86A1-95E5255D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76F0-ABF6-449C-8C84-62CB2A1C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74D6-3073-4024-90DA-D83B1394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8B864-B436-4E97-B19E-332C3B3C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BBD8-58AA-499F-B660-FEF3C7490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D729-11A7-4E21-8FE4-5A060822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59CB3-1549-470E-823F-B5E58EE9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A30E-307E-40A3-8D07-03D2CD7D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004D-FE03-4C8D-9064-061C31BDF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0A0E-8822-434E-8F88-7382523BF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30AC-EDB0-49A5-97E6-2698CD76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E7C3-F075-45C8-B784-D259646D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8EF2-9D49-4A36-BCCE-3D178CF3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4DAF-E888-48F0-A03E-A7A11ED0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A751-443C-48F4-8350-5CF3564B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949F-C314-4F59-B060-4B771F2E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26BD-2B66-4620-BA08-C786ED95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C594-1FB4-42A7-929A-67F22DFED89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B1CA-9E1F-4C29-AE6E-084114240C3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 perspective of the community evolution in TB control (2005-2007), by a living legend. 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ion of the UCCATM for the Civil Society to engage in Political advocacy in Kenya.( this was after TB grant Round 2, Phase 2 was suspended in Kenya 200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ting of the suspension on R2 P2,its sign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ing of Round 5 and money disburs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ocacy for TB representation on the C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civil society engagement in TB activ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drawal of the Industrial property bill from parliament-Bill to ensure use of brand drugs only for HIV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media coverage on TB and TB/HI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sing of the political profile of TB in Keny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lanned activ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sive effort campaign on TB in Kenya-(gazzetement of TB and HIV as emergenc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os engagement of civil societies to think and do TB work at grass root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HA conference April 2007 “Impact of TB among PLH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tly I stay committed to TB advocacy and be assured that you cant count on me for your support in all TB work= TB free wor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knowledg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ard members for all their unwavering support  for patient empower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munity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l the community representatives at the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 Jeremiah Chaka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Educational f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I referral Hospi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vil Society in Ken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ntry Point in TB &amp;TB/HIV advocac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B/HIV co-inf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viving the dual epidem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pite an immune reconstit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all started after open confession of living with HIV  being the first HCW to openly acknowledge having th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tion in TB/HIV advocacy organized by WH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national advocac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ation by Results educational fund to participate in media work prior to G 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nvolved media interviews on Good morning Scotland and BBC English and Kiswahili program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on one meetings with Parliamentarians in UK to sensitise them of the TB situation i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very of TB letter to Tony Blair’s office prior to G8 to advocate for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ever board member to represent communities affected on the Stop TB C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esentative on the TB/HIV working group and core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to the Open Society Institute Community advisory Committee on TB/HIV monitoring and advocacy project –Project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gass Global Task force 2006 to represent TB/HIV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achievements 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unity engagement within the Stop TB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representative on the C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moting TB/HIV advisor in UNAI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dition of component 5 within the Stop TB strateg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cipation in HLM’s and Global plan 2 launch in Africa and Toronto AIDS conferen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G research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AG-OSI collaboration for TB, TB-HIV advocacy training and treatment literac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stablishment of a Community Task For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Leading the TB-HIV WG to endorse universal targets for TB-HIV collaborative ac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Global achievements I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Patients Char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obal media articles-Maputo, Toronto on TB and TB/HIV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Civil Society Challenge fu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greater collaboration among WHO HIV and TB Departments and UNAI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expanded diagnosis of smear negative of extra-pulmonary TB in high HIV prevalence ar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new TB drugs, better TB diagnostics and a new TB vacc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donors support for TB contro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rican emergency declaration on TB-South Africa, Nigeria, Tanzania and Malawi – Kenya ????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African Civil society on TB/HIV prior to the Abuja summit that resulted in the specific TB/HIV indicators in the common position paper (post Abuj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tion in the ACSO taskforce to represent TB/HIV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ilitation in the 2nd Training of TB/HIV advocates in Africa. And TAG’s workshop that brought together 70 participants from African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World Bank Pres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Finance during the recent UNECA meeting in Add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Health during the recent Jo Burg meeting April 2007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B Emergency- CSO advoc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raining of journalists on TB/HIV March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% campaign on Health by AC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enyan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/HIV steering committ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 I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MOI Referral Hospital TB/HIV committee that resulted in one stop clinic for TB/HI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United Civil society Coalition on AIDS,TB and Malaria representing T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literacy on TB and TB/HIV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ask force on TB/HIV for training journa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5:39:40Z</dcterms:created>
  <dc:creator>  </dc:creator>
  <dc:description/>
  <dc:language>en-US</dc:language>
  <cp:lastModifiedBy>Ezio T. Santos Filho</cp:lastModifiedBy>
  <dcterms:modified xsi:type="dcterms:W3CDTF">2007-04-18T17:05:47Z</dcterms:modified>
  <cp:revision>15</cp:revision>
  <dc:subject/>
  <dc:title>2004-2006 Patient Empowerment</dc:title>
</cp:coreProperties>
</file>