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10691813" cy="7559675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766440" y="741240"/>
            <a:ext cx="5267160" cy="372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69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EEA48-A275-40A6-B74E-C88A9EA98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1622520" y="4114800"/>
            <a:ext cx="21970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782640" y="6485040"/>
            <a:ext cx="2208240" cy="12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60706-74B9-406A-86E2-BE041804B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53FD8-3423-4D2A-BD39-659EFD377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25168-70A5-49C4-94D9-5164E8EE5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0BDC-7253-439B-9918-511FDF42B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4217-1798-4550-80AC-A8F589EF9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2278F-C3D4-4F0B-AFF2-82F543A11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A5CA-420A-4467-BD19-9345BB857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1779B-A658-4DBE-ABEF-AC296656B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23B28-416B-42AE-8488-A0D2CFAE8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1880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45344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78416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61880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45344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800360" y="574560"/>
            <a:ext cx="6316560" cy="42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1880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745344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78416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61880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745344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800360" y="574560"/>
            <a:ext cx="6316560" cy="42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"/>
          <p:cNvPicPr/>
          <p:nvPr/>
        </p:nvPicPr>
        <p:blipFill>
          <a:blip r:embed="rId2"/>
          <a:stretch/>
        </p:blipFill>
        <p:spPr>
          <a:xfrm>
            <a:off x="2017800" y="7035840"/>
            <a:ext cx="320760" cy="3492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6"/>
          <p:cNvSpPr/>
          <p:nvPr/>
        </p:nvSpPr>
        <p:spPr>
          <a:xfrm>
            <a:off x="4691160" y="3127320"/>
            <a:ext cx="10693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Text Box 9"/>
          <p:cNvSpPr/>
          <p:nvPr/>
        </p:nvSpPr>
        <p:spPr>
          <a:xfrm>
            <a:off x="1989000" y="7105680"/>
            <a:ext cx="4780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79602826-47CD-4DBB-AE80-02CE1C956C3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3" name="Picture 15" descr=""/>
          <p:cNvPicPr/>
          <p:nvPr/>
        </p:nvPicPr>
        <p:blipFill>
          <a:blip r:embed="rId3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4" name="Oval 26"/>
          <p:cNvSpPr/>
          <p:nvPr/>
        </p:nvSpPr>
        <p:spPr>
          <a:xfrm>
            <a:off x="2400480" y="4379760"/>
            <a:ext cx="1706400" cy="933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" name="Picture 33" descr=""/>
          <p:cNvPicPr/>
          <p:nvPr/>
        </p:nvPicPr>
        <p:blipFill>
          <a:blip r:embed="rId4"/>
          <a:stretch/>
        </p:blipFill>
        <p:spPr>
          <a:xfrm>
            <a:off x="3363840" y="-3240"/>
            <a:ext cx="5262480" cy="30114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563840" indent="-2606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2039760" indent="-2584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5"/>
          <p:cNvSpPr/>
          <p:nvPr/>
        </p:nvSpPr>
        <p:spPr>
          <a:xfrm>
            <a:off x="1800360" y="1225440"/>
            <a:ext cx="8275680" cy="0"/>
          </a:xfrm>
          <a:prstGeom prst="line">
            <a:avLst/>
          </a:prstGeom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" name="Group 38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10" name="Text Box 39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1" lang="en-US" sz="1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11" name="Picture 40" descr="STOPTB_COLOR"/>
            <p:cNvPicPr/>
            <p:nvPr/>
          </p:nvPicPr>
          <p:blipFill>
            <a:blip r:embed="rId5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0" y="7035840"/>
            <a:ext cx="1557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Text Box 17"/>
          <p:cNvSpPr/>
          <p:nvPr/>
        </p:nvSpPr>
        <p:spPr>
          <a:xfrm rot="16200000">
            <a:off x="-1804680" y="4199040"/>
            <a:ext cx="5253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spAutoFit/>
          </a:bodyPr>
          <a:p>
            <a:pPr algn="ctr">
              <a:lnSpc>
                <a:spcPct val="110000"/>
              </a:lnSpc>
              <a:spcBef>
                <a:spcPts val="1687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World Economic Forum</a:t>
            </a:r>
            <a:endParaRPr b="1" lang="en-US" sz="27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0" name="Picture 24" descr=""/>
          <p:cNvPicPr/>
          <p:nvPr/>
        </p:nvPicPr>
        <p:blipFill>
          <a:blip r:embed="rId2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51" name="Line 31"/>
          <p:cNvSpPr/>
          <p:nvPr/>
        </p:nvSpPr>
        <p:spPr>
          <a:xfrm>
            <a:off x="1722600" y="1881360"/>
            <a:ext cx="897084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" name="Group 36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53" name="Text Box 37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1" lang="en-US" sz="1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54" name="Picture 38" descr="STOPTB_COLOR"/>
            <p:cNvPicPr/>
            <p:nvPr/>
          </p:nvPicPr>
          <p:blipFill>
            <a:blip r:embed="rId3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563840" indent="-2606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2039760" indent="-2584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39360" y="654120"/>
            <a:ext cx="6342120" cy="876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iness Engagement Strategy</a:t>
            </a:r>
            <a:br>
              <a:rPr sz="3200"/>
            </a:b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603440" y="1355400"/>
            <a:ext cx="838368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01040" indent="-40104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ation to the Stop TB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rdinat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iday, 6 November 2009, 8:30 – 9:30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Labor Organization, Salle V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TB Partnership Private Sector Constit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ean-François de Lavison, Mérieux Alliance, Corporate Sector Represent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tti Ojanen, AstraZeneca, Alternate Corporate Sector Represent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mero Hernandez, Stop TB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arin Holm, Independent Consul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800000" y="574560"/>
            <a:ext cx="863604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Focal Point Proposals &amp; Recommendations (continued)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62280" y="1754280"/>
            <a:ext cx="883116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90400" indent="-590400"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Arial"/>
              </a:rPr>
              <a:t>PROPOSAL : (A)</a:t>
            </a: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 with the Stop TB Secretariat (150 k US$)</a:t>
            </a: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22600" y="2038320"/>
            <a:ext cx="8354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ivate sector membership should contribute towards funding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Objective : being self sustainable after 3 years.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62320" y="3119400"/>
            <a:ext cx="7124760" cy="3824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86280" y="3498840"/>
            <a:ext cx="5667120" cy="2959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21200" y="4390920"/>
            <a:ext cx="3736800" cy="1438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48040" y="4565520"/>
            <a:ext cx="2273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30397"/>
                </a:solidFill>
                <a:latin typeface="Arial"/>
              </a:rPr>
              <a:t>Focal Point 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30397"/>
                </a:solidFill>
                <a:latin typeface="Arial"/>
              </a:rPr>
              <a:t>Stop TB Secretariat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30397"/>
                </a:solidFill>
                <a:latin typeface="Arial"/>
              </a:rPr>
              <a:t>Elected Board Member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743280" y="4057560"/>
            <a:ext cx="4257720" cy="1714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Core group - Members with financial participation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Business Coalitions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76480" y="3129120"/>
            <a:ext cx="236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30397"/>
                </a:solidFill>
                <a:latin typeface="Arial"/>
              </a:rPr>
              <a:t>All other compani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23520" y="6981840"/>
            <a:ext cx="32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Private Sector Constituenc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53000" y="5900760"/>
            <a:ext cx="12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PPM…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12520" y="617400"/>
            <a:ext cx="733284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Focal Point Proposal &amp; Recommendations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862280" y="1754280"/>
            <a:ext cx="3314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B.   </a:t>
            </a:r>
            <a:r>
              <a:rPr b="1" lang="fr-FR" sz="2300" spc="-1" strike="noStrike">
                <a:solidFill>
                  <a:srgbClr val="000000"/>
                </a:solidFill>
                <a:latin typeface="Arial"/>
              </a:rPr>
              <a:t>PROPOSAL (B)</a:t>
            </a: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89200" y="2401920"/>
            <a:ext cx="89229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Yearly global PSC meeting (Global Fund, UNAIDS, RBM, Stop TB…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ow to bridge and exchange on our strategies with others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stituencies , in order to improve our engagment ?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39360" y="654120"/>
            <a:ext cx="6342120" cy="876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iness Engagement Strategy</a:t>
            </a:r>
            <a:br>
              <a:rPr sz="3200"/>
            </a:b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603440" y="1542600"/>
            <a:ext cx="8383680" cy="50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ation to the Stop TB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rdinat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iday, 6 November 2009, 8:30 – 9:30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Labor Organization, Salle V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165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hanks .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TB Partnership Private Sector Constit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ean-François de Lavison, Mérieux Alliance, Corporate Sector Represent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tti Ojanen, AstraZeneca, Alternate Corporate Sector Represent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mero Hernandez, Stop TB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arin Holm, Independent Consul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39360" y="654120"/>
            <a:ext cx="6342120" cy="876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iness Engagement Strategy</a:t>
            </a:r>
            <a:br>
              <a:rPr sz="3200"/>
            </a:b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3440" y="1542600"/>
            <a:ext cx="8383680" cy="50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ation to the Stop TB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rdinat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SC Role in the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SC Achie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o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ancy –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cal Point : Proposals &amp;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TB Partnership Private Sector Constit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ean-François de Lavison, Mérieux Alliance, Corporate Sector Represent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tti Ojanen, AstraZeneca, Alternate Corporate Sector Represent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mero Hernandez, Stop TB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arin Holm, Independent Consul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98120" y="50616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PSC Role in the Partnership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851120" y="1530000"/>
            <a:ext cx="8037360" cy="51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lnSpc>
                <a:spcPct val="130000"/>
              </a:lnSpc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Private Sector Constituency Objective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Leverage core business skills and capabilities, facilitate corporate sector participation, stimulate participation of the private sector in TB control and R&amp;D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Bring business perspectives, input, expertise, and multi-faceted resources to the Partnership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tistic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C gained position on Coordinating Board in October 200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tituency of 110 private sector partners (per  Stop TB Partners’ Directory, 20Aug200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5% health-related, 25% non-health compan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0% of total Stop TB Partn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0040" y="549360"/>
            <a:ext cx="8888400" cy="635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PSC Recent Achievements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649520" y="1321920"/>
            <a:ext cx="8743680" cy="54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Active involvement in key strategic and policy discussions o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 Board, Executive Comm of Coord Board, Steering Comm on Global Plan Progress, Advocacy Advisory 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articipation in Working Groups &amp; Task Forces 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TS Expansion PPM, Retooling TF, New Drugs, New Vaccines, New Diagnostics, TB and Poverty, MDR-TB, Business Advisory Committee for GD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SC meetings: every two months teleconference calls with Core, semester meeting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artnership meetings: Seattle (Pacific Health Summit), Rio (Partners’ Forum), Beijing, Cairo, Berlin, Geneva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ollaboration with WEF, GBC, McKinsey (indep.eval), EDM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63200" y="529920"/>
            <a:ext cx="631692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Rio Recommendations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614240" y="1622520"/>
            <a:ext cx="8383320" cy="41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73240" indent="-273240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io Gaps/Issues identified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 a shared vision for the Private Sector Constituency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 for strengthening of PSC for greater impac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ack of an action agend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io Recommendations (suggested Timeframe)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 year strategic plan (by Nov 09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dentify collective action (by Nov 09); issue a call for enhanced participation (ongoing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velop a value proposition for members, identifying corporate champions (Dec 09 - ongoing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09280" y="5094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Consultancy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636200" y="1283760"/>
            <a:ext cx="8520120" cy="56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18320" indent="-418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ried out extensive website, data and publication revie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ed 25+ key people in stakeholder groups, particularly the Core members of PSC, Stop TB, World Economic Forum, Global Business Coalition, Gates, UNAIDS, Public-Private Mix subgrou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ed possible areas for collective 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400" spc="-1" strike="noStrike">
                <a:solidFill>
                  <a:srgbClr val="230397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230397"/>
                </a:solidFill>
                <a:latin typeface="Arial"/>
              </a:rPr>
              <a:t>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rove information flow and communication among PSC members in Partnership bodies (Nov 2009 - Mar 201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aft and adopt Principles of Engagement and a PSC Partners Charter to clarify vision and value proposition for membership (Mar – Sept 201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ximize PSC representation strategically in Working Groups and other Partnership bodies (Mar - Sept 2010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gage members, evaluate proposal and resource implications for concrete action proposals gathered by consultant (Mar - Sept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e.g. D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op Down menu for PSC members to get engaged in for World TB Day 2010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60400" y="463680"/>
            <a:ext cx="8933040" cy="744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Recommendations  (continued)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565280" y="1250640"/>
            <a:ext cx="876456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 financing strategy including possible annual fees, membership levels, corporate champion. (starting Nov 200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mpaign for new members, including professional societies,  business coalitions, and trade associations (Jan - Dec 2010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guidelines and document private sector contributions  and measure progress (starting Mar 201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60400" y="463680"/>
            <a:ext cx="8933040" cy="744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Recommendations  (continued)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565280" y="1250640"/>
            <a:ext cx="876456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400" spc="-1" strike="noStrike">
                <a:solidFill>
                  <a:srgbClr val="230397"/>
                </a:solidFill>
                <a:latin typeface="Arial"/>
              </a:rPr>
              <a:t>8.   Resolve Focal Point Issu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Sept 2009 – Dec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d hosting and funding arrangement for new focal point for PS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dentify candidates and hire focal point, accepted by the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chance new collaboration with WEF, GBC, and other business groups, as well as with other private sector constituencies such as Roll Back Malaria and UNA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lement business engagement strategy recommenda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12520" y="617400"/>
            <a:ext cx="733284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Focal Point Proposal &amp; Recommendations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62280" y="1754280"/>
            <a:ext cx="3314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90400" indent="-59040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88480" y="2401920"/>
            <a:ext cx="56023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90400" indent="-5904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lobal focal point (with / without RBM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lternatives :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World Economic Forum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lobal Business Coalition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Business Humanitarian Forum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ternational Business Leaders Forum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TOP TB Secretariat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16:18:08Z</dcterms:created>
  <dc:creator>Karin Holm</dc:creator>
  <dc:description>Karin Holm was the independent consultant who conducted the study to develop a Business Engagement Strategy for the Stop TB Partnership's Private Sector Constituency.  May - Sept 2009.</dc:description>
  <dc:language>en-US</dc:language>
  <cp:lastModifiedBy>bioMérieux</cp:lastModifiedBy>
  <dcterms:modified xsi:type="dcterms:W3CDTF">2009-11-06T05:48:16Z</dcterms:modified>
  <cp:revision>185</cp:revision>
  <dc:subject/>
  <dc:title>Slide 1</dc:title>
</cp:coreProperties>
</file>