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BB49-2955-4A3B-882D-BE035872031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C0F920A6-06E0-4E32-8EDC-63431858C91D}" type="datetime3">
              <a:rPr b="1" lang="en-GB" sz="1400" spc="-1" strike="noStrike">
                <a:solidFill>
                  <a:srgbClr val="96ccee"/>
                </a:solidFill>
                <a:latin typeface="Arial Narrow"/>
                <a:ea typeface="Arial"/>
              </a:rPr>
              <a:t>28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2273F0F-1722-42C3-8CE4-DFF481D6294F}"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