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8D68-45F9-4B37-A591-34866273371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90BB8C5D-287C-4E14-A6A4-AAF83F1A00D8}" type="datetime3">
              <a:rPr b="1" lang="en-GB" sz="1400" spc="-1" strike="noStrike">
                <a:solidFill>
                  <a:srgbClr val="96ccee"/>
                </a:solidFill>
                <a:latin typeface="Arial Narrow"/>
                <a:ea typeface="Arial"/>
              </a:rPr>
              <a:t>29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177FACE-1835-4F95-B729-CC877412ABA2}"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