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432AA-3AC3-420A-BC9B-2A6991CC3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3A54-E261-48CF-BE77-962D5C269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7E11B-76E9-4704-95DE-6C4FF4067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85385-8ECB-4A84-8FA9-B6D5F73DF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934FA-2205-41BE-8366-6F0B989F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982C5-9B4E-4FF3-B3A4-7E7EAB61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D0E07-47AC-4FA7-B621-9E075533D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78F07-562C-463E-9317-DCD8326B0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13F7D-E1A8-4C55-B6BC-FBFDC404C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961D-C7B6-4C60-9013-A39A6D5C1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1781-C2DF-4BA6-A9B5-B6FA3D2E2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4C6B-93E7-400B-861B-FFC7DD202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E949-8FC6-4F33-B26E-C75248D37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B59E-70AC-43B4-A7F6-C9DF4780E642}" type="datetime3">
              <a:rPr b="1" lang="en-GB" sz="800" spc="-1" strike="noStrike">
                <a:solidFill>
                  <a:srgbClr val="000000"/>
                </a:solidFill>
                <a:latin typeface="Tahoma"/>
                <a:ea typeface="Tahoma"/>
              </a:rPr>
              <a:t>28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A0F15885-6E05-4376-9E6D-99AFF4C28B9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