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66440" y="741240"/>
            <a:ext cx="5267160" cy="37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6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965E-F881-4712-A66C-03F0C869A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622520" y="4114800"/>
            <a:ext cx="2197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2640" y="6485040"/>
            <a:ext cx="2208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C8D6-8C47-46C0-82A7-3BAD3EEBC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9C2D-FCAB-464D-8653-F698838FB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5F7F-E002-41A5-AB2C-F47AFED25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C47C-5E32-40A4-8DF2-992CA754C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2F2C-4B40-4B68-80B0-506776405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ADD4-66ED-44A7-AFA6-CB7228A60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3549-02DA-4FCC-B0A6-E7F810BD9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F91A-8542-40C4-ADB1-9647E1215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4F93-9A42-4D73-B562-7675D0446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F6DA0F4-383D-4BE3-88F4-F734AF4F99D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Oval 26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33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" name="Group 38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Text Box 39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1" name="Picture 40" descr="STOPTB_COLOR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Line 31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" name="Group 36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Text Box 37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54" name="Picture 38" descr="STOPTB_COLOR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3440" y="1355400"/>
            <a:ext cx="8383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6360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s &amp; Recommendations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2280" y="1754280"/>
            <a:ext cx="8831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: (A)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with the Stop TB Secretariat (150 k US$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600" y="2038320"/>
            <a:ext cx="83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ector membership should contribute towards funding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ve : being self sustainable after 3 years.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19400"/>
            <a:ext cx="7124760" cy="3824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3498840"/>
            <a:ext cx="5667120" cy="2959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4390920"/>
            <a:ext cx="3736800" cy="1438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48040" y="4565520"/>
            <a:ext cx="227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Focal Point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Stop TB Secretari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Elected Board Memb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43280" y="4057560"/>
            <a:ext cx="425772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ore group - Members with financial participation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usiness Coalitions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6480" y="31291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30397"/>
                </a:solidFill>
                <a:latin typeface="Arial"/>
              </a:rPr>
              <a:t>All other compan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23520" y="698184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vate Sector Constitu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3000" y="59007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PM…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(B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9200" y="2401920"/>
            <a:ext cx="892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early global PSC meeting (Global Fund, UNAIDS, RBM, Stop TB…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 to bridge and exchange on our strategies with other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ituencies , in order to improve our engagment 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16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s 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Role in the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o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 –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al Point : Proposals &amp;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8120" y="506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ole in the Partnership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51120" y="1530000"/>
            <a:ext cx="80373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ivate Sector Constituency Objectiv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verage core business skills and capabilities, facilitate corporate sector participation, stimulate participation of the private sector in TB control and R&amp;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ring business perspectives, input, expertise, and multi-faceted resources to the Partner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C gained position on Coordinating Board in October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cy of 110 private sector partners (per  Stop TB Partners’ Directory, 20Aug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% health-related, 25% non-health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% of total Stop TB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0040" y="549360"/>
            <a:ext cx="8888400" cy="635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ecent Achievement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49520" y="1321920"/>
            <a:ext cx="874368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ctive involvement in key strategic and policy discussions 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 Board, Executive Comm of Coord Board, Steering Comm on Global Plan Progress, Advocacy Advisory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S Expansion PPM, Retooling TF, New Drugs, New Vaccines, New Diagnostics, TB and Poverty, MDR-TB, Business Advisory Committee for G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C meetings: every two months teleconference calls with Core, semester meeting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nership meetings: Seattle (Pacific Health Summit), Rio (Partners’ Forum), Beijing, Cairo, Berlin, Gene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llaboration with WEF, GBC, McKinsey (indep.eval), ED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3200" y="529920"/>
            <a:ext cx="631692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Rio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4240" y="1622520"/>
            <a:ext cx="838332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Gaps/Issues identifi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a shared vision for the Private Sector Constituen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for strengthening of PSC for greater impa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n action age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Recommendations (suggested Timeframe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year strategic plan (by Nov 09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collective action (by Nov 09); issue a call for enhanced participation (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 a value proposition for members, identifying corporate champions (Dec 09 - 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09280" y="5094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Consultanc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36200" y="1283760"/>
            <a:ext cx="8520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extensive website, data and publication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25+ key people in stakeholder groups, particularly the Core members of PSC, Stop TB, World Economic Forum, Global Business Coalition, Gates, UNAIDS, Public-Private Mix sub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possible areas for collectiv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information flow and communication among PSC members in Partnership bodies (Nov 2009 -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 and adopt Principles of Engagement and a PSC Partners Charter to clarify vision and value proposition for membership (Mar – Sept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e PSC representation strategically in Working Groups and other Partnership bodies (Mar - Sept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 members, evaluate proposal and resource implications for concrete action proposals gathered by consultant (Mar - Sept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.g.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p Down menu for PSC members to get engaged in for World TB Day 2010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financing strategy including possible annual fees, membership levels, corporate champion. (starting Nov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paign for new members, including professional societies,  business coalitions, and trade associations (Jan - Dec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uidelines and document private sector contributions  and measure progress (starting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8.   Resolve Focal Point Iss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pt 2009 – Dec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hosting and funding arrangement for new focal point for P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candidates and hire focal point, accepted by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hance new collaboration with WEF, GBC, and other business groups, as well as with other private sector constituencies such as Roll Back Malaria and UNA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business engagement strategy recommend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8480" y="2401920"/>
            <a:ext cx="560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focal point (with / without RBM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ternatives 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Business Coali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Humanitarian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national Business Leaders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OP TB Secretari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Karin Holm</dc:creator>
  <dc:description>Karin Holm was the independent consultant who conducted the study to develop a Business Engagement Strategy for the Stop TB Partnership's Private Sector Constituency.  May - Sept 2009.</dc:description>
  <dc:language>en-US</dc:language>
  <cp:lastModifiedBy>bioMérieux</cp:lastModifiedBy>
  <dcterms:modified xsi:type="dcterms:W3CDTF">2009-11-06T05:48:16Z</dcterms:modified>
  <cp:revision>185</cp:revision>
  <dc:subject/>
  <dc:title>Slide 1</dc:title>
</cp:coreProperties>
</file>