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CDE1-4B36-47CB-848B-8EEB6FE36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84D1-F761-4B0F-8BC9-1C4F8819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8225-7E1E-4DB8-B117-C0D80778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C592-855A-431D-9EDD-3A30F9C5C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957A-79D2-4F18-BB61-BDE7F38DD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BA3E-7510-4413-98B8-18389E9D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3547-9C36-46A0-AFC5-087C2AF4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0899-6C6E-4C56-84B9-C80EB355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B7B2-BF08-41B3-B446-A5DC80B2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678F-8916-417E-9754-88C1E7D3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5332-4D92-4F3B-B099-DD6C3D1A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907E-875C-4EB1-A475-67B055A5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8D6C-D6A9-45D8-9213-28419957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FA66-4EEA-4574-8FA3-04F04D64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5819-1B31-432A-8797-ECD4E80E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AD5A-9AF3-409D-BEAE-2DF64AF9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6C32-AB83-44F2-9C7A-1C53B5B0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3572-AB4D-4922-B3D1-BF88F282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34DC-E5F2-4DF9-9F8E-4504BC48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CCEE-C11F-4264-91B1-3C9B1335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C592-C55D-43EE-B37A-23BA5654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F6EA-3625-4A9F-8EA6-F8BFB605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B471-69B6-47E7-AC86-A0874155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09CF-2EFE-46CD-8411-8BF727A8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3728-C278-4099-B313-195E01FBF3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292F-E879-45B0-8D43-D4DCC2125F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61EC-0AE7-452D-A482-8D0EFC9B3A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427040"/>
            <a:ext cx="800100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TEC MGIT 960 DST troubleshoo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E8AA-90CC-4163-954A-8C421858C6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troubleshoo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 resi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e is contaminated or mixed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oculum was too he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was not properly dil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sion was not homogeneous or had clu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control dilution was too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 control grew too slow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reconstitut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stor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added to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IT tube was not mixed properly after the addition of the organism susp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could be borderline-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troubleshooting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92A0-BCFD-4EBB-A6EF-7EC6CE4545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erform definitive identif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ZN smear on positive MGIT tu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MT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NTMs show resistance to anti-mycobacterial  dru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04B7-8CC9-4C88-93AA-FDDB334477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erify purity of inocul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 inoculum p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sm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cellular morphology on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BC mixed with N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ion (fungus and bacte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plate for contamination ch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brook 7H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out mixed mycobacterial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FFEF-1A51-4695-A5E6-C162995D3A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erify resistance prof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resistance to a dru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rm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not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0.1 ml of drug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selected from the bottom of seed tube or clumps were not allowed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a MGIT 960 seed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t DST panel with resistant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1D32-7110-478E-BFDA-AAE6AA64DF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ZN on growing drug-containing tub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iddlebrook 7H10 is not available to confirm mycobacteria p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on resistant drug-containing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that only one type of cellular morphology i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need to reset DST to verify drug was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FF4E-DE49-4D6A-9D22-F68CA2706E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78F8-21A4-4844-B30F-AF028AD5E9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ST troubleshooting: When to re-tes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-interpre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-resistance (especially RIF, EMB &amp; PZ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disagree with previous testing from the sam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derline resistance/suscept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is a new untreated case and shows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rganisms fail to give expec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xpected high number of resistant isolates in a b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9146-0367-42E8-AB99-513D4FF6B5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oubleshooting 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m suspensi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homogeneous, without cl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 must be taken when preparing di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must be reconstituted and stored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e tubes and pipettes must be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pipettes must be used, not disposable transfer 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 of DST is critical to ensure test is functioning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performed on all new lots of DST reagents and MGIT tubes and weekly with each batch of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33C9-41D2-493B-A9A9-6B6CCD83D0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5D1F-B422-4BCD-8E53-CBA7D98A46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186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ight equipment used correct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the right equipment/supp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nly sterile tubes and 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e glass beads to break up clumps in inoculum from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brated pipet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addition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McFarland standard with same tube diameter as inoculum tube and same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 7H9, use 7H9 blank in densito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tex well and allow clump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select inoculum from bottom of tube or over inoculate tubes with clumps of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7957-4159-4A10-8483-D72FFE2B91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orrect reag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test medium and MGIT 7 ml tubes are not interchangeable when testing SIRE and PZA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supplement and SIRE supplement are not interchange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use supplement other than that supplied with the drugs – no PANTA or other growth sup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reconstit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rile distilled/deionize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drug dissolves comple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 reconstituted drug at -20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up to 6 months, but do not exceed original expiration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awed, reconstituted drug the same day; discard any unused por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E3C9-57E8-4B9E-B411-418364DF6D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orrect inocul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the right ino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 culture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n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4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MGIT tu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 MGIT 960 called ‘positive’ plus 1 day to 5 days from date of po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geneous ino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rile glass beads and vortex to break up organism clu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nly supernatant for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high or too low an inoculum may give erroneous results or un-interpretabl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dilutions according to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ccurate pipette to add inoculum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rror report for DST se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nditions occur that may affect the test results; the instrument will report this as an error 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 tubes become positive in less than 4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too he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 tubes remain negative up to 21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too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8972-CEAC-4F65-B944-154299F2B1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valid DST sets ‘X’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Growth control is not positive within 13 days (SIRE) or 21 days (PZ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Assumption is made that set is under-inocul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Growth control is positive too soon (&lt; 4 day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Assumption is made that set is over-inoculated or conta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ANY tube is missing in 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D442-5739-4E07-89A3-CAC92AEC13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17CA-DF20-4BD2-895D-0B499E8F61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ST interpretation of DST res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alid results ‘X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inoculum was too he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from MGIT tube, ‘Day’ 3 to 5 must be dil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from solid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be must be allowed to settle – over-inoculation and minimize aero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 suspension from solid to 0.5 McFa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pecimen not vortex-mixed completely; clumps still present in sus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Control suspensions for SIRE and PZA are different (1:100 vs 1: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D4D9-AB6C-436B-B4AD-803DE6EE51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ST troubleshooting: Non-interprete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ment took too long to interpret results (SIRE &gt;14 days; PZA &gt;21 da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inoculum too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 pipettes must be used for dilutions and addition to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transfer pipet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with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 may have been picked up, which interferes with reading 0.5 McFa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ulture too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n proper growth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AB5F-560B-45A3-AD64-7C72BAB7F4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troubleshoo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 suscep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oculum is too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ing suspension must be &gt; 1.0 McFa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sion not homogene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e too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control dilution was too he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 control grew too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proper amount of supplement added to tub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supplement properly stor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not reconstitut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much drug added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ube caps on tight? If not, oxygen can leak into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PZA medium and PZA supplement can be used for PZA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could be borderline-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4:48:26Z</dcterms:created>
  <dc:creator>hellmann</dc:creator>
  <dc:description/>
  <dc:language>en-US</dc:language>
  <cp:lastModifiedBy>Philip</cp:lastModifiedBy>
  <dcterms:modified xsi:type="dcterms:W3CDTF">2012-01-26T09:49:00Z</dcterms:modified>
  <cp:revision>33</cp:revision>
  <dc:subject/>
  <dc:title>BACTEC MGIT 960 DST Quality Control</dc:title>
</cp:coreProperties>
</file>