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9.jpeg" ContentType="image/jpeg"/>
  <Override PartName="/ppt/media/image17.png" ContentType="image/png"/>
  <Override PartName="/ppt/media/image16.png" ContentType="image/png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9.jpeg" ContentType="image/jpeg"/>
  <Override PartName="/ppt/media/image6.wmf" ContentType="image/x-wmf"/>
  <Override PartName="/ppt/media/image11.wmf" ContentType="image/x-wmf"/>
  <Override PartName="/ppt/media/image7.jpeg" ContentType="image/jpeg"/>
  <Override PartName="/ppt/media/image20.png" ContentType="image/png"/>
  <Override PartName="/ppt/media/image18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B4949-8D20-489A-9039-CCBA097DED2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FF0A9-B894-40DC-B032-8E36553A19E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written checklists avoids the unnecessary interruption of work in the BSC that can compromise the quality of the specimen testing or the biosafety of laboratory staf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8E752-05F9-4FBE-B80A-34F97C58202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99"/>
                </a:solidFill>
                <a:latin typeface="Arial"/>
              </a:rPr>
              <a:t>Place absorbent paper towelling on the work surface to minimize the potential of exposure to infectious material or cross contamination in case of a spi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locking the grill disrupts the integrity of the cabinet air barrier and  can compromise both staff and product protec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Keeping clean materials at least 12 cm away from aerosol-generating activities will minimise the potential for cross-contamin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4BA8-C039-4D95-9208-1B6588910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5635-560A-4D91-AD33-A02D9F586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3599-1AEF-4416-9DD3-C010ED0D7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68EA-5AAE-4BFF-8A8F-DEDCF03AC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FFAEB-D580-4B63-BC39-7A2549D30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58C4E-D862-4942-BEBD-690938824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F2F47-9143-42F0-84C5-94FA83766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A9EE1-0DCA-4AF9-9F6A-A41407602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3DF05-5C66-4B42-A877-5FC4E02FE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7BE9C-7901-4DAE-8AA6-5492B01FD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3FDFA-97C5-4308-9C74-7EF8AE129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196E-0F17-4580-8B97-D2FBED19B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1684A-AF17-4F48-B61B-A53E43E94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A9FFC-3089-4D6B-8DC6-893BED278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ADC2B-D399-4BE0-9B42-A01092288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B4E87-B04C-4B4A-BA76-D8315DA35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72120-E123-4986-9163-736642A60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A4D5-3761-4CCC-AFFB-60D9E8849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61E1-CF05-4307-B053-CBEDB0113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5F58-C542-4123-894B-A86C68A18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C26F-1F99-47F9-BFFC-98CC7B2FA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3F2A-B25F-4573-8DAA-1981BE4F5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9B0A-7D54-47BA-AE35-87DFBB0E5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1FFC-3691-4869-BFCF-8DF464835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8CB58-E33F-428B-8E1C-B6CF7F8A1D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F7355-33B1-4FC5-9B8C-B9D3B9C594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5.wmf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2.wmf"/><Relationship Id="rId6" Type="http://schemas.openxmlformats.org/officeDocument/2006/relationships/image" Target="../media/image3.wmf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9.jpeg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image" Target="../media/image1.png"/><Relationship Id="rId7" Type="http://schemas.openxmlformats.org/officeDocument/2006/relationships/image" Target="../media/image2.wmf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1459080"/>
            <a:ext cx="8915400" cy="14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enoType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®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TBDR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plu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VER 2.0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enoType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®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TBDR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sl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VER 2.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Specimen preparatio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320" y="28260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mple preparation of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quid cultures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2914560" y="1413000"/>
            <a:ext cx="547380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95000"/>
              </a:lnSpc>
              <a:spcBef>
                <a:spcPts val="1349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abel 1.5 ml screw-cap conical tubes (not the caps) for each s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788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1349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Vortex liquid culture tube to homogenize sample for 1 minute. Let tube stand for 10 minutes before opening to allow aerosols to set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788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1349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ransfer 1 ml of liquid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M. tuberculosis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ulture into 1.5 ml conical tubes; change transfer pipettes between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612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113760" y="758880"/>
            <a:ext cx="822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Infectious material: all steps have to be performed in a BSC at BSL3 Labor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9" descr="biohazardsign"/>
          <p:cNvPicPr/>
          <p:nvPr/>
        </p:nvPicPr>
        <p:blipFill>
          <a:blip r:embed="rId1"/>
          <a:stretch/>
        </p:blipFill>
        <p:spPr>
          <a:xfrm>
            <a:off x="7596360" y="260280"/>
            <a:ext cx="576000" cy="52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69" name="Picture 10" descr="LogoColour"/>
          <p:cNvPicPr/>
          <p:nvPr/>
        </p:nvPicPr>
        <p:blipFill>
          <a:blip r:embed="rId2"/>
          <a:stretch/>
        </p:blipFill>
        <p:spPr>
          <a:xfrm>
            <a:off x="8317080" y="6442200"/>
            <a:ext cx="826920" cy="4158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2" descr=""/>
          <p:cNvPicPr/>
          <p:nvPr/>
        </p:nvPicPr>
        <p:blipFill>
          <a:blip r:embed="rId3"/>
          <a:stretch/>
        </p:blipFill>
        <p:spPr>
          <a:xfrm>
            <a:off x="971640" y="2205000"/>
            <a:ext cx="1222200" cy="3189240"/>
          </a:xfrm>
          <a:prstGeom prst="rect">
            <a:avLst/>
          </a:prstGeom>
          <a:ln w="28440">
            <a:solidFill>
              <a:srgbClr val="6666cc"/>
            </a:solidFill>
            <a:miter/>
          </a:ln>
        </p:spPr>
      </p:pic>
      <p:pic>
        <p:nvPicPr>
          <p:cNvPr id="171" name="Picture 13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4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NA extraction optio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ract DNA in BSL3 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t kill samples in a dry oven at 80 °C for 1 hour or incubate for 15min at 95°C in a water ba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 samples to BSL2 lab for DNA extraction and remainder of LPA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7480" y="-2700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NA extraction: Option On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9640" y="1465200"/>
            <a:ext cx="7920000" cy="31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-176040">
              <a:lnSpc>
                <a:spcPct val="85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ellet bacteria by centrifuging specimen for 15 min at 10,000 x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5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se  table top centrifuge with an aerosol-tight ro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 the BSL3 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5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ark the top side of the tubes as they are placed in the rotor. Pellet is located on the bottom of the tube, opposite to mark on 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5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et the vials stand in the rack for 1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2 min to avoid aerosol generation when opening tubes under a B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5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arefully aspirate the supernatant (without removing the pellet) with a 1 ml pipette with filtered tips; change tips between sampl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5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dd 100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µl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ysis buffer (A-Lys) to pellet using a 200 </a:t>
            </a:r>
            <a:r>
              <a:rPr b="0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 pipette with filtered tips; change tip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5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Vortex tubes until pellet is completely resuspend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5760" y="785880"/>
            <a:ext cx="822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Infectious material: all steps have to be performed in a BSC at BSL3 Labor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5" descr="biohazardsign"/>
          <p:cNvPicPr/>
          <p:nvPr/>
        </p:nvPicPr>
        <p:blipFill>
          <a:blip r:embed="rId1"/>
          <a:stretch/>
        </p:blipFill>
        <p:spPr>
          <a:xfrm>
            <a:off x="7524720" y="260280"/>
            <a:ext cx="576360" cy="52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79" name="Picture 16" descr="LogoColour"/>
          <p:cNvPicPr/>
          <p:nvPr/>
        </p:nvPicPr>
        <p:blipFill>
          <a:blip r:embed="rId2"/>
          <a:stretch/>
        </p:blipFill>
        <p:spPr>
          <a:xfrm>
            <a:off x="7792920" y="6248520"/>
            <a:ext cx="1008360" cy="5061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8" descr=""/>
          <p:cNvPicPr/>
          <p:nvPr/>
        </p:nvPicPr>
        <p:blipFill>
          <a:blip r:embed="rId3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9" descr=""/>
          <p:cNvPicPr/>
          <p:nvPr/>
        </p:nvPicPr>
        <p:blipFill>
          <a:blip r:embed="rId4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0" descr=""/>
          <p:cNvPicPr/>
          <p:nvPr/>
        </p:nvPicPr>
        <p:blipFill>
          <a:blip r:embed="rId5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1" descr=""/>
          <p:cNvPicPr/>
          <p:nvPr/>
        </p:nvPicPr>
        <p:blipFill>
          <a:blip r:embed="rId6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grpSp>
        <p:nvGrpSpPr>
          <p:cNvPr id="184" name="Gruppieren 6"/>
          <p:cNvGrpSpPr/>
          <p:nvPr/>
        </p:nvGrpSpPr>
        <p:grpSpPr>
          <a:xfrm>
            <a:off x="1671480" y="4444920"/>
            <a:ext cx="3811320" cy="1722960"/>
            <a:chOff x="1671480" y="4444920"/>
            <a:chExt cx="3811320" cy="1722960"/>
          </a:xfrm>
        </p:grpSpPr>
        <p:pic>
          <p:nvPicPr>
            <p:cNvPr id="185" name="Grafik 4" descr="Ein Bild, das Tisch, klein, weiß, sitzend enthält.&#10;&#10;Automatisch generierte Beschreibung"/>
            <p:cNvPicPr/>
            <p:nvPr/>
          </p:nvPicPr>
          <p:blipFill>
            <a:blip r:embed="rId7"/>
            <a:srcRect l="0" t="0" r="0" b="15521"/>
            <a:stretch/>
          </p:blipFill>
          <p:spPr>
            <a:xfrm>
              <a:off x="1671480" y="4444920"/>
              <a:ext cx="2443320" cy="1708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6" name="Gruppieren 5"/>
            <p:cNvGrpSpPr/>
            <p:nvPr/>
          </p:nvGrpSpPr>
          <p:grpSpPr>
            <a:xfrm>
              <a:off x="3971160" y="5331240"/>
              <a:ext cx="1511640" cy="836640"/>
              <a:chOff x="3971160" y="5331240"/>
              <a:chExt cx="1511640" cy="836640"/>
            </a:xfrm>
          </p:grpSpPr>
          <p:sp>
            <p:nvSpPr>
              <p:cNvPr id="187" name="Text Box 10"/>
              <p:cNvSpPr/>
              <p:nvPr/>
            </p:nvSpPr>
            <p:spPr>
              <a:xfrm>
                <a:off x="4284360" y="5860800"/>
                <a:ext cx="64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ell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11"/>
              <p:cNvSpPr/>
              <p:nvPr/>
            </p:nvSpPr>
            <p:spPr>
              <a:xfrm>
                <a:off x="4284000" y="5331240"/>
                <a:ext cx="1198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supernatan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Line 12"/>
              <p:cNvSpPr/>
              <p:nvPr/>
            </p:nvSpPr>
            <p:spPr>
              <a:xfrm flipH="1" flipV="1">
                <a:off x="3971160" y="5343480"/>
                <a:ext cx="287280" cy="14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Line 9"/>
              <p:cNvSpPr/>
              <p:nvPr/>
            </p:nvSpPr>
            <p:spPr>
              <a:xfrm>
                <a:off x="4087080" y="5946480"/>
                <a:ext cx="215640" cy="71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981080" y="1499760"/>
            <a:ext cx="6624720" cy="502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Wipe tubes with disinfectant before removing them from the BS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Incubate tubes in a heat block or water bath at 95 </a:t>
            </a:r>
            <a:r>
              <a:rPr b="0" lang="en-US" sz="1700" spc="-1" strike="noStrike">
                <a:solidFill>
                  <a:srgbClr val="000066"/>
                </a:solidFill>
                <a:latin typeface="Arial"/>
                <a:ea typeface="Arial"/>
              </a:rPr>
              <a:t>°</a:t>
            </a: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C for 5 min to kill MTBC and disrupt cell wa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Always check temperature before incubation!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Water bath temperature is more accurate than temperature in heat block!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Heat block diminishes the chance of contamination from the wat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Discard water after each us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Clean water bath with 1.5% freshly prepared bleach (20 min) followed by 70% alcoho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lnSpc>
                <a:spcPct val="80000"/>
              </a:lnSpc>
              <a:spcBef>
                <a:spcPts val="7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3300"/>
                </a:solidFill>
                <a:latin typeface="Arial"/>
              </a:rPr>
              <a:t>MTB in drops inside vial caps may remain viable!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3300"/>
                </a:solidFill>
                <a:latin typeface="Arial"/>
              </a:rPr>
              <a:t>Use of a small oven may be the best and safest solution (80 </a:t>
            </a:r>
            <a:r>
              <a:rPr b="0" lang="en-US" sz="1700" spc="-1" strike="noStrike">
                <a:solidFill>
                  <a:srgbClr val="ff3300"/>
                </a:solidFill>
                <a:latin typeface="Arial"/>
                <a:ea typeface="Arial"/>
              </a:rPr>
              <a:t>°C for 1h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3300"/>
                </a:solidFill>
                <a:latin typeface="Arial"/>
              </a:rPr>
              <a:t>If heat-kill was properly carried out, specimen is considered non-infectious after this poi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540000" y="344016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 b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5760" y="765000"/>
            <a:ext cx="822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Infectious material: all steps have to be performed in a BSC at BSL3 Labor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8"/>
          <p:cNvSpPr/>
          <p:nvPr/>
        </p:nvSpPr>
        <p:spPr>
          <a:xfrm>
            <a:off x="87480" y="-27000"/>
            <a:ext cx="8015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pecimen preparation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1" descr="biohazardsign"/>
          <p:cNvPicPr/>
          <p:nvPr/>
        </p:nvPicPr>
        <p:blipFill>
          <a:blip r:embed="rId1"/>
          <a:stretch/>
        </p:blipFill>
        <p:spPr>
          <a:xfrm>
            <a:off x="7451640" y="260280"/>
            <a:ext cx="576360" cy="52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96" name="Picture 13" descr="LogoColour"/>
          <p:cNvPicPr/>
          <p:nvPr/>
        </p:nvPicPr>
        <p:blipFill>
          <a:blip r:embed="rId2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4" descr=""/>
          <p:cNvPicPr/>
          <p:nvPr/>
        </p:nvPicPr>
        <p:blipFill>
          <a:blip r:embed="rId3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5" descr=""/>
          <p:cNvPicPr/>
          <p:nvPr/>
        </p:nvPicPr>
        <p:blipFill>
          <a:blip r:embed="rId4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pic>
        <p:nvPicPr>
          <p:cNvPr id="199" name="Grafik 2" descr="Ein Bild, das Tisch, Anzeige, Telefon enthält.&#10;&#10;Automatisch generierte Beschreibung"/>
          <p:cNvPicPr/>
          <p:nvPr/>
        </p:nvPicPr>
        <p:blipFill>
          <a:blip r:embed="rId5"/>
          <a:srcRect l="0" t="16495" r="0" b="14154"/>
          <a:stretch/>
        </p:blipFill>
        <p:spPr>
          <a:xfrm>
            <a:off x="468360" y="1503360"/>
            <a:ext cx="1481040" cy="18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68000" y="1341360"/>
            <a:ext cx="80154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70640" indent="-17064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Briefly spin dow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0640" indent="-17064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dd 100 µl Neutralization Buffer (A-NB) and vortex sample for 5 sec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0640" indent="-17064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pin down for 5 min at full speed in a table top centrifu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0640" indent="-17064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 table top centrifuge with an aerosol-tight ro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0640" indent="-17064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ransfer supernatant containing DNA to new 1.5 ml screw-cap vials using a 1 ml pipette with filtered tips; change tip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0640" indent="-17064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o not stir up pellet – cell debris to dis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0640" indent="-17064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reeze leftover specimens at -20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°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0640" indent="-17064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Specimens may be kept at 4 °C for 24 - 48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0640" indent="-17064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DNA ready for addition to master mix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0" y="0"/>
            <a:ext cx="80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pecimen preparatio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1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15"/>
          <p:cNvSpPr/>
          <p:nvPr/>
        </p:nvSpPr>
        <p:spPr>
          <a:xfrm>
            <a:off x="4646520" y="4813200"/>
            <a:ext cx="2232000" cy="763560"/>
          </a:xfrm>
          <a:prstGeom prst="rect">
            <a:avLst/>
          </a:prstGeom>
          <a:solidFill>
            <a:srgbClr val="d9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!</a:t>
            </a: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 Always use screw-cap, not flip-cap, vials in order to avoid conta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8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9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pic>
        <p:nvPicPr>
          <p:cNvPr id="206" name="Grafik 2" descr="Ein Bild, das Tisch, klein, Mann, blau enthält.&#10;&#10;Automatisch generierte Beschreibung"/>
          <p:cNvPicPr/>
          <p:nvPr/>
        </p:nvPicPr>
        <p:blipFill>
          <a:blip r:embed="rId4"/>
          <a:srcRect l="0" t="0" r="0" b="13783"/>
          <a:stretch/>
        </p:blipFill>
        <p:spPr>
          <a:xfrm>
            <a:off x="1128600" y="4665600"/>
            <a:ext cx="3416400" cy="14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539640" y="1413000"/>
            <a:ext cx="3889440" cy="42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159120" indent="-15912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Decontaminate any materials (vials, tubes, etc.) before removal from the B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9120" indent="-15912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lean pipettes, racks, instruments and the BSC with freshly diluted 1.5% bleach (20 minutes), followed by 70% alcohol wa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9120" indent="-15912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se area-dedicated wash bottles or beakers (separate beakers for surface cleaning and instrumen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9120" indent="-15912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o not take anything from this area to Reagent Preparation Are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9120" indent="-15912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onsider performing specimen preparation on a separate day to enable unidirectional workflow between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277920" y="247680"/>
            <a:ext cx="8015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Working in a BSC (Clean-up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6" descr="biohazardsign"/>
          <p:cNvPicPr/>
          <p:nvPr/>
        </p:nvPicPr>
        <p:blipFill>
          <a:blip r:embed="rId1"/>
          <a:stretch/>
        </p:blipFill>
        <p:spPr>
          <a:xfrm>
            <a:off x="7524720" y="279360"/>
            <a:ext cx="576360" cy="52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10" name="Picture 7" descr="IMG_4057"/>
          <p:cNvPicPr/>
          <p:nvPr/>
        </p:nvPicPr>
        <p:blipFill>
          <a:blip r:embed="rId2"/>
          <a:stretch/>
        </p:blipFill>
        <p:spPr>
          <a:xfrm>
            <a:off x="4572000" y="1989000"/>
            <a:ext cx="3887640" cy="3246480"/>
          </a:xfrm>
          <a:prstGeom prst="rect">
            <a:avLst/>
          </a:prstGeom>
          <a:ln w="38160">
            <a:solidFill>
              <a:srgbClr val="ff5050"/>
            </a:solidFill>
            <a:miter/>
          </a:ln>
        </p:spPr>
      </p:pic>
      <p:pic>
        <p:nvPicPr>
          <p:cNvPr id="211" name="Picture 9" descr="LogoColour"/>
          <p:cNvPicPr/>
          <p:nvPr/>
        </p:nvPicPr>
        <p:blipFill>
          <a:blip r:embed="rId3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0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1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NA extraction: Option Tw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t-kill samples in BSL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ifu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e DNA supernatant to new 1.5 ml conical screw cap tu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eze DNA until ready to add to master m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tamination control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men preparation ar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82803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ools and instruments used here have to be labelled accordingly and 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should not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be used elsew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Never take anything from this site to the Reagent Preparation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You may only take the PCR tubes in an aluminum foil-covered beaker to Amplification/Detection Are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o not bring this beaker back to Specimen or Reagent Preparation Area. Wash and autoclave before reu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lways use filtered ti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o not try to put cotton plugs into unfiltered ti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Do not use flip-cap tubes, always use screw-cap tub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Laboratory Practi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o specimen preparation on a separate day (earlier) and freeze extracted D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Proceed with reagent preparation and amplification/detection on the following d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his way work can be unidirect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dd DNA extract to PCR tubes in a PCR hood, use BSC only for DNA extr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If applicable, dedicate a BSC only for molecular 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hange gloves if they get contaminated by specim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tamination control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men preparation ar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94920" y="1484280"/>
            <a:ext cx="79945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g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82520">
              <a:spcBef>
                <a:spcPts val="499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Use 70% alcohol instead of distilled water for cleaning to avoid contamination of distilled water sto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82520">
              <a:spcBef>
                <a:spcPts val="499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liquot sterile molecular grade water into 15 ml tu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82520">
              <a:spcBef>
                <a:spcPts val="499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Use an Eppendorf repeat pipette with individually wrapped, sterile combi-tips for aliquoting, if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clean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82520">
              <a:spcBef>
                <a:spcPts val="499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lways properly clean the work area after completing the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82520">
              <a:spcBef>
                <a:spcPts val="499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stablish a regular (e.g. weekly) and thorough laboratory cleaning protocol (floors, doors, wal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00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rganize your work (use checkli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ork unidirectionally (laboratory layou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velop and follow SOP for procedure and instrument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Keep tools and workplace clea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Content out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PCR laboratory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Check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Personal protective equipment (P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Working in a Biological Safety Cabinet (B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Specimen preparation for PC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Contaminatio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9D8E1-A6A1-4FD0-A53F-558AF68E2B8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ptimal PCR laboratory layou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1116000" y="1346040"/>
            <a:ext cx="6553080" cy="5267520"/>
          </a:xfrm>
          <a:prstGeom prst="rect">
            <a:avLst/>
          </a:prstGeom>
          <a:ln w="0">
            <a:noFill/>
          </a:ln>
        </p:spPr>
      </p:pic>
      <p:sp>
        <p:nvSpPr>
          <p:cNvPr id="110" name="Oval 4"/>
          <p:cNvSpPr/>
          <p:nvPr/>
        </p:nvSpPr>
        <p:spPr>
          <a:xfrm>
            <a:off x="1116000" y="4581360"/>
            <a:ext cx="1224000" cy="21607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2414160" y="479736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A-“dirty”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1844640" y="278748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A-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6221880" y="5013360"/>
            <a:ext cx="116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mplicon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ty”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8" descr="LogoColour"/>
          <p:cNvPicPr/>
          <p:nvPr/>
        </p:nvPicPr>
        <p:blipFill>
          <a:blip r:embed="rId2"/>
          <a:stretch/>
        </p:blipFill>
        <p:spPr>
          <a:xfrm>
            <a:off x="8388360" y="6478560"/>
            <a:ext cx="755640" cy="379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"/>
          <p:cNvPicPr/>
          <p:nvPr/>
        </p:nvPicPr>
        <p:blipFill>
          <a:blip r:embed="rId3"/>
          <a:stretch/>
        </p:blipFill>
        <p:spPr>
          <a:xfrm>
            <a:off x="0" y="6554880"/>
            <a:ext cx="841320" cy="3031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"/>
          <p:cNvPicPr/>
          <p:nvPr/>
        </p:nvPicPr>
        <p:blipFill>
          <a:blip r:embed="rId4"/>
          <a:stretch/>
        </p:blipFill>
        <p:spPr>
          <a:xfrm>
            <a:off x="4284720" y="6566040"/>
            <a:ext cx="431640" cy="29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orking in BS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345600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repare a written checklist of materials and tools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epare a worksheet with list of specimens (identifiers) to be te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Object 9"/>
          <p:cNvGraphicFramePr/>
          <p:nvPr/>
        </p:nvGraphicFramePr>
        <p:xfrm>
          <a:off x="4067280" y="1539720"/>
          <a:ext cx="5618160" cy="4913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0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1539720"/>
                    <a:ext cx="5618160" cy="491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Picture 11" descr="LogoColour"/>
          <p:cNvPicPr/>
          <p:nvPr/>
        </p:nvPicPr>
        <p:blipFill>
          <a:blip r:embed="rId3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3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42696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se appropriate BSL3 PPE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Gow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ust have solid front and can be tied in the 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Long-sleeved with elastic cuf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ust be either autoclavable/washable (soak in bleach) or dispos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spi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N-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Glo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ngle-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4"/>
          <p:cNvGrpSpPr/>
          <p:nvPr/>
        </p:nvGrpSpPr>
        <p:grpSpPr>
          <a:xfrm>
            <a:off x="5154480" y="1434960"/>
            <a:ext cx="3430440" cy="2590920"/>
            <a:chOff x="5154480" y="1434960"/>
            <a:chExt cx="3430440" cy="2590920"/>
          </a:xfrm>
        </p:grpSpPr>
        <p:pic>
          <p:nvPicPr>
            <p:cNvPr id="127" name="Picture 5" descr="camice"/>
            <p:cNvPicPr/>
            <p:nvPr/>
          </p:nvPicPr>
          <p:blipFill>
            <a:blip r:embed="rId1"/>
            <a:srcRect l="15999" t="0" r="10264" b="0"/>
            <a:stretch/>
          </p:blipFill>
          <p:spPr>
            <a:xfrm>
              <a:off x="5154480" y="1752120"/>
              <a:ext cx="1541160" cy="195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6" descr="surgical gown2"/>
            <p:cNvPicPr/>
            <p:nvPr/>
          </p:nvPicPr>
          <p:blipFill>
            <a:blip r:embed="rId2"/>
            <a:stretch/>
          </p:blipFill>
          <p:spPr>
            <a:xfrm>
              <a:off x="6854760" y="1434960"/>
              <a:ext cx="1730160" cy="2590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9" name="Picture 7" descr="masks"/>
          <p:cNvPicPr/>
          <p:nvPr/>
        </p:nvPicPr>
        <p:blipFill>
          <a:blip r:embed="rId3"/>
          <a:srcRect l="14273" t="20464" r="14538" b="14125"/>
          <a:stretch/>
        </p:blipFill>
        <p:spPr>
          <a:xfrm>
            <a:off x="5003640" y="3932280"/>
            <a:ext cx="2681280" cy="22525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1" descr="LogoColour"/>
          <p:cNvPicPr/>
          <p:nvPr/>
        </p:nvPicPr>
        <p:blipFill>
          <a:blip r:embed="rId6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2" descr=""/>
          <p:cNvPicPr/>
          <p:nvPr/>
        </p:nvPicPr>
        <p:blipFill>
          <a:blip r:embed="rId7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3" descr=""/>
          <p:cNvPicPr/>
          <p:nvPr/>
        </p:nvPicPr>
        <p:blipFill>
          <a:blip r:embed="rId8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82760" y="228600"/>
            <a:ext cx="6968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SL 3 PPE is suitable for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pecimen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pecimen inoc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nipulating cul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entrifu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oculation of D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king smears from cultures and processed specim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iochemical testing to identify 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reparing samples for PCR (before heat-ki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412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orking in BS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84280"/>
            <a:ext cx="3600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-176040">
              <a:lnSpc>
                <a:spcPct val="90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econtaminate the BSC with freshly diluted 1.5% bleach (20 min), followed by 70% alcoh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788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over the working area with paper towels and use suitable disinfecta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se a discard container with a plastic bag and freshly diluted 1.5% bl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DO NOT block the gr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erform all operations at least 12 cm away from the front grill on the work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lace all materials and aerosol-generating equipment away from the front gr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IMG_4028"/>
          <p:cNvPicPr/>
          <p:nvPr/>
        </p:nvPicPr>
        <p:blipFill>
          <a:blip r:embed="rId1"/>
          <a:stretch/>
        </p:blipFill>
        <p:spPr>
          <a:xfrm>
            <a:off x="4140360" y="1916280"/>
            <a:ext cx="4392360" cy="3295440"/>
          </a:xfrm>
          <a:prstGeom prst="rect">
            <a:avLst/>
          </a:prstGeom>
          <a:ln w="38160">
            <a:solidFill>
              <a:srgbClr val="ff5050"/>
            </a:solidFill>
            <a:miter/>
          </a:ln>
        </p:spPr>
      </p:pic>
      <p:pic>
        <p:nvPicPr>
          <p:cNvPr id="143" name="Picture 6" descr="LogoColour"/>
          <p:cNvPicPr/>
          <p:nvPr/>
        </p:nvPicPr>
        <p:blipFill>
          <a:blip r:embed="rId2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"/>
          <p:cNvPicPr/>
          <p:nvPr/>
        </p:nvPicPr>
        <p:blipFill>
          <a:blip r:embed="rId3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"/>
          <p:cNvPicPr/>
          <p:nvPr/>
        </p:nvPicPr>
        <p:blipFill>
          <a:blip r:embed="rId4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3760" y="43920"/>
            <a:ext cx="8337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eparation of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nical specimens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15" descr=""/>
          <p:cNvPicPr/>
          <p:nvPr/>
        </p:nvPicPr>
        <p:blipFill>
          <a:blip r:embed="rId1"/>
          <a:stretch/>
        </p:blipFill>
        <p:spPr>
          <a:xfrm>
            <a:off x="1042920" y="2492280"/>
            <a:ext cx="1360440" cy="3211560"/>
          </a:xfrm>
          <a:prstGeom prst="rect">
            <a:avLst/>
          </a:prstGeom>
          <a:ln w="28440">
            <a:solidFill>
              <a:srgbClr val="6666cc"/>
            </a:solidFill>
            <a:miter/>
          </a:ln>
        </p:spPr>
      </p:pic>
      <p:sp>
        <p:nvSpPr>
          <p:cNvPr id="148" name="Text Box 16"/>
          <p:cNvSpPr/>
          <p:nvPr/>
        </p:nvSpPr>
        <p:spPr>
          <a:xfrm>
            <a:off x="2914560" y="1989000"/>
            <a:ext cx="5473800" cy="38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95000"/>
              </a:lnSpc>
              <a:spcBef>
                <a:spcPts val="1125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Label 1.5 ml screw-cap conical tubes (</a:t>
            </a:r>
            <a:r>
              <a:rPr b="0" i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not</a:t>
            </a: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caps) for each speci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1125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Vortex decontaminated clinical specimen for 1 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1125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rocess only one specimen at a time; do not leave open containers or centrifuge tubes in the B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1125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ransfer 500 </a:t>
            </a: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l decontaminated clinical specimen into 1.5 ml conical screw-capped vial; change tip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7"/>
          <p:cNvSpPr/>
          <p:nvPr/>
        </p:nvSpPr>
        <p:spPr>
          <a:xfrm>
            <a:off x="5760" y="765000"/>
            <a:ext cx="822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Infectious material: all steps have to be performed in a BSC at BSL3 Labor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9"/>
          <p:cNvSpPr/>
          <p:nvPr/>
        </p:nvSpPr>
        <p:spPr>
          <a:xfrm flipH="1">
            <a:off x="1835280" y="3068640"/>
            <a:ext cx="1079280" cy="10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0"/>
          <p:cNvSpPr/>
          <p:nvPr/>
        </p:nvSpPr>
        <p:spPr>
          <a:xfrm>
            <a:off x="682560" y="1341360"/>
            <a:ext cx="77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linical specimens have to be decontaminated by N-acetyl-L-cysteine/NaOH method before specimen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2" descr="biohazardsign"/>
          <p:cNvPicPr/>
          <p:nvPr/>
        </p:nvPicPr>
        <p:blipFill>
          <a:blip r:embed="rId2"/>
          <a:stretch/>
        </p:blipFill>
        <p:spPr>
          <a:xfrm>
            <a:off x="7596360" y="333360"/>
            <a:ext cx="576000" cy="52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53" name="Picture 23" descr="LogoColour"/>
          <p:cNvPicPr/>
          <p:nvPr/>
        </p:nvPicPr>
        <p:blipFill>
          <a:blip r:embed="rId3"/>
          <a:stretch/>
        </p:blipFill>
        <p:spPr>
          <a:xfrm>
            <a:off x="8317080" y="6442200"/>
            <a:ext cx="826920" cy="4158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4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5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9" descr=""/>
          <p:cNvPicPr/>
          <p:nvPr/>
        </p:nvPicPr>
        <p:blipFill>
          <a:blip r:embed="rId1"/>
          <a:stretch/>
        </p:blipFill>
        <p:spPr>
          <a:xfrm>
            <a:off x="900000" y="2205000"/>
            <a:ext cx="1176480" cy="2933640"/>
          </a:xfrm>
          <a:prstGeom prst="rect">
            <a:avLst/>
          </a:prstGeom>
          <a:ln w="28440">
            <a:solidFill>
              <a:srgbClr val="6666cc"/>
            </a:solidFill>
            <a:miter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4560" y="26028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ple preparation of isolates on solid culture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2986200" y="1596960"/>
            <a:ext cx="5473440" cy="45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90000"/>
              </a:lnSpc>
              <a:spcBef>
                <a:spcPts val="1012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abel 1.5 ml screw cap conical tubes (not the caps) for each 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561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1012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ollect bacteria with an inoculation loop and suspend in 100 μl of Lysis Buffer (A-LYS); change loops between samples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1012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o not scrape the surface of the medium since components of egg-based medium can inhibit PCR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561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1012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Vortex suspension for 1 minute to break up clum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561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1012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entrifuge for 15 min at 10,000 x g or 1 ml liquid mediu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113760" y="758880"/>
            <a:ext cx="822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Infectious material: all steps have to be performed in a BSC at BSL3 Labor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6"/>
          <p:cNvSpPr/>
          <p:nvPr/>
        </p:nvSpPr>
        <p:spPr>
          <a:xfrm flipH="1">
            <a:off x="1834920" y="3789360"/>
            <a:ext cx="117612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7" descr="biohazardsign"/>
          <p:cNvPicPr/>
          <p:nvPr/>
        </p:nvPicPr>
        <p:blipFill>
          <a:blip r:embed="rId2"/>
          <a:stretch/>
        </p:blipFill>
        <p:spPr>
          <a:xfrm>
            <a:off x="7667640" y="260280"/>
            <a:ext cx="576360" cy="52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62" name="Picture 8" descr="LogoColour"/>
          <p:cNvPicPr/>
          <p:nvPr/>
        </p:nvPicPr>
        <p:blipFill>
          <a:blip r:embed="rId3"/>
          <a:stretch/>
        </p:blipFill>
        <p:spPr>
          <a:xfrm>
            <a:off x="8317080" y="6442200"/>
            <a:ext cx="826920" cy="4158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1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2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agliani Elisa</cp:lastModifiedBy>
  <dcterms:modified xsi:type="dcterms:W3CDTF">2020-06-12T09:52:40Z</dcterms:modified>
  <cp:revision>394</cp:revision>
  <dc:subject/>
  <dc:title>PowerPoint Presentation</dc:title>
</cp:coreProperties>
</file>