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31DB-50E3-499E-84A7-F5A5C5D8BF5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A4B3-CD12-4C73-B44E-447F8775046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5031-1F71-4757-8605-B577FB804D7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F752-4400-46D1-BECD-9267A9F3964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04A7-8053-48F3-9082-87578B9A602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E235-64F2-462C-B350-5AA7D06C885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1DFF-8284-4B77-9A38-D732DDB9FDC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F6D8-74E8-4237-A4A0-4D28120BF0F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6370-089C-4A6F-ABCA-2CB4A7020A7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5526-B3C9-48BC-B31B-59C60BFDACA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1DF8-481A-43F7-8A14-4F9962E7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EE2D-C580-480A-998F-AB6F9101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FF06-00FB-4168-8C8B-994E6FC9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0E0C-809F-4759-A6E0-3DF9E4B0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7689-343B-4321-A9D7-54EDDF8F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A861-1C24-4C3A-B5FD-89D7D190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6992-0356-46E2-A4A7-E0209497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F50F-DD23-4008-A8DF-E9E01BBA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1066-65BA-43F3-94F0-D5EC972F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E8BE-9A99-42A5-BD79-D37A80F3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402E-E65C-4758-8C89-44C68654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F1A2-60A6-4941-8F07-09AA32BA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9F67-9BEC-4E63-8FA3-CBF4CAB3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6D6F-13B3-4B0F-8456-3464FADE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7E72-B1A1-4B83-9759-DBC239F8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10C8-8835-423D-AD35-91EC6628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BBB0-F2E1-4096-890C-8762ED19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FEC4-D744-46B7-AC1F-059CB673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FC5D-0F4F-4919-866F-720AC883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65E4-336C-414D-B831-8086076A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DE9E-B348-458C-9BC2-9B7AA71F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2AA9-8599-4076-97F7-4FD993D5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2702-5383-446C-835D-D27061D6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98E7-498E-4D2E-914F-A30E6E42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27F1-14F9-4088-B5C0-EE16F70863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1D80-E313-416C-B2B7-6B811DCA6C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-line drug preparation for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42BA-0DC2-40F1-B9CF-88A7B28B9D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X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040M1313V: 100% purity (no potency-adjustment necess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vent &amp; diluent: sterile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DST tubes contain 8.4 ml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4 ml × 2 µg/ml = 16.8 µg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1 ml ×168 µg/ml added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95 ml sterile d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× 168 µg/ml = 1000 µg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B847-914D-4C6B-83EE-D0F5D3D0DA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486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 available: cellulose acetate, 0.2 or 0.22 µ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tach syringe filter to a 10 ml syringe; filter-sterilize into sterile cryovials and freeze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w just prior to use and do not re-freeze; discard any leftover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D3D5-4746-40F3-8A8E-683A84C284C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6C10-0CB7-41E3-8F5F-0462DC8154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eral drug preparation conside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may be prepared in stock solutions that are stored frozen and later thawed and diluted for use; solvents are not always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 solutions must be sterile-filtered prior to addition to MGIT tubes, eith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ck solutions or diluted working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s must be compatible with final drug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BE4F-223C-4955-B790-E07A2A15E5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4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5832360" cy="4641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A4F2-28BB-48DC-A0E8-36B7492D4B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324000" y="1622520"/>
            <a:ext cx="5832360" cy="1004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5832360" cy="207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468360" y="3429000"/>
            <a:ext cx="7920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prepared in a non-aqueous solvent but diluted in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may be filtered through a membrane compatible with water but not the initial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filter membranes in the above tables are compatible with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365E-FAC0-4097-92E3-B5EEC17862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tency/pu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571760"/>
            <a:ext cx="795960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re purchased as powders that vary in activity from lot to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ctivity of a specific drug lot is listed as potency or pur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the Certificate of Analysis (C of A) supplied by the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t or near 100% potency may be weighed out without adjustment (it can be assumed that 10 mg powder = 10 mg active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var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cies may not be close to 100% 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ther materials in the powder, such as impurities, preservatives or solubil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cy standards may be decades old and drug manufacturing processes have changed since the standards wer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adjus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potency of a given drug is 74.5% (or 0.74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g/ml), how would you prep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 ml of a 1%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 gra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10 ml = 0.1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tency adjustment: 0.1 grams/0.745 = 0.134 grams pow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igh out 0.134 grams powder and dissolve in 10 ml for a 1% potency-adjuste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50CC-0911-4E4C-B955-EA1E1B97D3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day’s second-line drug prepa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itical concentrations for MGIT96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-line anti-TB drug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ulations are from NHLS Diagnostic Media Products (D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ionamide (ETH): Sigma E6005, critical concentration = 5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loxacin (OFX): Sigma O8757,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2D25-B0FC-4E19-B1B7-1D88628C9B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6821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53:02Z</dcterms:modified>
  <cp:revision>345</cp:revision>
  <dc:subject/>
  <dc:title>PowerPoint Presentation</dc:title>
</cp:coreProperties>
</file>