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FB8D-1734-4D44-AD71-3D742D35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0F69-8E3B-4F2D-A9D4-D69ED80C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2C0-DD98-461B-97F9-86B6A830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6E9E-66A5-4FBB-9AC0-1BFD5B4E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8AB7-B694-4BD9-B6B1-7AF39055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41AA-9693-4C98-87D7-3C26CED4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198C-52A4-4D7B-9DB3-FDE8DB0E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BF1E-4FA7-41E0-9810-2D624009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DC02-6E50-4594-987D-78532262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ECF8-873B-4D9C-A67A-DE72B01A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40EE-3E5B-43A8-9F40-37F42C8B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AD9-714A-4849-B3D7-0D59C4C8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9FCF-D3AF-4534-91B7-533A780B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5393-5474-43A4-86B5-D9C7D574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2450-4854-474F-B0D2-7CB46D3C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3B27-B22A-486B-9269-AFBE7D17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73A7-F9CF-4C9B-AFB9-C114F203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8F1-9D72-4169-8A94-4FC71F3D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6567-5535-4AEB-9BF1-07AE7E3A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4433-B0C5-4A47-991E-A50A3B95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777F-205B-4C8F-89BC-4376FE55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06F3-02A3-4F1B-A2AA-B8A83AB9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B98-83FE-4AB4-9BDB-575ED6A1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E62-ABA8-4CAA-B7E3-FF789628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10D5-27FB-49F7-AA57-F72B9136B0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B71A-1132-42FF-B9A7-CD044B8D75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8122-6DCD-4413-A812-2E9635D39A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BACTEC MGIT 960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quality contro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5B1B-EECB-4DBA-B1A4-E4807FDD0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9ADE-9961-47A4-AF09-D19938380B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y QC reagent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D thoroughly tests all BACTEC MGIT 960 DST products prior to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y test at your fac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may be mishandled during sh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iotic potency may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ability of laboratory to perform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BDAC-8EA8-4C34-9505-3FCA77AC96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™ MGIT™ 960 DST </a:t>
            </a:r>
            <a:br>
              <a:rPr sz="4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qual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hipment or lot number of drug kits before use with patient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SIRE and PZA DST 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alidated, otherwise set up a QC DST set each time DSTs are ino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rgan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CC 27294 (H37R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E dru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concentrations tested should be the same as those used for routin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ncentrations of INH used for patients; QC both concent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2308-259E-4427-8B1D-355D9DA9E7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organis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cultur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CC 27294 (H37RV) or well-characterized pan-susceptible MTB s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IT 960 tub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days after flagged positive by instru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organisms may be tested to supplement BD QC recommend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 to inoculate a known mono-resistant strain of M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3DF2-56F6-4BC2-B151-B9E2CCA9A8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ffffff"/>
                </a:solidFill>
                <a:latin typeface="Arial"/>
              </a:rPr>
              <a:t>Drug and organis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should be taken to ensure proper reconstitution of lyophilized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 drug concen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preparation significantly impacts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 dilution of organism for drug and growth control tube is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sion must be well mixed and homogeneous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QC organism suspension in the same way as patient isolate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e SIRE and PZA DS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hydrate drugs with sterile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liquots of prepared drugs from free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expiration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inoculum and di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5F28-C032-4E41-B889-76B907C9EE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E9A7-161C-4419-9032-DA8B8D9F8B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y of tubes into MGIT 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DST set carrier into the BACTEC MGIT 960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will interpret results between         days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should read susceptible for all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per results are not observed, repeat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C1C6-A3AB-4BC4-961C-EA8A554AE2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 rec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lot numbers of MGIT 960 tubes, drugs and drug supp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QC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 for a minimum of two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8DE0-8AF0-4228-A371-A907D546A7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performed on all new lots or new shipment of SIRE and PZA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 suspension can be prepared from MGIT tube or sol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homogeneous, i.e. without cl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librated pipettes to inoculate drugs to media tubes, not disposable transfer pip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8:44Z</dcterms:modified>
  <cp:revision>26</cp:revision>
  <dc:subject/>
  <dc:title>BACTEC MGIT 960 DST Quality Control</dc:title>
</cp:coreProperties>
</file>