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A745-FE36-450D-9D9E-A5D57DDC727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0039-E3FA-4A6B-AEC3-DC80329EDA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2F76-1103-4B61-95C4-45B8A87207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33B-098D-4778-A870-C49F70E0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929-C892-461E-92B6-78728705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05C-1C9C-4D60-9902-00281DC8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74A-0D91-4F93-8D9E-256D4FD3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E61C-0C3A-472C-960A-2CD6C434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5DF0-CEE2-41FE-A35A-931C2627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86CE-894C-46E4-9936-F7A2AE37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FB61-364E-42AE-A54D-17A9852F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2BDE-A3A8-4D1D-830C-C58732AA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A58F-C49B-4978-A38A-4EDD6AB8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3314-841F-45A7-B435-434CE80C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044-B1BF-4DA2-8F6A-DA995AEE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AB29-68E9-4EE6-8915-7185E9B9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74E5-A7B5-4DB7-B737-478028E8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CCA0-F1F9-4B88-9B06-571FF73F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D800-ECBD-46EF-8507-01011EA5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BDB3-7118-4229-AA7D-ABDA4CD8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8C48-D1BA-4524-AAC2-AFA72AB2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D60-0A82-46EB-8BE8-4682C4A5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6069-1137-453B-AD6E-8BE921DB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575-F2B1-49DB-A871-F50D4817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457-F2EE-4CAC-A26E-72AD5D12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4F2-B76C-4CBB-A4AE-20CE57A6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F322-7406-4038-831E-69E65D8C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8FBF-4B63-4F06-ACD1-2E6FFA8988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41D1-3306-4CDE-98F2-FF0B9DD776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00120"/>
            <a:ext cx="900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for submission, acceptance and processing of isolates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guidance for all count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carriage of Category A infectious substances should be strictly prohibited on air 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packages containing infectious substances should not be consolidated with unrelated types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pers of infectious substances should ensure that packages are prepared so they arrive in good condition and present no hazard during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852F-EF15-416D-9025-0B706CB2F2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teria for rejection of an iso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rocess; contact the submitter to resubmit isolate for the following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abel on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or leaking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overgrown with conta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Opening tube with mould can contaminate BSC and other speci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may be processed if minor questions can be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pellings between tube and request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ubmitter to clarif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C516-18DC-4F86-8158-FECFCFB529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paration of isolate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599840"/>
            <a:ext cx="814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isolate as belonging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the TB isolate is not conta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molecular or liquid medium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DST in liquid broth in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A407-9535-4CD5-A1F9-EFC6EE3738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4200" y="763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solate must be identified as MTBC before performing D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565308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4"/>
          <p:cNvSpPr/>
          <p:nvPr/>
        </p:nvSpPr>
        <p:spPr>
          <a:xfrm>
            <a:off x="5940360" y="387504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5"/>
          <p:cNvSpPr/>
          <p:nvPr/>
        </p:nvSpPr>
        <p:spPr>
          <a:xfrm>
            <a:off x="5940360" y="459432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0"/>
          <p:cNvSpPr/>
          <p:nvPr/>
        </p:nvSpPr>
        <p:spPr>
          <a:xfrm>
            <a:off x="3276720" y="3514680"/>
            <a:ext cx="23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5005440" y="3154320"/>
            <a:ext cx="2303280" cy="43200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1"/>
          <p:cNvSpPr/>
          <p:nvPr/>
        </p:nvSpPr>
        <p:spPr>
          <a:xfrm>
            <a:off x="2629080" y="1785960"/>
            <a:ext cx="3600360" cy="7207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4"/>
          <p:cNvSpPr/>
          <p:nvPr/>
        </p:nvSpPr>
        <p:spPr>
          <a:xfrm>
            <a:off x="327672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1692360" y="3154320"/>
            <a:ext cx="2303280" cy="4320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9"/>
          <p:cNvSpPr/>
          <p:nvPr/>
        </p:nvSpPr>
        <p:spPr>
          <a:xfrm>
            <a:off x="971640" y="459432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8"/>
          <p:cNvSpPr/>
          <p:nvPr/>
        </p:nvSpPr>
        <p:spPr>
          <a:xfrm>
            <a:off x="971640" y="387504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>
            <a:off x="2413080" y="5170320"/>
            <a:ext cx="587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3708360" y="3083040"/>
            <a:ext cx="72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2556000" y="19051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ulture positive for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4500720" y="2506680"/>
            <a:ext cx="0" cy="1008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3924360" y="2793960"/>
            <a:ext cx="115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11280" y="26020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lony and Cellular 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5076720" y="26337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wth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 flipH="1">
            <a:off x="291600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7"/>
          <p:cNvSpPr/>
          <p:nvPr/>
        </p:nvSpPr>
        <p:spPr>
          <a:xfrm flipH="1">
            <a:off x="291600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H="1">
            <a:off x="565272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 flipH="1">
            <a:off x="565272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973080" y="39402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iochemica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971640" y="466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ntige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013440" y="39909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-probe 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300720" y="46674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NA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1692360" y="31543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ventio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5221440" y="31543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a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1143000" y="5572080"/>
            <a:ext cx="6858000" cy="642600"/>
          </a:xfrm>
          <a:prstGeom prst="rect">
            <a:avLst/>
          </a:prstGeom>
          <a:noFill/>
          <a:ln w="19080">
            <a:solidFill>
              <a:srgbClr val="3d3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uberculous mycobacteria can be resistant to anti-TB drugs, and testing can result in inappropriate patient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EB49-5865-4499-A120-BA8C2EFF670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on solid med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6360" y="1447920"/>
            <a:ext cx="823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J medium contains bacteriostatic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chite green inhibits most environmental and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move liquid in bottom of LJ before inoculation. Loosen cap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 of incu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exposure to malachite green, so contaminants may eventually grow in this liqu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ted LJ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tamination is slight, attempt to isolate TB colonies; transfer to new 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tally contaminated, request a new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D661-9F32-4686-B5AD-3B05A3C492B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in MGIT tub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2160" y="1447920"/>
            <a:ext cx="686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ed MGIT tubes usually become positive very e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–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grower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-intracellul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(MAC) may be positive i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eous tu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cid-fast bacteria may be seen in AFB smear of MGIT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r without A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lture to blood agar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in 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rcRect l="0" t="0" r="50031" b="0"/>
          <a:stretch/>
        </p:blipFill>
        <p:spPr>
          <a:xfrm>
            <a:off x="7162920" y="2274840"/>
            <a:ext cx="761760" cy="2568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ST performed using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roblems with egg-based media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y of drugs may be diminished during inspis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the eggs (phospholipids, proteins) affect som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agar with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C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-to-lot variations in quality have been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on solid media requires 3 to 4 weeks of inc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CB21-2665-4249-8B80-D70EB102D8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standard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r proportion method using Middlebrook 7H10 with quality assured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the standard method for TB DST in the USA and many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irst- and second-line drugs can be accurately tested for susceptibility or resistance using th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ecause of the long turn-around time, the method is more appropriate for surveillance than for individual patient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F5A5-BD49-482D-BDB9-D13BF48597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5144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s of molecula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liquid medium D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1356840"/>
            <a:ext cx="84297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erformed withi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TB is included in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MDR TB is quite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results may be obtained even with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not all drugs are current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dium DST using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ready within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validated for all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 including PZA and som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8F95-C5F4-4C14-B0DB-8A756C2A85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cells for molecular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400" y="1428480"/>
            <a:ext cx="84294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suspension of cells in steril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on solid medium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cells from slant with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suspension in 300 µl of steril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in liquid medium (MGIT br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1 ml portion of the suspension to a micro-centrifug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fuge for 15 min and resuspend pellet in 300 µl of sterile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AA68-0201-4E06-8B1C-469B641B88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ubmission process for isolates receiv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criteria for acceptance or rejection of iso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B isolates are prepar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molecular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99840"/>
            <a:ext cx="7429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20 min in a 9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ater bath (kills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15 min in an ultrasonic water bath (optional for iso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 and use approximately 5 µl of the supernatant for P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B7B4-E9C4-4090-9AFC-DFF357D16D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isolates for MGIT DST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can be grown either on solid or liquid media prior to being tested in the MGIT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healthy cells in logarithmic phase of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airly light inoculum so that drug concentrations are not overwhel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should be AFB-positive and identified as a pure culture of the MTB complex before furthe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538C-92E1-4DDE-8A3A-F85D11AC90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oculum from the MGIT tu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ng to the following recommended timeframe is important for accu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ay a MGIT tube is positive by the instrument is consider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ube should be kept incubated for at least one more day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before D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be incubated in a separate incubator at 37 ºC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sitive tube may be used for DST up to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ube that has been positive for more than 5 days should be subcultured into a fresh MGIT tube and incubated until it is positive;  use this tube from 1 to 5 days of instrument positivity as described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n a tube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use the supernatant undiluted for inoculation of the drug s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3, 4 or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then dilute 1.0 ml of the positive broth with 4.0 ml of sterile saline.  This will be a 1:5 dilution.  Use this well-mixed diluted culture for inoc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9415-B98E-47DD-BF49-EED63CDE03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067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oculum from growth on solid me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480"/>
            <a:ext cx="8391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owth on solid medium within 15 days of appearance of posi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 large amount of growth into a tube with broth or saline and glass beads; vortex the tube f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inutes to break the clumps – the turbidity should be &gt; McFarland #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uspension stand undisturbed for 20 minutes, then transfer the supernatant into another sterile tub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is tube stand undisturbed for another 15 minutes then transfer the supernatant into another sterile tube – the turbidity should &gt; McFarland #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turbidity of this suspension down to McFarland #0.5 by adding sterile saline; do not make it below thi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the above suspension 1:5 by adding 1.0 ml of the suspension to 4.0 ml of sterile saline;  mix well and use it as the inoculum for drug susceptibi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EF1D-D4C9-4DA2-B212-3E7CE2ACD7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: Isolates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3840" y="1481040"/>
            <a:ext cx="86439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can either be grown in the DST testing laboratory or referred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of isolates to the DST testing laboratory must be safe, timely, efficient and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should not be tested if they are unlabelled, leaked, or overgrown with m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using molecular or MGIT system methods have much shorter turn-around times than DST using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henotypic DST, growth should be AFB-positive, and identified as a pure culture of the MTB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8FF0-8181-4288-99A7-FB9F337C64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47C4-34C4-4110-9866-C53D075B385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of isol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red to DST testing laboratory from another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DST testing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acceptance or rejection of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ling, lea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ing the isolate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ar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Ex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referred to DST testing laboratory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to process sputum specimens and perform culture in laboratories near to where specimen is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nts may overgrow TB in sputum specimens during transport time and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s more likely to survive transportation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biosafety requirements must be strictly followed to transport iso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identification and DST are best performed at National TB Reference Laboratory or other Quality Assured referral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time and need to re-grow isolate delays DST report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s and relevant and patient information must be accurately transcribed and transported to the NTRL for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73FE-9BA7-4A16-A22B-CECD29692E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In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grown in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patient has already been documented when specimen received for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database or log books provide information on previous tests performed on this sam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mear results on current is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on tests performed on specimens from this 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issues seen with previous specimens or isolates can be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34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growth found only on either liquid or solid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turn-around time for reporting D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s contained within same laboratory; biosafety issues easier to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6A1D-5CEF-441A-B0E2-9687D08549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portation to DST testing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s suspected of being TB must be transported to the DST testing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ly – protect transport agents from risk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 – ensure viable isolates fo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 – delivery to appropriate labora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ly – according to national and international transport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FEC7-64B8-4C26-AF5B-C3AEB27BBB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portation guid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uidance on Regulations for the Transport of Infectious Substances 2009-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ycobacterium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assified as Infectious substance, Categor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causing life-threatening or fat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name is UN2814 – INFECTIOUS SUBSTANCE AFFECTING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B7CF-EAD8-405D-BFA1-5EF323D086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00760" y="635796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/HSE/EPR/2008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triple packaging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920" y="1571760"/>
            <a:ext cx="492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ecep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ly marked and labelled with appropriate shipp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31ED-DDED-4AB4-831C-F0495E7BFC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rcRect l="7491" t="12002" r="3884" b="0"/>
          <a:stretch/>
        </p:blipFill>
        <p:spPr>
          <a:xfrm>
            <a:off x="3714840" y="1714680"/>
            <a:ext cx="5286240" cy="3276360"/>
          </a:xfrm>
          <a:prstGeom prst="rect">
            <a:avLst/>
          </a:prstGeom>
          <a:ln w="9360">
            <a:solidFill>
              <a:srgbClr val="3d3d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 all countries have adopted the United Nations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499760"/>
            <a:ext cx="792504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uidelines apply whenever the UN system for the transport of infectious substances has been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ncourages all countries to adopt th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principles described are not intended to supersede national or loc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AB1F-E5F3-48F2-8E8C-2B1ED1F328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7:48Z</dcterms:modified>
  <cp:revision>175</cp:revision>
  <dc:subject/>
  <dc:title>PowerPoint Presentation</dc:title>
</cp:coreProperties>
</file>