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E2B7-F661-4B16-B3DF-323D54E0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C436-9FEF-477A-BA7D-FAFF2DA3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116-6561-4750-BE09-E022DB49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938-F390-45A0-9A4E-03E279B1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CF78-712F-4E5F-B4B7-E5BD4550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9DE1-FD69-4F09-81BD-43ECFFED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5E63-6662-4638-9472-9452EDC2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040C-DF13-4A7B-8154-A504A873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23D4-57E5-4078-A335-2FDAF3A3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B72C-4151-40BB-978E-32AEE15D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8796-4AB4-499B-AC9C-1B44DFAF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ABB2-2319-46BD-8A70-12AB5825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B9CA-4735-4055-B390-514BE969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0604-1668-43F9-914D-B01564B0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933E-7413-4FEE-A35C-9F96CE50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CACF-0C13-41F5-9C38-D8CD9D9A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947B-9E31-4FDB-AD45-C1CFE499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AC4-3FAF-4FCB-BC6B-2B3A03A0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3F5-3EE6-4270-ACD8-2E323F35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75EB-BD19-4C6C-A5E0-BD26DE7F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28A-6EC5-4DD7-95A0-94B723ED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890-1D14-4DD1-9B87-268C9EFD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C22-EEDB-4837-8D7E-798439AC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884-B700-4230-BE85-F2BCB738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D473-2AD5-4766-89BC-7CDAF8B240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5D79-CEFA-421E-9195-4DD746285B3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for Action on TB and Povert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9319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mote access to DOTS and TB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gramm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is the Network Action on TB and Poverty 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 platform for TB control and Poverty experts to create a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synergy for coordinated action in support of poor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ction and output orient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ase detec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ure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vidence and performance bas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inking TB control with global and local poverty alleviation initiativ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Managed by t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National Tuberculosis Programme of Malawi, in conjunction with the local NGO Reach Tru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ctive participation from the DOTS Expansion Working Group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Why do we need 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istribution of TB is higher among the poor than the non poo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 easy access for the poor to health services due to: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athways to diagnosis of TB patients extended due to repeated visits to different care providers, regardless of socio-economic statu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spend proportionally more on accessing TB diagno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are sometimes actively excluded from TB servic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TS can help to fight poverty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o-poor access to DOTS helps reaching the TB targets of case finding and c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twork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e key stakeholders to promote action on TB and Poverty prioritising the AFRO reg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case studies will be presented at the IUATLD Par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ster research to inform TB control operations and poli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te pro-poor approaches using DOTS and link up with other initiatives and funding (e.g. Fidelis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etwork Product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ovative pro-poor approaches in DOTS applied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Guide on TB and Poverty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framework for mainstreaming of poverty in TB control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&amp;E on poverty mainstreaming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al research on demand from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and exchanges with other health equity initiativ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ds to the demand from countries on how to mainstream TB poverty in DOTS and TB control programm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tive paper on TB and Poverty as policy guiding tool and practical roadma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strategic and practical guidance to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O Guide on TB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nd Pov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unching the WHO guide on TB and Poverty for NTP manag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anding TB Poverty related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ilitate representation for the network to the other working group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mote special features on TB and Poverty at national/regional meeting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Nils Billo</cp:lastModifiedBy>
  <cp:lastPrinted>2004-03-17T17:37:17Z</cp:lastPrinted>
  <dcterms:modified xsi:type="dcterms:W3CDTF">2004-10-14T00:25:33Z</dcterms:modified>
  <cp:revision>176</cp:revision>
  <dc:subject/>
  <dc:title>Secretariat, 2003 Progress Report</dc:title>
</cp:coreProperties>
</file>