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F3A1-5702-472B-B42C-1506D88CC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A0B0-D9E4-4543-8364-58220FF5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3D5D-78A6-4B45-A1C7-935FF41D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4FE1-D3A7-430B-8E4F-0FF8B8609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4180-90DC-49EB-9034-CCBF2D3F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7953-CC7B-42B7-A137-68CD45E4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2586-FB08-481C-9D09-9358C53D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F841-3D00-4666-9144-E35AFD2B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ED17-3913-4C01-9AF7-168D1D08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0D12-76B4-4FEB-856C-B2B77C08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2925-24E4-4406-B571-E4994DD3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229C-B417-44BA-9D39-CE3F94B6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21DA-03EF-4E8E-9AEF-F5B09A523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herd@who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, 15-15 October 2004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Millennium Development Goals Projec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quest to Coordinating Board to endor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1268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ecommendations of the working group on TB (Working Group report, p9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inclusion of "TB" in MDG 6, thus "combat HIV/AIDS, TB, malaria and other diseases" (overall MDGs report, p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raft General Assembly resolution point 37 "to request a revision of the targets and indicators for monitoring the MDGs to make them consistent with the technical recommendations of the UN Millennium Project Task Forces and other experts, by mid-2006" (overall MDGs report, p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velopment of advocacy strategy by WG on A &amp; C (in collaboration with MDGs Campaign) to push main TB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) launch of MDGs report in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) UN special summit on MDGs in 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ordination with second Global Plan to Stop TB (2006-2015) (WHA Ma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overall report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"Global Plan to achieve the MDG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255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omments@unmillenniumproject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illennium Development Go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125360"/>
            <a:ext cx="858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dopted at the UN Millennium Summit, September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radicate extreme poverty and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chieve universal prim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duce child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mprove matern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bat HIV/AIDS, malaria and other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environment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global partnership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summit Sept 2005 will review progress towards MDG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DGs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1125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ey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unched by UN Sec-Gen to recommend the best strategies for achieving the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ject runs from 2002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rected by J Sachs (Special Adviser to the UN Sec-Gen on the 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verall report "Global Plan to achieve the MDGs" for launch in Jan 2005 (unmillenniumproject.org) and endorsement at special UN summit in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 task forces, including 2 on heal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) Task force 4: child and maternal health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i) Task force 5: HIV, malaria, TB, other major diseases and access to essential medi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embers of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62064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 w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king group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Evans (Global Programme on Evidence for Policy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Floyd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Harries 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Maher 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Perelman (TB Institute, Mosc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Schwalbe (Open Society Institute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Weil (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cretariat: J Paluzzi (Partners in Health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r: K C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28640"/>
            <a:ext cx="8588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 of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s strategies to reach 2015 global TB contro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lects overall MDGs theme of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recommendations of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s ongoing work to develop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lobal Plan to Stop TB (2006-20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28640"/>
            <a:ext cx="8588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inalisation of report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February 2004 – interim report posted 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 October 2004 – deadline for comments from re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 November 2004 – submission of fin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nuary 2005 – launch of task force reports with overall MDGs project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report of the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17002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troduction to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lobal TB epidemic and status of TB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overty, gender, children and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ving forward to achieve the 2015 TB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eeting the TB target in MDG projec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nexes: including country case studies (Cambodia, Dominican Republic, Ethiopia, Ken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224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commendations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romote access for all to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dress the TB/HIV emergenc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ngage all primary care providers in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artner with communities to stop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ccelerate the development of critically needed new tools and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upport the Global Plan to Stop TB 2006-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the T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920" y="255420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mments 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o Dermot Maher (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herd@who.c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to compile and send to Task Force secretariat by Friday 22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6:17:39Z</dcterms:modified>
  <cp:revision>92</cp:revision>
  <dc:subject/>
  <dc:title>Africa: HIV is driving the TB epidemic TB notification rates, 1980-1998</dc:title>
</cp:coreProperties>
</file>