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7C93-1D29-46A9-B53C-47006077C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EB8F-49C1-4D25-9DF8-326D37B4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9943-44F6-47E7-9872-8A5A3937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3EFC-43C9-4FD6-9A5F-4EE46B739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87E9-1B5A-40C5-A9F5-D1C5F474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723D-0B8C-48EE-80BC-F380F6C7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62BB-E57B-4733-96C9-365D7BD2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18EB-34FB-46D6-84CB-30B3B860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C541-035F-4D89-A55E-2727A9CF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73BD-6A62-4EF5-8A5E-5EF8CBC4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E28B-DDF8-49E5-B507-2A552271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29FA-2830-416B-802C-C45BAC44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DC76-B15B-4057-B000-96E7851F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00AA-B473-4D2F-A0C2-780B5CA8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9F16-0228-4F89-876D-C4FF5636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9152-0F92-47C0-B252-F688EFF57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F519-EFBE-454B-93A1-05F3F5167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6018-A43C-41A1-B223-A5EDAFC1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A0C5-798A-442B-90DE-5EB7F1AF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1CE5-312C-4E6F-8CE8-1775BF0F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CA87-BD26-47A0-AFFF-3796EAC2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1724-1820-4B79-8487-DDC366B4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E8D4-D9DC-4104-9582-B5603B95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9549-189A-416C-B5E0-584B5D87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58BF-DA24-4783-9E07-3C44B61A4A77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EA56-1A37-40B9-954E-8FA2DD15283B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5:09Z</dcterms:modified>
  <cp:revision>21</cp:revision>
  <dc:subject/>
  <dc:title>Financial situation,  Budget &amp; plans 2005</dc:title>
</cp:coreProperties>
</file>