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9B9-ABD3-447B-A5E6-E3CFB743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602-2AB5-4ED2-BA4B-E3CCBB74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9578-8512-4708-927F-A675BB37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7D8A-27AE-446C-A370-1F6D153E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E632-9D97-4A7F-8734-2E061227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DBEB-CFE1-4459-BE47-39FE0690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495E-2F4A-49E5-BD82-5F152BA6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7C2B-5E5B-4CB3-8A86-BB73A02F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9637-16A1-4B37-8F76-CA092083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0084-B9B6-4427-B543-130943F1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54D3-2A8E-40D8-8FCA-BA9811EA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7FC-F8C3-42CD-B3F9-34A6A1B4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87DB-8165-4059-996A-9189D541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636F-337C-4DD7-9DE9-CB3BAD27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C1F5-9636-4237-B1D1-F41D28C2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56E2-7F91-40CD-8EA2-E1EC4502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030C-5C3C-49B4-9FB6-D3FCAC47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C141-969F-467D-9403-85A835E3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5FE-9CA3-4866-999A-B8352CB8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7AF-522B-40F2-A087-C65CD286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6EE-9E4D-4C75-B408-B65AAF9A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C35-8CDB-4A59-87F1-4730120A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923-245D-4C0C-87A5-D3624B86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179-3E19-44D9-9C2B-E0BFC762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10BB-8D04-43DA-A07C-BFBA8CC6E9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AA41-8B97-4F23-8EA5-676D905E78A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lights 2004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Establishment Secretariat of the Network for Action on TB and Poverty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A platform for TB control and opportunity for Poverty experts to create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ynergy for coordinated action in support of countries and the poor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WHO Guide for NTP managers on TB and Pover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In response to the demand from countries, endorsed by the STAG and DEWG, WHO spearheads this normative publication on how to mainstream pro-poor approaches in DOTS and TB control programme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National Partnership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Priorities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National Partnerships to Stop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Uganda, Brazil, Russian Federation, (France, Croatia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Launching the WHO guide on TB and Poverty for NTP manager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Expanding TB Poverty related activiti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(Sub-)Regional Partnerships</a:t>
            </a: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EURO 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European Partnership to Stop TB (Stop TB Europe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CAR Sub-Regional Partnership under development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SEARO / AFRO : under development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4T14:22:13Z</dcterms:modified>
  <cp:revision>141</cp:revision>
  <dc:subject/>
  <dc:title>Secretariat, 2003 Progress Report</dc:title>
</cp:coreProperties>
</file>