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20D0-BD89-4ED8-92DE-4CDF876E6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5FF9-BB31-4EC1-BA28-A3A29BD0C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6FF8-7789-41CA-8FCA-D5A8A6D99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06E1-7431-4101-85D9-842BD63CF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B012E-F654-4909-9BE9-7A1F02759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5290B-7149-479B-A283-F657748D5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57567-7C28-4CD9-B841-F6DE85856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71F85-39DF-4BA2-A34E-18C843A78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D400F-7897-4F22-8C2F-FBAF10696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6A7DC-D3DC-4574-8EB1-1B7C6A8FB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105CC-33B2-4183-9AD1-0E54EF8D5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84C5-30D4-4A82-9C12-6565B5A27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2C02F-1449-4708-9903-2F30A79F3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4DF79-D068-4B45-8204-8F4E03955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17A3B-0EE5-47E1-9DD1-A8DE4A836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24DA8-8011-4C4E-A5FE-1C700F9B3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9746D-F586-4028-A525-26D54B5B2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4CD0-5555-4628-8B44-C8E22BE4A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B60A-1504-4479-8BB5-24FE35BDB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EFD9-68FC-4C4C-B215-5F36ED611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87EA-A480-4FD3-A834-FE82F497E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46A8-0A8B-4B71-BE2F-A86133C3A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7B70-C038-4B3B-BF1A-F24C3F6BA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022E-67D6-4251-BAE3-8ADBA526D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064DB-5303-499F-BF76-1945DFE8007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FF19A-D1DB-44C3-96FD-7536A040209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324000" y="2276640"/>
            <a:ext cx="849600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Tahoma"/>
                <a:ea typeface="宋体"/>
              </a:rPr>
              <a:t>Highlights 2004 &amp; Priorities 2005: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宋体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宋体"/>
              </a:rPr>
              <a:t>National partnerships, TB &amp; Poverty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  <a:ea typeface="宋体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  <a:ea typeface="宋体"/>
              </a:rPr>
              <a:t>Second Global Plan to Stop TB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  <a:ea typeface="宋体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  <a:ea typeface="宋体"/>
              </a:rPr>
              <a:t>Global TB Drug Facility (GDF)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  <a:ea typeface="宋体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  <a:ea typeface="宋体"/>
              </a:rPr>
              <a:t>Advocacy &amp; Communication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  <a:ea typeface="宋体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  <a:ea typeface="宋体"/>
              </a:rPr>
              <a:t>Finances &amp; Resource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8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Advocacy and Communication Priorities end-2004 and 2005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50752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Activate Advocacy and Communication Working Group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Intensify advocacy efforts in Canada, Japan, USA, UK, European Unio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Increase funding for TB and TB/HIV in Round 5 of GFATM and incorporate AC activities into key HBC proposal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Catalyze AC activities with HIV/AIDS groups to accelerate uptake of TB/HIV collaborative activities at country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Conduct 4 regional AC needs assessments/trainings (AMRO, AFRO, EURO, WPRO) and 4 at country level (Brazil, Indonesia, Pakistan, Uganda)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533520" y="4038480"/>
            <a:ext cx="48765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80880" y="1371240"/>
            <a:ext cx="8367840" cy="50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0" name=""/>
          <p:cNvSpPr/>
          <p:nvPr/>
        </p:nvSpPr>
        <p:spPr>
          <a:xfrm>
            <a:off x="3419640" y="1989000"/>
            <a:ext cx="129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50920" y="1413000"/>
            <a:ext cx="8424720" cy="46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CB approved Financial Policy being applied which led to better control through  improved financial managemen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Financial transactions of GDF streamlin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All Working Groups given resources to catalyse their 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Bulk of the contributions from Bilateral Government sources-85.5% of the total income of US$13.8mill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53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Financial Performance &amp; Resource Administration 2004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533520" y="4038480"/>
            <a:ext cx="48765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80880" y="1371240"/>
            <a:ext cx="8367840" cy="50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3419640" y="1989000"/>
            <a:ext cx="129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50920" y="1413000"/>
            <a:ext cx="8424720" cy="46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Bulk of the contributions from Bilateral Government sources-85.5% of the total income of US$13.8mill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Of the total expenditure of US$10.8 million, TB Control Drugs cost 78%, while other partnership activities cost 22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Projected income for the whole year US$23.1 million, projected expenditure US$ 23.6 million (as per the Operational Work pla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53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Financial Performance and Resource Administration 2004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3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Financial Performance and Resource Administration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Highlights 2005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2627280" y="1341360"/>
            <a:ext cx="42483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79280" y="1484280"/>
            <a:ext cx="8640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Projected shortfall for 2005 is US$25 million based on Targeted Workpl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Concerted effort to be made for mobilising more resources b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Arial"/>
              </a:rPr>
              <a:t>targeting more donors in the current donor segment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Arial"/>
              </a:rPr>
              <a:t>exploring new donor segment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Arial"/>
              </a:rPr>
              <a:t>developing new resource mobilisation produ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Continued catalytic support to all Working Grou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Closer ties with GFAT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Partnership &amp; Poverty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1557360"/>
            <a:ext cx="8964720" cy="475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-352440"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Establishment Secretariat of the Network for Action on TB and Poverty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901800" indent="-370080">
              <a:spcBef>
                <a:spcPts val="499"/>
              </a:spcBef>
              <a:buClr>
                <a:srgbClr val="ff99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A platform for TB control and opportunity for Poverty experts to create a synergy for coordinated action in support of countries and the poor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52440" indent="-352440"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WHO Guide for NTP managers on TB and Poverty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901800" indent="-370080">
              <a:spcBef>
                <a:spcPts val="451"/>
              </a:spcBef>
              <a:buClr>
                <a:srgbClr val="ff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In response to the demand from countries, endorsed by the STAG and DEWG, WHO spearheads this normative publication on how to mainstream pro-poor approaches in DOTS and TB control programmes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52440" indent="-352440"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National Partnerships: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901800" indent="-370080">
              <a:spcBef>
                <a:spcPts val="499"/>
              </a:spcBef>
              <a:buClr>
                <a:srgbClr val="ff9900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Stop TB Pakistan (April '04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901800" indent="-370080">
              <a:spcBef>
                <a:spcPts val="499"/>
              </a:spcBef>
              <a:buClr>
                <a:srgbClr val="ff9900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Stop TB Mexico (Sept '04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Partnership &amp; Poverty 2005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785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-444600"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National Partnerships to Stop TB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901800" indent="-277920"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Uganda, Brazil, Russian Federation, (France, Croatia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444600" indent="-444600"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Launching the WHO guide on TB and Poverty for NTP manage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-444600"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Expanding TB Poverty related activities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-444600"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(Sub-)Regional Partnerships: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901800" indent="-277920"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EURO :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2" marL="1957320" indent="-609480">
              <a:buClr>
                <a:srgbClr val="ff99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European Partnership to Stop TB (Stop TB Europe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2" marL="1957320" indent="-609480">
              <a:buClr>
                <a:srgbClr val="ff99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CAR Sub-Regional Partnership under development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901800" indent="-277920"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SEARO / AFRO : under development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44000" y="138240"/>
            <a:ext cx="4427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Second Global Plan to Stop TB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04920" y="1413000"/>
            <a:ext cx="8659800" cy="48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Progress in first half of 200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Survey of partners' views on the first Global Pl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Development of outline of Global Plan endorsed by Coordinating Bo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Establishment of steering committee endorsed by Coordinating Bo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Initiation of work to develop scenarios for reaching MDG for T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Initiation of work on developing contribution of each Working Group to the Pl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2560" y="138240"/>
            <a:ext cx="4716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Second Global Plan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to Stop TB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04920" y="141300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Key activities in second half of 2004 and in 2005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Scenarios completed for reaching MDG for TB (epidemiological forecasting and costing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Contributions of each Working Group to the Plan comple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Plan completed, reviewed widely and endorsed by Coordinating Bo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Plan finalised and published in time for UN summit on MDGs, September 200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GDF Achievement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8748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Drugs delivered to </a:t>
            </a: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51</a:t>
            </a: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 countries </a:t>
            </a: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3.24</a:t>
            </a: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 million patients.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100</a:t>
            </a: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 country evaluations organized by GDF/STB Partners.</a:t>
            </a: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DOTS Coverage - average increase of </a:t>
            </a: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20%</a:t>
            </a: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 per GDF country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Additionality -  </a:t>
            </a: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88%</a:t>
            </a: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 GDF recipients increased expenditure on TB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Cost - Average drug cost per patient: </a:t>
            </a: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~$11</a:t>
            </a: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Procurement -  lead time met for </a:t>
            </a: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77%</a:t>
            </a: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 of countries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Quality - </a:t>
            </a: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All </a:t>
            </a: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GDF batches passed independent QC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7958160" y="5157720"/>
          <a:ext cx="1185840" cy="17002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958160" y="5157720"/>
                    <a:ext cx="1185840" cy="17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GDF Future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</a:rPr>
              <a:t>Maintain the Gains: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coverage, programme suppor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price, quality and service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</a:rPr>
              <a:t>Fill new gaps: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ransitional grants, non-traditional users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</a:rPr>
              <a:t>Provide new services: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paediatrics, diagnostics, expanded monitoring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</a:rPr>
              <a:t>Improve Drug Management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2005 Training in AFRO, SEARO, EMRO, EURO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7812000" y="5084640"/>
          <a:ext cx="1332000" cy="17733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812000" y="5084640"/>
                    <a:ext cx="1332000" cy="177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640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Advocacy and Communication Achievement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50920" y="1557360"/>
            <a:ext cx="44719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Tahoma"/>
              </a:rPr>
              <a:t>USA Media Tour, 20-29 Sep 04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Purpose: 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Engage Congress for more TB funding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Increase media attention to TB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Plan full partners meeting for November 2004 for advocacy and legislative actio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Developed in collaboration with CB members, RESULTS, ATS, Global Health Council, OSI, Global Alliance for TB Drug Development and other Stop TB partner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42920" y="2205000"/>
            <a:ext cx="40388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Outcome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4 Cities in 7 days—DC,  NYC, Indianapolis and LA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5 meetings with Congressional staffers, Rep. Sherrod Brown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10 Editorial board meetings or interviews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5 Media stories and counting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4 Speaking engagements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Full US Partners meeting set for 14-15 November 2004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Last minute legislative push  planned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8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Advocacy and Communication Achievement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50752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March-October 2004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Tahoma"/>
              </a:rPr>
              <a:t>Media promotion: </a:t>
            </a: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Major TV and newspaper coverage of MDR-TB report -- Rahman appointment -- Partners Forum/WTBD -- Int'l AIDS Conference -- Lancet report on China --  TB/HIV meeting in Addis Ababa -- USA tour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720000"/>
                </a:solidFill>
                <a:latin typeface="Tahoma"/>
              </a:rPr>
              <a:t>Global coverage of the Stop TB Partnership, and regional coverage of DOTS expansion in Africa and Asia, are now at their highest levels ever in major media.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Tahoma"/>
              </a:rPr>
              <a:t>Advocacy materials: </a:t>
            </a: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Joint UNAIDS/Stop TB info pack on TB/HIV -- Progress Report on GPSTB -- 25 minute documentary film on BBC World TV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Tahoma"/>
              </a:rPr>
              <a:t>Partnership building: </a:t>
            </a: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Well-established alliances with UNAIDS and HIV/AIDS community -- formation of Advocacy and Communication Working Group.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15:56:53Z</dcterms:created>
  <dc:creator>Robert Hernandez</dc:creator>
  <dc:description/>
  <dc:language>en-US</dc:language>
  <cp:lastModifiedBy>heitkampp</cp:lastModifiedBy>
  <dcterms:modified xsi:type="dcterms:W3CDTF">2004-10-05T09:56:54Z</dcterms:modified>
  <cp:revision>11</cp:revision>
  <dc:subject/>
  <dc:title>Financial situation,  Budget &amp; plans 2005</dc:title>
</cp:coreProperties>
</file>