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F0DD-3AE4-46B7-9E56-90BA09EB6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C19D-1DAF-4D14-B0C1-E6F04A9B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3D20-5BD5-4F37-B08E-3ABADC27C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3515-5B84-4643-9AEE-9DFB141F1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DDB3-37BE-4D6D-A655-CDEAC6C8F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AA27-F48A-420F-8A20-45088BC1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41AD-3899-4554-A277-95E737CF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7D68-4372-4E81-8355-F0BE1560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5E7C-262D-40A2-AD8F-17A58D9F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1E70-AB6B-4E19-AAB6-4A4642FE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15A3-03A6-4636-8813-7E992AC3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71E7-DB72-47D8-8FCB-867F429B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A293-FEC6-4A49-8231-9D536FAC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97B6-5AAE-4EAB-9327-1230AC07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7649-E85A-43B6-98E7-C5A866DF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BE71-52A0-4F0C-8172-A3214EAF6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3D87-96BC-4BEF-9463-5EE4F8E75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51AC-2F56-4254-BBC5-BA8BD75D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EB10-F272-4B5F-A254-33E8B15D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C03B-FF75-4199-A777-16B141F1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9EF8-45DD-452D-86BC-153B2102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2521-145B-497C-97E4-DBA91614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DF1A-FDAD-4934-80E5-08566076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358F-CAF3-4295-A450-2EE4046B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2512-FA4C-45E9-A305-8CC08182CB9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7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8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DE58-D576-4E9F-8CB5-E3C0BF57149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12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1520" y="837720"/>
            <a:ext cx="9144000" cy="18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Putting Tuberculosis Control in the Mainstream of Development:</a:t>
            </a:r>
            <a:br>
              <a:rPr sz="3600"/>
            </a:br>
            <a:br>
              <a:rPr sz="36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How responsive are Poverty Reduction Strategies?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iscussion Notes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by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218960" y="3657600"/>
            <a:ext cx="655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akanksha Pande, Olusoji Adeyi and Diana Weil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ptember 15, 2004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Questions [1]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rogrammatic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buClr>
                <a:srgbClr val="0000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should be done to ensure that TB is adequately represented in PRSPs?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-533520">
              <a:buClr>
                <a:srgbClr val="0000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o what extent can PRSPs support adequate program development?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-533520">
              <a:buClr>
                <a:srgbClr val="0000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o increased commitments to TB in PRSPs necessarily result in increased investment in TB control at the country and global levels?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Questions [2]</a:t>
            </a:r>
            <a:br>
              <a:rPr sz="2800"/>
            </a:br>
            <a:br>
              <a:rPr sz="2800"/>
            </a:b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Macro-Operational Aspect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09480" y="1981080"/>
            <a:ext cx="830592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How can the inclusion of TB in macro instruments like PRSPs be ensured, when appropriate?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ile there may not be a single blueprint for a good PRSP as it is an inherently country owned document, should guidelines be developed for including TB control in PRSPs?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36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Questions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79520" y="5641560"/>
            <a:ext cx="8229600" cy="18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6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w is tuberculosis being addressed in the Poverty Reduction Strategies (PRSPs) of countries with high TB burden?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f tuberculosis is being inadequately addressed,  how might it be mainstreamed into the PRSPs and other development instruments?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SPs: 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untry authored, result- oriented, comprehensive road maps, based on domestic and external partnership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ramework for domestic policies and programs to reduce poverty and basis for all IMF and WB concessional lending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ioritization is necessary to balance the constraints of national capacity and demands of stakehold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 tuberculosis being appropriately prioritized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uld PRSPs be used to mainstream tuberculosis control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s:</a:t>
            </a:r>
            <a:br>
              <a:rPr sz="36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Measuring commitment to tuberculosis in PRSP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2209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Samp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Sca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Criteria (7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Presentat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514600" y="1447920"/>
            <a:ext cx="6400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High burden and high rate burden endemic countries which had prepared PRSPs/ iPRSPs as of June 30, 2004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= 16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(11 high burden+ 5 high rate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anged from  0 (lowest= not addressed) to 3 (highest= country specific, quantitative, realistic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ommunicable disease-health relationship; TB-health relationship; TB-poverty relationship; TB control strategies;TB related progress and outcome indicators; short term actions; health systems strengthen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ategorical distribution of PRSPs according to the stated criteri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sults [1]</a:t>
            </a:r>
            <a:br>
              <a:rPr sz="36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n overall poor attention to TB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5744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57480" y="14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914400" y="1447920"/>
          <a:ext cx="8001000" cy="487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800100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914400" y="6321600"/>
            <a:ext cx="800100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But, what level of detail is relevant for PRSPs?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648320" y="5257800"/>
            <a:ext cx="565200" cy="45720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sults [2]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504200" y="5257800"/>
            <a:ext cx="565200" cy="45720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13120" y="990720"/>
            <a:ext cx="1400400" cy="91440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221600" y="1066680"/>
            <a:ext cx="847800" cy="90972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79280" y="1062000"/>
            <a:ext cx="8786880" cy="4734000"/>
            <a:chOff x="179280" y="1062000"/>
            <a:chExt cx="8786880" cy="4734000"/>
          </a:xfrm>
        </p:grpSpPr>
        <p:grpSp>
          <p:nvGrpSpPr>
            <p:cNvPr id="232" name=""/>
            <p:cNvGrpSpPr/>
            <p:nvPr/>
          </p:nvGrpSpPr>
          <p:grpSpPr>
            <a:xfrm>
              <a:off x="183960" y="1066680"/>
              <a:ext cx="8777160" cy="4724280"/>
              <a:chOff x="183960" y="1066680"/>
              <a:chExt cx="8777160" cy="472428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183960" y="1066680"/>
                <a:ext cx="954000" cy="914400"/>
                <a:chOff x="183960" y="1066680"/>
                <a:chExt cx="954000" cy="9144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183960" y="1066680"/>
                  <a:ext cx="95400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%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83960" y="1066680"/>
                  <a:ext cx="95400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1137960" y="1066680"/>
                <a:ext cx="1427400" cy="914400"/>
                <a:chOff x="1137960" y="1066680"/>
                <a:chExt cx="1427400" cy="9144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137960" y="1066680"/>
                  <a:ext cx="142740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Communicable Disease -Health Relationship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137960" y="1066680"/>
                  <a:ext cx="142740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2565360" y="1066680"/>
                <a:ext cx="1247760" cy="914400"/>
                <a:chOff x="2565360" y="1066680"/>
                <a:chExt cx="1247760" cy="91440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2565360" y="1066680"/>
                  <a:ext cx="124776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B-Health Relationship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565360" y="1066680"/>
                  <a:ext cx="124776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813120" y="1066680"/>
                <a:ext cx="1400040" cy="914400"/>
                <a:chOff x="3813120" y="1066680"/>
                <a:chExt cx="1400040" cy="91440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813120" y="1066680"/>
                  <a:ext cx="140004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B-Poverty Analysis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813120" y="1066680"/>
                  <a:ext cx="140004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5213160" y="1066680"/>
                <a:ext cx="954000" cy="914400"/>
                <a:chOff x="5213160" y="1066680"/>
                <a:chExt cx="954000" cy="91440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5213160" y="1066680"/>
                  <a:ext cx="95400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B Control Strategies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213160" y="1066680"/>
                  <a:ext cx="95400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6167160" y="1066680"/>
                <a:ext cx="951120" cy="914400"/>
                <a:chOff x="6167160" y="1066680"/>
                <a:chExt cx="951120" cy="91440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6167160" y="1066680"/>
                  <a:ext cx="95112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Medium Term Goals 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167160" y="1066680"/>
                  <a:ext cx="95112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7118280" y="1066680"/>
                <a:ext cx="950760" cy="914400"/>
                <a:chOff x="7118280" y="1066680"/>
                <a:chExt cx="950760" cy="91440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7118280" y="1066680"/>
                  <a:ext cx="95076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Short Term Actions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118280" y="1066680"/>
                  <a:ext cx="95076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8069040" y="1066680"/>
                <a:ext cx="892080" cy="914400"/>
                <a:chOff x="8069040" y="1066680"/>
                <a:chExt cx="892080" cy="9144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8069040" y="1066680"/>
                  <a:ext cx="89208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Health System Scale Up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8069040" y="1066680"/>
                  <a:ext cx="89208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83960" y="1981080"/>
                <a:ext cx="954000" cy="609480"/>
                <a:chOff x="183960" y="1981080"/>
                <a:chExt cx="954000" cy="609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83960" y="19810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Nil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83960" y="19810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1137960" y="1981080"/>
                <a:ext cx="1427400" cy="609480"/>
                <a:chOff x="1137960" y="1981080"/>
                <a:chExt cx="1427400" cy="60948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1137960" y="1981080"/>
                  <a:ext cx="14274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137960" y="1981080"/>
                  <a:ext cx="14274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2565360" y="1981080"/>
                <a:ext cx="1247760" cy="609480"/>
                <a:chOff x="2565360" y="1981080"/>
                <a:chExt cx="1247760" cy="60948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2565360" y="1981080"/>
                  <a:ext cx="1247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565360" y="1981080"/>
                  <a:ext cx="1247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3813120" y="1981080"/>
                <a:ext cx="1400040" cy="609480"/>
                <a:chOff x="3813120" y="1981080"/>
                <a:chExt cx="1400040" cy="6094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813120" y="1981080"/>
                  <a:ext cx="140004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7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813120" y="1981080"/>
                  <a:ext cx="140004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5213160" y="1981080"/>
                <a:ext cx="954000" cy="609480"/>
                <a:chOff x="5213160" y="1981080"/>
                <a:chExt cx="954000" cy="60948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5213160" y="19810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213160" y="19810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167160" y="1981080"/>
                <a:ext cx="951120" cy="609480"/>
                <a:chOff x="6167160" y="1981080"/>
                <a:chExt cx="951120" cy="6094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167160" y="1981080"/>
                  <a:ext cx="95112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167160" y="1981080"/>
                  <a:ext cx="95112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7118280" y="1981080"/>
                <a:ext cx="950760" cy="609480"/>
                <a:chOff x="7118280" y="1981080"/>
                <a:chExt cx="950760" cy="60948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7118280" y="1981080"/>
                  <a:ext cx="950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7118280" y="1981080"/>
                  <a:ext cx="950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8069040" y="1981080"/>
                <a:ext cx="892080" cy="609480"/>
                <a:chOff x="8069040" y="1981080"/>
                <a:chExt cx="892080" cy="60948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8069040" y="1981080"/>
                  <a:ext cx="89208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1981080"/>
                  <a:ext cx="89208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183960" y="2590560"/>
                <a:ext cx="954000" cy="609840"/>
                <a:chOff x="183960" y="2590560"/>
                <a:chExt cx="954000" cy="6098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183960" y="25905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Weak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83960" y="25905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137960" y="2590560"/>
                <a:ext cx="1427400" cy="609840"/>
                <a:chOff x="1137960" y="2590560"/>
                <a:chExt cx="1427400" cy="60984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137960" y="2590560"/>
                  <a:ext cx="14274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137960" y="2590560"/>
                  <a:ext cx="14274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565360" y="2590560"/>
                <a:ext cx="1247760" cy="609840"/>
                <a:chOff x="2565360" y="2590560"/>
                <a:chExt cx="1247760" cy="60984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565360" y="2590560"/>
                  <a:ext cx="1247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565360" y="2590560"/>
                  <a:ext cx="1247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3813120" y="2590560"/>
                <a:ext cx="1400040" cy="609840"/>
                <a:chOff x="3813120" y="2590560"/>
                <a:chExt cx="1400040" cy="60984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813120" y="2590560"/>
                  <a:ext cx="140004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813120" y="2590560"/>
                  <a:ext cx="140004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5213160" y="2590560"/>
                <a:ext cx="954000" cy="609840"/>
                <a:chOff x="5213160" y="2590560"/>
                <a:chExt cx="954000" cy="6098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5213160" y="25905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213160" y="25905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6167160" y="2590560"/>
                <a:ext cx="951120" cy="609840"/>
                <a:chOff x="6167160" y="2590560"/>
                <a:chExt cx="951120" cy="6098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6167160" y="2590560"/>
                  <a:ext cx="95112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167160" y="2590560"/>
                  <a:ext cx="95112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7118280" y="2590560"/>
                <a:ext cx="950760" cy="609840"/>
                <a:chOff x="7118280" y="2590560"/>
                <a:chExt cx="950760" cy="6098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7118280" y="2590560"/>
                  <a:ext cx="950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7118280" y="2590560"/>
                  <a:ext cx="950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8069040" y="2590560"/>
                <a:ext cx="892080" cy="609840"/>
                <a:chOff x="8069040" y="2590560"/>
                <a:chExt cx="892080" cy="60984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8069040" y="2590560"/>
                  <a:ext cx="89208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8069040" y="2590560"/>
                  <a:ext cx="89208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183960" y="3200400"/>
                <a:ext cx="954000" cy="609480"/>
                <a:chOff x="183960" y="3200400"/>
                <a:chExt cx="954000" cy="60948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183960" y="320040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Average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83960" y="320040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1137960" y="3200400"/>
                <a:ext cx="1427400" cy="609480"/>
                <a:chOff x="1137960" y="3200400"/>
                <a:chExt cx="1427400" cy="60948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1137960" y="3200400"/>
                  <a:ext cx="14274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137960" y="3200400"/>
                  <a:ext cx="14274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2565360" y="3200400"/>
                <a:ext cx="1247760" cy="609480"/>
                <a:chOff x="2565360" y="3200400"/>
                <a:chExt cx="1247760" cy="60948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2565360" y="3200400"/>
                  <a:ext cx="1247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565360" y="3200400"/>
                  <a:ext cx="1247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3813120" y="3200400"/>
                <a:ext cx="1400040" cy="609480"/>
                <a:chOff x="3813120" y="3200400"/>
                <a:chExt cx="1400040" cy="60948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3813120" y="3200400"/>
                  <a:ext cx="140004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813120" y="3200400"/>
                  <a:ext cx="140004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5213160" y="3200400"/>
                <a:ext cx="954000" cy="609480"/>
                <a:chOff x="5213160" y="3200400"/>
                <a:chExt cx="954000" cy="60948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5213160" y="320040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213160" y="320040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6167160" y="3200400"/>
                <a:ext cx="951120" cy="609480"/>
                <a:chOff x="6167160" y="3200400"/>
                <a:chExt cx="951120" cy="60948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6167160" y="3200400"/>
                  <a:ext cx="95112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167160" y="3200400"/>
                  <a:ext cx="95112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7118280" y="3200400"/>
                <a:ext cx="950760" cy="609480"/>
                <a:chOff x="7118280" y="3200400"/>
                <a:chExt cx="950760" cy="60948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7118280" y="3200400"/>
                  <a:ext cx="950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7118280" y="3200400"/>
                  <a:ext cx="950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8069040" y="3200400"/>
                <a:ext cx="892080" cy="609480"/>
                <a:chOff x="8069040" y="3200400"/>
                <a:chExt cx="892080" cy="60948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8069040" y="3200400"/>
                  <a:ext cx="89208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8069040" y="3200400"/>
                  <a:ext cx="89208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183960" y="3809880"/>
                <a:ext cx="954000" cy="609480"/>
                <a:chOff x="183960" y="3809880"/>
                <a:chExt cx="954000" cy="60948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183960" y="38098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Strong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83960" y="38098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1137960" y="3809880"/>
                <a:ext cx="1427400" cy="609480"/>
                <a:chOff x="1137960" y="3809880"/>
                <a:chExt cx="1427400" cy="60948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1137960" y="3809880"/>
                  <a:ext cx="14274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137960" y="3809880"/>
                  <a:ext cx="14274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2565360" y="3809880"/>
                <a:ext cx="1247760" cy="609480"/>
                <a:chOff x="2565360" y="3809880"/>
                <a:chExt cx="1247760" cy="60948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2565360" y="3809880"/>
                  <a:ext cx="1247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2565360" y="3809880"/>
                  <a:ext cx="1247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3813120" y="3809880"/>
                <a:ext cx="1400040" cy="609480"/>
                <a:chOff x="3813120" y="3809880"/>
                <a:chExt cx="1400040" cy="60948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3813120" y="3809880"/>
                  <a:ext cx="140004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3813120" y="3809880"/>
                  <a:ext cx="140004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5213160" y="3809880"/>
                <a:ext cx="954000" cy="609480"/>
                <a:chOff x="5213160" y="3809880"/>
                <a:chExt cx="954000" cy="60948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5213160" y="38098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5213160" y="38098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6167160" y="3809880"/>
                <a:ext cx="951120" cy="609480"/>
                <a:chOff x="6167160" y="3809880"/>
                <a:chExt cx="951120" cy="60948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6167160" y="3809880"/>
                  <a:ext cx="95112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167160" y="3809880"/>
                  <a:ext cx="95112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7118280" y="3809880"/>
                <a:ext cx="950760" cy="609480"/>
                <a:chOff x="7118280" y="3809880"/>
                <a:chExt cx="950760" cy="60948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7118280" y="3809880"/>
                  <a:ext cx="950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118280" y="3809880"/>
                  <a:ext cx="950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8069040" y="3809880"/>
                <a:ext cx="892080" cy="609480"/>
                <a:chOff x="8069040" y="3809880"/>
                <a:chExt cx="892080" cy="6094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8069040" y="3809880"/>
                  <a:ext cx="89208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8069040" y="3809880"/>
                  <a:ext cx="89208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183960" y="4419360"/>
                <a:ext cx="954000" cy="609840"/>
                <a:chOff x="183960" y="4419360"/>
                <a:chExt cx="954000" cy="60984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183960" y="44193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83960" y="44193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1137960" y="4419360"/>
                <a:ext cx="1427400" cy="609840"/>
                <a:chOff x="1137960" y="4419360"/>
                <a:chExt cx="1427400" cy="60984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1137960" y="4419360"/>
                  <a:ext cx="14274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137960" y="4419360"/>
                  <a:ext cx="14274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2565360" y="4419360"/>
                <a:ext cx="1247760" cy="609840"/>
                <a:chOff x="2565360" y="4419360"/>
                <a:chExt cx="1247760" cy="60984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2565360" y="4419360"/>
                  <a:ext cx="1247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565360" y="4419360"/>
                  <a:ext cx="1247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3813120" y="4419360"/>
                <a:ext cx="1400040" cy="609840"/>
                <a:chOff x="3813120" y="4419360"/>
                <a:chExt cx="1400040" cy="60984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3813120" y="4419360"/>
                  <a:ext cx="140004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3813120" y="4419360"/>
                  <a:ext cx="140004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5213160" y="4419360"/>
                <a:ext cx="954000" cy="609840"/>
                <a:chOff x="5213160" y="4419360"/>
                <a:chExt cx="954000" cy="60984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5213160" y="44193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5213160" y="44193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6167160" y="4419360"/>
                <a:ext cx="951120" cy="609840"/>
                <a:chOff x="6167160" y="4419360"/>
                <a:chExt cx="951120" cy="60984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6167160" y="4419360"/>
                  <a:ext cx="95112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6167160" y="4419360"/>
                  <a:ext cx="95112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7118280" y="4419360"/>
                <a:ext cx="950760" cy="609840"/>
                <a:chOff x="7118280" y="4419360"/>
                <a:chExt cx="950760" cy="60984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7118280" y="4419360"/>
                  <a:ext cx="950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118280" y="4419360"/>
                  <a:ext cx="950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8069040" y="4419360"/>
                <a:ext cx="892080" cy="609840"/>
                <a:chOff x="8069040" y="4419360"/>
                <a:chExt cx="892080" cy="60984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8069040" y="4419360"/>
                  <a:ext cx="89208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8069040" y="4419360"/>
                  <a:ext cx="89208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183960" y="5029200"/>
                <a:ext cx="954000" cy="761760"/>
                <a:chOff x="183960" y="5029200"/>
                <a:chExt cx="954000" cy="76176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183960" y="5029200"/>
                  <a:ext cx="95400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otal (Avg+ Strong)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3960" y="5029200"/>
                  <a:ext cx="95400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1137960" y="5029200"/>
                <a:ext cx="1427400" cy="761760"/>
                <a:chOff x="1137960" y="5029200"/>
                <a:chExt cx="1427400" cy="76176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1137960" y="5029200"/>
                  <a:ext cx="142740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137960" y="5029200"/>
                  <a:ext cx="142740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2565360" y="5029200"/>
                <a:ext cx="1247760" cy="761760"/>
                <a:chOff x="2565360" y="5029200"/>
                <a:chExt cx="1247760" cy="76176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2565360" y="5029200"/>
                  <a:ext cx="124776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565360" y="5029200"/>
                  <a:ext cx="124776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3813120" y="5029200"/>
                <a:ext cx="1400040" cy="761760"/>
                <a:chOff x="3813120" y="5029200"/>
                <a:chExt cx="1400040" cy="76176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3813120" y="5029200"/>
                  <a:ext cx="140004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813120" y="5029200"/>
                  <a:ext cx="140004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5213160" y="5029200"/>
                <a:ext cx="954000" cy="761760"/>
                <a:chOff x="5213160" y="5029200"/>
                <a:chExt cx="954000" cy="76176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5213160" y="5029200"/>
                  <a:ext cx="95400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5213160" y="5029200"/>
                  <a:ext cx="95400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6167160" y="5029200"/>
                <a:ext cx="951120" cy="761760"/>
                <a:chOff x="6167160" y="5029200"/>
                <a:chExt cx="951120" cy="76176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6167160" y="5029200"/>
                  <a:ext cx="95112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167160" y="5029200"/>
                  <a:ext cx="95112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7118280" y="5029200"/>
                <a:ext cx="950760" cy="761760"/>
                <a:chOff x="7118280" y="5029200"/>
                <a:chExt cx="950760" cy="76176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7118280" y="5029200"/>
                  <a:ext cx="95076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118280" y="5029200"/>
                  <a:ext cx="95076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8069040" y="5029200"/>
                <a:ext cx="892080" cy="761760"/>
                <a:chOff x="8069040" y="5029200"/>
                <a:chExt cx="892080" cy="76176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8069040" y="5029200"/>
                  <a:ext cx="89208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8069040" y="5029200"/>
                  <a:ext cx="89208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1" name=""/>
            <p:cNvSpPr/>
            <p:nvPr/>
          </p:nvSpPr>
          <p:spPr>
            <a:xfrm>
              <a:off x="179280" y="1062000"/>
              <a:ext cx="8786880" cy="4734000"/>
            </a:xfrm>
            <a:prstGeom prst="rect">
              <a:avLst/>
            </a:prstGeom>
            <a:noFill/>
            <a:ln cap="rnd" w="9360">
              <a:solidFill>
                <a:srgbClr val="a0a0a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32960" y="12708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B Coverage in Selected PRSPs:</a:t>
            </a:r>
            <a:br>
              <a:rPr sz="3600"/>
            </a:b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240" y="6467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182520" y="1003320"/>
            <a:ext cx="8881920" cy="5764320"/>
            <a:chOff x="182520" y="1003320"/>
            <a:chExt cx="8881920" cy="5764320"/>
          </a:xfrm>
        </p:grpSpPr>
        <p:grpSp>
          <p:nvGrpSpPr>
            <p:cNvPr id="405" name=""/>
            <p:cNvGrpSpPr/>
            <p:nvPr/>
          </p:nvGrpSpPr>
          <p:grpSpPr>
            <a:xfrm>
              <a:off x="187560" y="1005840"/>
              <a:ext cx="8870760" cy="5758200"/>
              <a:chOff x="187560" y="1005840"/>
              <a:chExt cx="8870760" cy="5758200"/>
            </a:xfrm>
          </p:grpSpPr>
          <p:grpSp>
            <p:nvGrpSpPr>
              <p:cNvPr id="406" name=""/>
              <p:cNvGrpSpPr/>
              <p:nvPr/>
            </p:nvGrpSpPr>
            <p:grpSpPr>
              <a:xfrm>
                <a:off x="187560" y="1005840"/>
                <a:ext cx="884880" cy="731160"/>
                <a:chOff x="187560" y="1005840"/>
                <a:chExt cx="884880" cy="73116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187560" y="1005840"/>
                  <a:ext cx="88488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8" name=""/>
                <p:cNvGrpSpPr/>
                <p:nvPr/>
              </p:nvGrpSpPr>
              <p:grpSpPr>
                <a:xfrm>
                  <a:off x="187560" y="1005840"/>
                  <a:ext cx="884520" cy="731160"/>
                  <a:chOff x="187560" y="1005840"/>
                  <a:chExt cx="884520" cy="73116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265320" y="1005840"/>
                    <a:ext cx="72900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Quality of PRS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187560" y="1005840"/>
                    <a:ext cx="8845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1" name=""/>
              <p:cNvGrpSpPr/>
              <p:nvPr/>
            </p:nvGrpSpPr>
            <p:grpSpPr>
              <a:xfrm>
                <a:off x="1072800" y="1005840"/>
                <a:ext cx="426960" cy="731160"/>
                <a:chOff x="1072800" y="1005840"/>
                <a:chExt cx="426960" cy="73116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1072800" y="1005840"/>
                  <a:ext cx="42696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3" name=""/>
                <p:cNvGrpSpPr/>
                <p:nvPr/>
              </p:nvGrpSpPr>
              <p:grpSpPr>
                <a:xfrm>
                  <a:off x="1072800" y="1005840"/>
                  <a:ext cx="426600" cy="731160"/>
                  <a:chOff x="1072800" y="1005840"/>
                  <a:chExt cx="426600" cy="73116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>
                    <a:off x="1150560" y="1005840"/>
                    <a:ext cx="27072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072800" y="1005840"/>
                    <a:ext cx="4266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6" name=""/>
              <p:cNvGrpSpPr/>
              <p:nvPr/>
            </p:nvGrpSpPr>
            <p:grpSpPr>
              <a:xfrm>
                <a:off x="1500120" y="1005840"/>
                <a:ext cx="1198080" cy="731160"/>
                <a:chOff x="1500120" y="1005840"/>
                <a:chExt cx="1198080" cy="73116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1500120" y="1005840"/>
                  <a:ext cx="119808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8" name=""/>
                <p:cNvGrpSpPr/>
                <p:nvPr/>
              </p:nvGrpSpPr>
              <p:grpSpPr>
                <a:xfrm>
                  <a:off x="1500120" y="1005840"/>
                  <a:ext cx="1197720" cy="731160"/>
                  <a:chOff x="1500120" y="1005840"/>
                  <a:chExt cx="1197720" cy="73116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>
                    <a:off x="1577880" y="1005840"/>
                    <a:ext cx="104220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untry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500120" y="1005840"/>
                    <a:ext cx="11977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1" name=""/>
              <p:cNvGrpSpPr/>
              <p:nvPr/>
            </p:nvGrpSpPr>
            <p:grpSpPr>
              <a:xfrm>
                <a:off x="2698920" y="1005840"/>
                <a:ext cx="807120" cy="731160"/>
                <a:chOff x="2698920" y="1005840"/>
                <a:chExt cx="807120" cy="73116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2698920" y="1005840"/>
                  <a:ext cx="80712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3" name=""/>
                <p:cNvGrpSpPr/>
                <p:nvPr/>
              </p:nvGrpSpPr>
              <p:grpSpPr>
                <a:xfrm>
                  <a:off x="2698920" y="1005840"/>
                  <a:ext cx="806760" cy="731160"/>
                  <a:chOff x="2698920" y="1005840"/>
                  <a:chExt cx="806760" cy="73116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2776680" y="1005840"/>
                    <a:ext cx="65088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S+ case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(1000s)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2698920" y="1005840"/>
                    <a:ext cx="8067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6" name=""/>
              <p:cNvGrpSpPr/>
              <p:nvPr/>
            </p:nvGrpSpPr>
            <p:grpSpPr>
              <a:xfrm>
                <a:off x="3506760" y="1005840"/>
                <a:ext cx="1980360" cy="731160"/>
                <a:chOff x="3506760" y="1005840"/>
                <a:chExt cx="1980360" cy="73116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3506760" y="1005840"/>
                  <a:ext cx="198036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8" name=""/>
                <p:cNvGrpSpPr/>
                <p:nvPr/>
              </p:nvGrpSpPr>
              <p:grpSpPr>
                <a:xfrm>
                  <a:off x="3506760" y="1005840"/>
                  <a:ext cx="1980000" cy="731160"/>
                  <a:chOff x="3506760" y="1005840"/>
                  <a:chExt cx="1980000" cy="73116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3584520" y="1005840"/>
                    <a:ext cx="182448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trength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3506760" y="1005840"/>
                    <a:ext cx="19800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1" name=""/>
              <p:cNvGrpSpPr/>
              <p:nvPr/>
            </p:nvGrpSpPr>
            <p:grpSpPr>
              <a:xfrm>
                <a:off x="5487840" y="1005840"/>
                <a:ext cx="1719720" cy="731160"/>
                <a:chOff x="5487840" y="1005840"/>
                <a:chExt cx="1719720" cy="73116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5487840" y="1005840"/>
                  <a:ext cx="171972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3" name=""/>
                <p:cNvGrpSpPr/>
                <p:nvPr/>
              </p:nvGrpSpPr>
              <p:grpSpPr>
                <a:xfrm>
                  <a:off x="5487840" y="1005840"/>
                  <a:ext cx="1719360" cy="731160"/>
                  <a:chOff x="5487840" y="1005840"/>
                  <a:chExt cx="1719360" cy="73116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>
                    <a:off x="5565600" y="1005840"/>
                    <a:ext cx="156384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Weaknes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5487840" y="1005840"/>
                    <a:ext cx="17193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6" name=""/>
              <p:cNvGrpSpPr/>
              <p:nvPr/>
            </p:nvGrpSpPr>
            <p:grpSpPr>
              <a:xfrm>
                <a:off x="7207920" y="1005840"/>
                <a:ext cx="1850400" cy="731160"/>
                <a:chOff x="7207920" y="1005840"/>
                <a:chExt cx="1850400" cy="73116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7207920" y="1005840"/>
                  <a:ext cx="185040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8" name=""/>
                <p:cNvGrpSpPr/>
                <p:nvPr/>
              </p:nvGrpSpPr>
              <p:grpSpPr>
                <a:xfrm>
                  <a:off x="7207920" y="1005840"/>
                  <a:ext cx="1850040" cy="731160"/>
                  <a:chOff x="7207920" y="1005840"/>
                  <a:chExt cx="1850040" cy="73116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>
                    <a:off x="7285680" y="1005840"/>
                    <a:ext cx="169452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urther Study/ Recommendation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7207920" y="1005840"/>
                    <a:ext cx="185004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1" name=""/>
              <p:cNvGrpSpPr/>
              <p:nvPr/>
            </p:nvGrpSpPr>
            <p:grpSpPr>
              <a:xfrm>
                <a:off x="187560" y="1737000"/>
                <a:ext cx="884880" cy="1919520"/>
                <a:chOff x="187560" y="1737000"/>
                <a:chExt cx="884880" cy="19195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187560" y="1737000"/>
                  <a:ext cx="88488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3" name=""/>
                <p:cNvGrpSpPr/>
                <p:nvPr/>
              </p:nvGrpSpPr>
              <p:grpSpPr>
                <a:xfrm>
                  <a:off x="187560" y="1737000"/>
                  <a:ext cx="884520" cy="1919520"/>
                  <a:chOff x="187560" y="1737000"/>
                  <a:chExt cx="884520" cy="191952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>
                    <a:off x="265320" y="1737000"/>
                    <a:ext cx="72900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Good?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187560" y="1737000"/>
                    <a:ext cx="88452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6" name=""/>
              <p:cNvGrpSpPr/>
              <p:nvPr/>
            </p:nvGrpSpPr>
            <p:grpSpPr>
              <a:xfrm>
                <a:off x="1072800" y="1737000"/>
                <a:ext cx="426960" cy="1919520"/>
                <a:chOff x="1072800" y="1737000"/>
                <a:chExt cx="426960" cy="191952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1072800" y="1737000"/>
                  <a:ext cx="42696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8" name=""/>
                <p:cNvGrpSpPr/>
                <p:nvPr/>
              </p:nvGrpSpPr>
              <p:grpSpPr>
                <a:xfrm>
                  <a:off x="1072800" y="1737000"/>
                  <a:ext cx="426600" cy="1919520"/>
                  <a:chOff x="1072800" y="1737000"/>
                  <a:chExt cx="426600" cy="1919520"/>
                </a:xfrm>
              </p:grpSpPr>
              <p:sp>
                <p:nvSpPr>
                  <p:cNvPr id="449" name=""/>
                  <p:cNvSpPr/>
                  <p:nvPr/>
                </p:nvSpPr>
                <p:spPr>
                  <a:xfrm>
                    <a:off x="1150560" y="1737000"/>
                    <a:ext cx="27072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1072800" y="1737000"/>
                    <a:ext cx="42660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1" name=""/>
              <p:cNvGrpSpPr/>
              <p:nvPr/>
            </p:nvGrpSpPr>
            <p:grpSpPr>
              <a:xfrm>
                <a:off x="1500120" y="1737000"/>
                <a:ext cx="1198080" cy="1919520"/>
                <a:chOff x="1500120" y="1737000"/>
                <a:chExt cx="1198080" cy="191952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1500120" y="1737000"/>
                  <a:ext cx="119808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3" name=""/>
                <p:cNvGrpSpPr/>
                <p:nvPr/>
              </p:nvGrpSpPr>
              <p:grpSpPr>
                <a:xfrm>
                  <a:off x="1500120" y="1737000"/>
                  <a:ext cx="1197720" cy="1919520"/>
                  <a:chOff x="1500120" y="1737000"/>
                  <a:chExt cx="1197720" cy="191952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1577880" y="1737000"/>
                    <a:ext cx="104220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Mozambique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1500120" y="1737000"/>
                    <a:ext cx="119772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6" name=""/>
              <p:cNvGrpSpPr/>
              <p:nvPr/>
            </p:nvGrpSpPr>
            <p:grpSpPr>
              <a:xfrm>
                <a:off x="2698920" y="1737000"/>
                <a:ext cx="807120" cy="1919520"/>
                <a:chOff x="2698920" y="1737000"/>
                <a:chExt cx="807120" cy="191952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2698920" y="1737000"/>
                  <a:ext cx="80712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8" name=""/>
                <p:cNvGrpSpPr/>
                <p:nvPr/>
              </p:nvGrpSpPr>
              <p:grpSpPr>
                <a:xfrm>
                  <a:off x="2698920" y="1737000"/>
                  <a:ext cx="806760" cy="1919520"/>
                  <a:chOff x="2698920" y="1737000"/>
                  <a:chExt cx="806760" cy="191952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>
                    <a:off x="2776680" y="1737000"/>
                    <a:ext cx="65088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34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2698920" y="1737000"/>
                    <a:ext cx="80676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1" name=""/>
              <p:cNvGrpSpPr/>
              <p:nvPr/>
            </p:nvGrpSpPr>
            <p:grpSpPr>
              <a:xfrm>
                <a:off x="3506760" y="1737000"/>
                <a:ext cx="1980360" cy="1919520"/>
                <a:chOff x="3506760" y="1737000"/>
                <a:chExt cx="1980360" cy="191952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3506760" y="1737000"/>
                  <a:ext cx="198036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3" name=""/>
                <p:cNvGrpSpPr/>
                <p:nvPr/>
              </p:nvGrpSpPr>
              <p:grpSpPr>
                <a:xfrm>
                  <a:off x="3506760" y="1737000"/>
                  <a:ext cx="1980000" cy="1919520"/>
                  <a:chOff x="3506760" y="1737000"/>
                  <a:chExt cx="1980000" cy="191952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>
                    <a:off x="3584520" y="1737000"/>
                    <a:ext cx="182448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Detailed TB strategies (reduction of morbidity, mortality and transmission), medium term goals (by 2005 increase treatment success to &gt; 75% and non-compliance rate to &lt;10%), short term actions (operate services to achieve targets), health systems strengthening (maintain health systems coverage at 100%) . 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resented in clear and concise format as part of the operational matrix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3506760" y="1737000"/>
                    <a:ext cx="198000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6" name=""/>
              <p:cNvGrpSpPr/>
              <p:nvPr/>
            </p:nvGrpSpPr>
            <p:grpSpPr>
              <a:xfrm>
                <a:off x="5487840" y="1737000"/>
                <a:ext cx="1719720" cy="1919520"/>
                <a:chOff x="5487840" y="1737000"/>
                <a:chExt cx="1719720" cy="191952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5487840" y="1737000"/>
                  <a:ext cx="171972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8" name=""/>
                <p:cNvGrpSpPr/>
                <p:nvPr/>
              </p:nvGrpSpPr>
              <p:grpSpPr>
                <a:xfrm>
                  <a:off x="5487840" y="1737000"/>
                  <a:ext cx="1719360" cy="1919520"/>
                  <a:chOff x="5487840" y="1737000"/>
                  <a:chExt cx="1719360" cy="1919520"/>
                </a:xfrm>
              </p:grpSpPr>
              <p:sp>
                <p:nvSpPr>
                  <p:cNvPr id="469" name=""/>
                  <p:cNvSpPr/>
                  <p:nvPr/>
                </p:nvSpPr>
                <p:spPr>
                  <a:xfrm>
                    <a:off x="5565600" y="1737000"/>
                    <a:ext cx="156384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Analysis of burden of communicable diseases and burden of tuberculosis on health system is superficial. 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Discussion on  linkages between TB and poverty absent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5487840" y="1737000"/>
                    <a:ext cx="171936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1" name=""/>
              <p:cNvGrpSpPr/>
              <p:nvPr/>
            </p:nvGrpSpPr>
            <p:grpSpPr>
              <a:xfrm>
                <a:off x="7207920" y="1737000"/>
                <a:ext cx="1850400" cy="1919520"/>
                <a:chOff x="7207920" y="1737000"/>
                <a:chExt cx="1850400" cy="191952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7207920" y="1737000"/>
                  <a:ext cx="185040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3" name=""/>
                <p:cNvGrpSpPr/>
                <p:nvPr/>
              </p:nvGrpSpPr>
              <p:grpSpPr>
                <a:xfrm>
                  <a:off x="7207920" y="1737000"/>
                  <a:ext cx="1850040" cy="1919520"/>
                  <a:chOff x="7207920" y="1737000"/>
                  <a:chExt cx="1850040" cy="191952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>
                    <a:off x="7285680" y="1737000"/>
                    <a:ext cx="169452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an serve as gold standard for PRSPs with respect to how they can articulate tuberculosis strategies, medium term goals, and actions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Need to strengthen burden of disease analysis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207920" y="1737000"/>
                    <a:ext cx="185004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6" name=""/>
              <p:cNvGrpSpPr/>
              <p:nvPr/>
            </p:nvGrpSpPr>
            <p:grpSpPr>
              <a:xfrm>
                <a:off x="187560" y="3656520"/>
                <a:ext cx="884880" cy="2376360"/>
                <a:chOff x="187560" y="3656520"/>
                <a:chExt cx="884880" cy="23763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187560" y="3656520"/>
                  <a:ext cx="88488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8" name=""/>
                <p:cNvGrpSpPr/>
                <p:nvPr/>
              </p:nvGrpSpPr>
              <p:grpSpPr>
                <a:xfrm>
                  <a:off x="187560" y="3656520"/>
                  <a:ext cx="884520" cy="2376360"/>
                  <a:chOff x="187560" y="3656520"/>
                  <a:chExt cx="884520" cy="237636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>
                    <a:off x="265320" y="3656520"/>
                    <a:ext cx="72900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  </a:t>
                    </a: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Weak?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187560" y="3656520"/>
                    <a:ext cx="88452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1" name=""/>
              <p:cNvGrpSpPr/>
              <p:nvPr/>
            </p:nvGrpSpPr>
            <p:grpSpPr>
              <a:xfrm>
                <a:off x="1072800" y="3656520"/>
                <a:ext cx="426960" cy="2376360"/>
                <a:chOff x="1072800" y="3656520"/>
                <a:chExt cx="426960" cy="237636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1072800" y="3656520"/>
                  <a:ext cx="42696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3" name=""/>
                <p:cNvGrpSpPr/>
                <p:nvPr/>
              </p:nvGrpSpPr>
              <p:grpSpPr>
                <a:xfrm>
                  <a:off x="1072800" y="3656520"/>
                  <a:ext cx="426600" cy="2376360"/>
                  <a:chOff x="1072800" y="3656520"/>
                  <a:chExt cx="426600" cy="2376360"/>
                </a:xfrm>
              </p:grpSpPr>
              <p:sp>
                <p:nvSpPr>
                  <p:cNvPr id="484" name=""/>
                  <p:cNvSpPr/>
                  <p:nvPr/>
                </p:nvSpPr>
                <p:spPr>
                  <a:xfrm>
                    <a:off x="1150560" y="3656520"/>
                    <a:ext cx="27072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1072800" y="3656520"/>
                    <a:ext cx="42660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6" name=""/>
              <p:cNvGrpSpPr/>
              <p:nvPr/>
            </p:nvGrpSpPr>
            <p:grpSpPr>
              <a:xfrm>
                <a:off x="1500120" y="3656520"/>
                <a:ext cx="1198080" cy="2376360"/>
                <a:chOff x="1500120" y="3656520"/>
                <a:chExt cx="1198080" cy="237636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1500120" y="3656520"/>
                  <a:ext cx="119808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8" name=""/>
                <p:cNvGrpSpPr/>
                <p:nvPr/>
              </p:nvGrpSpPr>
              <p:grpSpPr>
                <a:xfrm>
                  <a:off x="1500120" y="3656520"/>
                  <a:ext cx="1197720" cy="2376360"/>
                  <a:chOff x="1500120" y="3656520"/>
                  <a:chExt cx="1197720" cy="237636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>
                    <a:off x="1577880" y="3656520"/>
                    <a:ext cx="104220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Ethiopia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1500120" y="3656520"/>
                    <a:ext cx="119772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1" name=""/>
              <p:cNvGrpSpPr/>
              <p:nvPr/>
            </p:nvGrpSpPr>
            <p:grpSpPr>
              <a:xfrm>
                <a:off x="2698920" y="3656520"/>
                <a:ext cx="807120" cy="2376360"/>
                <a:chOff x="2698920" y="3656520"/>
                <a:chExt cx="807120" cy="23763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2698920" y="3656520"/>
                  <a:ext cx="80712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3" name=""/>
                <p:cNvGrpSpPr/>
                <p:nvPr/>
              </p:nvGrpSpPr>
              <p:grpSpPr>
                <a:xfrm>
                  <a:off x="2698920" y="3656520"/>
                  <a:ext cx="806760" cy="2376360"/>
                  <a:chOff x="2698920" y="3656520"/>
                  <a:chExt cx="806760" cy="237636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>
                    <a:off x="2776680" y="3656520"/>
                    <a:ext cx="65088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110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2698920" y="3656520"/>
                    <a:ext cx="80676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6" name=""/>
              <p:cNvGrpSpPr/>
              <p:nvPr/>
            </p:nvGrpSpPr>
            <p:grpSpPr>
              <a:xfrm>
                <a:off x="3506760" y="3656520"/>
                <a:ext cx="1980360" cy="2376360"/>
                <a:chOff x="3506760" y="3656520"/>
                <a:chExt cx="1980360" cy="237636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3506760" y="3656520"/>
                  <a:ext cx="198036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8" name=""/>
                <p:cNvGrpSpPr/>
                <p:nvPr/>
              </p:nvGrpSpPr>
              <p:grpSpPr>
                <a:xfrm>
                  <a:off x="3506760" y="3656520"/>
                  <a:ext cx="1980000" cy="2376360"/>
                  <a:chOff x="3506760" y="3656520"/>
                  <a:chExt cx="1980000" cy="2376360"/>
                </a:xfrm>
              </p:grpSpPr>
              <p:sp>
                <p:nvSpPr>
                  <p:cNvPr id="499" name=""/>
                  <p:cNvSpPr/>
                  <p:nvPr/>
                </p:nvSpPr>
                <p:spPr>
                  <a:xfrm>
                    <a:off x="3584520" y="3656520"/>
                    <a:ext cx="182448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rovision of TB related services is deemed to be priority area. Explicit target set of increasing TB coverage from 60% (2001/02) to 75% (2004/05)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Emphasis on health system strengthening and service delivery. Health extension service will be providing a package of services aimed towards preventive health measures and will train a new cadre of health workers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3506760" y="3656520"/>
                    <a:ext cx="198000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1" name=""/>
              <p:cNvGrpSpPr/>
              <p:nvPr/>
            </p:nvGrpSpPr>
            <p:grpSpPr>
              <a:xfrm>
                <a:off x="5487840" y="3656520"/>
                <a:ext cx="1719720" cy="2376360"/>
                <a:chOff x="5487840" y="3656520"/>
                <a:chExt cx="1719720" cy="237636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5487840" y="3656520"/>
                  <a:ext cx="171972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3" name=""/>
                <p:cNvGrpSpPr/>
                <p:nvPr/>
              </p:nvGrpSpPr>
              <p:grpSpPr>
                <a:xfrm>
                  <a:off x="5487840" y="3656520"/>
                  <a:ext cx="1719360" cy="2376360"/>
                  <a:chOff x="5487840" y="3656520"/>
                  <a:chExt cx="1719360" cy="2376360"/>
                </a:xfrm>
              </p:grpSpPr>
              <p:sp>
                <p:nvSpPr>
                  <p:cNvPr id="504" name=""/>
                  <p:cNvSpPr/>
                  <p:nvPr/>
                </p:nvSpPr>
                <p:spPr>
                  <a:xfrm>
                    <a:off x="5565600" y="3656520"/>
                    <a:ext cx="156384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Deals with TB health relationship in a cursory manner. TB is documented as the leading cause of death among those with HIV, but no data on TB mortality or morbidity is provided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TB poverty relationship is vaguely alluded to. The findings of the Commission of Macroeconomics and Health are cited. 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5487840" y="3656520"/>
                    <a:ext cx="171936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6" name=""/>
              <p:cNvGrpSpPr/>
              <p:nvPr/>
            </p:nvGrpSpPr>
            <p:grpSpPr>
              <a:xfrm>
                <a:off x="7207920" y="3656520"/>
                <a:ext cx="1850400" cy="2376360"/>
                <a:chOff x="7207920" y="3656520"/>
                <a:chExt cx="1850400" cy="23763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7207920" y="3656520"/>
                  <a:ext cx="185040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8" name=""/>
                <p:cNvGrpSpPr/>
                <p:nvPr/>
              </p:nvGrpSpPr>
              <p:grpSpPr>
                <a:xfrm>
                  <a:off x="7207920" y="3656520"/>
                  <a:ext cx="1850040" cy="2376360"/>
                  <a:chOff x="7207920" y="3656520"/>
                  <a:chExt cx="1850040" cy="237636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>
                    <a:off x="7285680" y="3656520"/>
                    <a:ext cx="169452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urther the analysis on TB and health and TB and poverty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Integrate current health systems strengthening initiatives with existing TB programs to improve coverage and treatment acces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7207920" y="3656520"/>
                    <a:ext cx="185004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1" name=""/>
              <p:cNvGrpSpPr/>
              <p:nvPr/>
            </p:nvGrpSpPr>
            <p:grpSpPr>
              <a:xfrm>
                <a:off x="187560" y="6032880"/>
                <a:ext cx="884880" cy="731160"/>
                <a:chOff x="187560" y="6032880"/>
                <a:chExt cx="884880" cy="73116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187560" y="6032880"/>
                  <a:ext cx="88488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3" name=""/>
                <p:cNvGrpSpPr/>
                <p:nvPr/>
              </p:nvGrpSpPr>
              <p:grpSpPr>
                <a:xfrm>
                  <a:off x="187560" y="6032880"/>
                  <a:ext cx="884520" cy="731160"/>
                  <a:chOff x="187560" y="6032880"/>
                  <a:chExt cx="884520" cy="73116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>
                    <a:off x="265320" y="6032880"/>
                    <a:ext cx="72900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Very weak?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187560" y="6032880"/>
                    <a:ext cx="8845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6" name=""/>
              <p:cNvGrpSpPr/>
              <p:nvPr/>
            </p:nvGrpSpPr>
            <p:grpSpPr>
              <a:xfrm>
                <a:off x="1072800" y="6032880"/>
                <a:ext cx="426960" cy="731160"/>
                <a:chOff x="1072800" y="6032880"/>
                <a:chExt cx="426960" cy="73116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1072800" y="6032880"/>
                  <a:ext cx="42696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8" name=""/>
                <p:cNvGrpSpPr/>
                <p:nvPr/>
              </p:nvGrpSpPr>
              <p:grpSpPr>
                <a:xfrm>
                  <a:off x="1072800" y="6032880"/>
                  <a:ext cx="426600" cy="731160"/>
                  <a:chOff x="1072800" y="6032880"/>
                  <a:chExt cx="426600" cy="73116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>
                    <a:off x="1150560" y="6032880"/>
                    <a:ext cx="27072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4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1072800" y="6032880"/>
                    <a:ext cx="4266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1500120" y="6032880"/>
                <a:ext cx="1198080" cy="731160"/>
                <a:chOff x="1500120" y="6032880"/>
                <a:chExt cx="1198080" cy="7311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1500120" y="6032880"/>
                  <a:ext cx="119808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3" name=""/>
                <p:cNvGrpSpPr/>
                <p:nvPr/>
              </p:nvGrpSpPr>
              <p:grpSpPr>
                <a:xfrm>
                  <a:off x="1500120" y="6032880"/>
                  <a:ext cx="1197720" cy="731160"/>
                  <a:chOff x="1500120" y="6032880"/>
                  <a:chExt cx="1197720" cy="731160"/>
                </a:xfrm>
              </p:grpSpPr>
              <p:sp>
                <p:nvSpPr>
                  <p:cNvPr id="524" name=""/>
                  <p:cNvSpPr/>
                  <p:nvPr/>
                </p:nvSpPr>
                <p:spPr>
                  <a:xfrm>
                    <a:off x="1577880" y="6032880"/>
                    <a:ext cx="104220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Indonesia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1500120" y="6032880"/>
                    <a:ext cx="11977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6" name=""/>
              <p:cNvGrpSpPr/>
              <p:nvPr/>
            </p:nvGrpSpPr>
            <p:grpSpPr>
              <a:xfrm>
                <a:off x="2698920" y="6032880"/>
                <a:ext cx="807120" cy="731160"/>
                <a:chOff x="2698920" y="6032880"/>
                <a:chExt cx="807120" cy="73116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2698920" y="6032880"/>
                  <a:ext cx="80712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8" name=""/>
                <p:cNvGrpSpPr/>
                <p:nvPr/>
              </p:nvGrpSpPr>
              <p:grpSpPr>
                <a:xfrm>
                  <a:off x="2698920" y="6032880"/>
                  <a:ext cx="806760" cy="731160"/>
                  <a:chOff x="2698920" y="6032880"/>
                  <a:chExt cx="806760" cy="731160"/>
                </a:xfrm>
              </p:grpSpPr>
              <p:sp>
                <p:nvSpPr>
                  <p:cNvPr id="529" name=""/>
                  <p:cNvSpPr/>
                  <p:nvPr/>
                </p:nvSpPr>
                <p:spPr>
                  <a:xfrm>
                    <a:off x="2776680" y="6032880"/>
                    <a:ext cx="65088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250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2698920" y="6032880"/>
                    <a:ext cx="8067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1" name=""/>
              <p:cNvGrpSpPr/>
              <p:nvPr/>
            </p:nvGrpSpPr>
            <p:grpSpPr>
              <a:xfrm>
                <a:off x="3506760" y="6032880"/>
                <a:ext cx="1980360" cy="731160"/>
                <a:chOff x="3506760" y="6032880"/>
                <a:chExt cx="1980360" cy="73116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3506760" y="6032880"/>
                  <a:ext cx="198036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3" name=""/>
                <p:cNvGrpSpPr/>
                <p:nvPr/>
              </p:nvGrpSpPr>
              <p:grpSpPr>
                <a:xfrm>
                  <a:off x="3506760" y="6032880"/>
                  <a:ext cx="1980000" cy="731160"/>
                  <a:chOff x="3506760" y="6032880"/>
                  <a:chExt cx="1980000" cy="73116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>
                    <a:off x="3584520" y="6032880"/>
                    <a:ext cx="182448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3506760" y="6032880"/>
                    <a:ext cx="19800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6" name=""/>
              <p:cNvGrpSpPr/>
              <p:nvPr/>
            </p:nvGrpSpPr>
            <p:grpSpPr>
              <a:xfrm>
                <a:off x="5487840" y="6032880"/>
                <a:ext cx="1719720" cy="731160"/>
                <a:chOff x="5487840" y="6032880"/>
                <a:chExt cx="1719720" cy="7311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487840" y="6032880"/>
                  <a:ext cx="171972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5487840" y="6032880"/>
                  <a:ext cx="1719360" cy="731160"/>
                  <a:chOff x="5487840" y="6032880"/>
                  <a:chExt cx="1719360" cy="73116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>
                    <a:off x="5565600" y="6032880"/>
                    <a:ext cx="156384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No mention of  tuberculosis in entire document despite high burden of disease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5487840" y="6032880"/>
                    <a:ext cx="17193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41" name=""/>
              <p:cNvGrpSpPr/>
              <p:nvPr/>
            </p:nvGrpSpPr>
            <p:grpSpPr>
              <a:xfrm>
                <a:off x="7207920" y="6032880"/>
                <a:ext cx="1850400" cy="731160"/>
                <a:chOff x="7207920" y="6032880"/>
                <a:chExt cx="1850400" cy="73116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7207920" y="6032880"/>
                  <a:ext cx="185040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3" name=""/>
                <p:cNvGrpSpPr/>
                <p:nvPr/>
              </p:nvGrpSpPr>
              <p:grpSpPr>
                <a:xfrm>
                  <a:off x="7207920" y="6032880"/>
                  <a:ext cx="1850040" cy="731160"/>
                  <a:chOff x="7207920" y="6032880"/>
                  <a:chExt cx="1850040" cy="731160"/>
                </a:xfrm>
              </p:grpSpPr>
              <p:sp>
                <p:nvSpPr>
                  <p:cNvPr id="544" name=""/>
                  <p:cNvSpPr/>
                  <p:nvPr/>
                </p:nvSpPr>
                <p:spPr>
                  <a:xfrm>
                    <a:off x="7285680" y="6032880"/>
                    <a:ext cx="169452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A window of opportunity for the inclusion of tuberculosis is present as the IPRSP is crafted into the  PRSP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207920" y="6032880"/>
                    <a:ext cx="185004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46" name=""/>
            <p:cNvSpPr/>
            <p:nvPr/>
          </p:nvSpPr>
          <p:spPr>
            <a:xfrm>
              <a:off x="182520" y="1003320"/>
              <a:ext cx="8881920" cy="5764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9448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cussion[1]:</a:t>
            </a:r>
            <a:br>
              <a:rPr sz="3600"/>
            </a:b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 case for appropriate inclusion of tuberculosis in PRSP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TB and economic growth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:TB is primarily is a disease of the poor; TB morbidity may result in a loss of abo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20 per cent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f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usehold income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; TB affects the most productive and economically active segments of the population and may result in a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4 per cent to 7 per cent loss in GDP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due to the potential cost of lost productivity</a:t>
            </a:r>
            <a:r>
              <a:rPr b="0" lang="en-US" sz="2400" spc="-1" strike="noStrike">
                <a:solidFill>
                  <a:srgbClr val="000099"/>
                </a:solidFill>
                <a:latin typeface="TimesNewRoman"/>
              </a:rPr>
              <a:t>.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TB and MDG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: For MDGs related to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verty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(Goal 1)and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fectious disease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to be met (Goal 6), TB should be addressed, whether directly or bundled with other MDG related health problem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6840" y="-380880"/>
            <a:ext cx="84582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cussion[2]:</a:t>
            </a:r>
            <a:br>
              <a:rPr sz="3600"/>
            </a:b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Ways to mainstream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915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HIV/AIDS and TB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Most PRSPs include a separate section devoted to discussion on HIV/AIDS, which can help facilitate mainstreaming and increase the visibility of TB in PRSPs.  Also by including a concurrent discussion on the impact of  TB, a coordinated action plan for HIV/AIDS and TB can be outlined.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74320" indent="-27432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Systems Strengthening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Of the countries surveyed,  strengthening of health systems was prioritized at some level in many PRSPs. For example,  Ethiopia is planning to implement a Health Extension Package to provide community based health care and increase health coverage from 52% in 2001/02 to 65% by the end of the program period. Since TB has been designated as a priority area in this PRSP, the challenge is to integrate TB programs into this system scale-up.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jaya</cp:lastModifiedBy>
  <dcterms:modified xsi:type="dcterms:W3CDTF">2004-10-21T14:45:00Z</dcterms:modified>
  <cp:revision>184</cp:revision>
  <dc:subject/>
  <dc:title>Non-Financial Constraints  on the Response to HIV/AIDS and TB in ECA</dc:title>
</cp:coreProperties>
</file>