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2B54-8C5F-4589-8487-F6D3D52C7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3994-3845-4BC6-A781-DA84A0D5C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E433-6697-45DB-B51F-CB4191E13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7BAA-578F-48A1-8029-484790FDA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C001-AFF8-403F-B80E-33F72135C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E5F0-7899-4F46-B259-5C1A1F6E4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8043-2758-47ED-ABAE-19DA2E105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34AC-F0D3-434D-BA71-C10760D8B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6D77-93DF-4F5B-8B90-BDACA2E2D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9540-8F17-4D58-93D7-5898F835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C2E3-C255-4A7F-AF9D-FA5E6F7A5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1773-88F2-4DEF-BE0A-2A6FD9E2E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8253-036F-4E8B-96A5-E9A175E02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D25C-F988-46E4-B9F3-13A749EE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59E4-64DD-4E53-A0BD-FC6E554C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E924-15D5-4EFB-A36A-D000F154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F943-9D18-4257-AF9C-6FB5D4EE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6FBB-E533-4611-984C-D80CDC71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A81A-2E65-4A87-9FBD-84442FC1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1665-9A73-4C32-A5C8-579EA360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0A8D-1975-4E4D-B3FE-CC4B339F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1B30-57B7-44EA-AB91-DAB40366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5656-5344-4459-A18E-220C3E95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710A-13A1-4994-AF6E-55F7465C1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0D45-7C60-4056-95CD-4FB982744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13E2-1EE4-489E-81A1-BF426ACA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5A4F-D6F7-4C74-A1B7-E678CF44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0925-23A8-4FC9-AF64-BEE6D8CA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E901-0030-460D-BC61-089FFA72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414C-F0D5-42E6-B549-2A24297A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D43C-0FCA-4A87-8A4C-3124395C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6096-2B5F-4DDD-B450-4B4B9DEC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0986-9B43-4797-9609-598B470E496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B54C-2B08-44C1-8EC0-C5429C474A3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Resource Mobilisation Action Plan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2004-2005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宋体"/>
              </a:rPr>
              <a:t>Irene Koe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sation Task Forc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32944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ased on the 2003 Resource Mobilisation Strategy and modified to reflect changes in the environ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Seeks to generate resources for the Partnership as a whole and the Secretariat-management programs in particula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ed: US$3.77 billion for the Partnership as a whole and US$40.6 million for the programs managed directly by the Secretariat (GDF, working groups, etc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ction Plan Objectiv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a set of support structures and formal process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donors recognise the challenge of TB control and give high priority to supporting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ncrease flow of resources from the existing supporters of the Stop TB Partnership in a timely mann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new fund-raising products and approach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1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Develop a set of support structures &amp; formal process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ete baseline information on donors and resources contributed by the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strategic alliance between Stop TB and other development oriented institutions/initiati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422360" indent="-5079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BM, UNAIDS, GFATM etc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-examine and revamp the Resource Mobilisation Directo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internet for fund raising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532908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Increase donors recognition &amp; support for the Stop TB Partnership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llaborate with the Communication and Advocacy working group to develop a global communication strategy that has fund raising as an integral pa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32944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3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Increase resource flow from the existing supporters in a timely manner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uild support from bilateral government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closer ties with GFAT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ultivate support from the EU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dentify several private foundations/commercial enterprises to engage as new supporters and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links with fraternal organisations like the Rotary Internationa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2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xplore the possibility of securing the support of high net worth individuals</a:t>
            </a:r>
            <a:r>
              <a:rPr b="1" lang="en-GB" sz="8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4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569440" cy="43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Develop new fund raising products and approach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23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23960" indent="-723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termine the type of products that will appeal to       donors and that will make the case clear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-723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xplore cause-related marketing with some large multinational enterpris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-723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xplore the concept of planned giving for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high-net worth individu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commendat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496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Convert the Resource Mobilisation Task Force into and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ad hoc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 advisory group available to the Secretariat and the Board on an as needed basi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Operationalise the Resource Mobilisation Action Pla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llocate responsibil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gree a sequenced schedule of work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gree a time line with all concern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gree on resources to be allocated for the pla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Execute the Action Pla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Update the plan based on a feedback in November 2005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vijaya</cp:lastModifiedBy>
  <dcterms:modified xsi:type="dcterms:W3CDTF">2004-10-21T14:44:33Z</dcterms:modified>
  <cp:revision>33</cp:revision>
  <dc:subject/>
  <dc:title>Financial situation,  Budget &amp; plans 2005</dc:title>
</cp:coreProperties>
</file>