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EDDB-0C35-4D4A-B9D5-55791267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0EA3-A817-4BCA-A2D6-D4F1AE19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AF65-AC95-40FE-93A3-A66B626D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99F9-3D63-499F-B1BB-BE985BCB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7851-B971-4BC7-AD79-802538CD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7102-AF47-4668-8FDA-B3286971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38C7-B880-471F-9A3B-449499D8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E87D-AEA4-4A6B-BDFB-E56D4B94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11BD-4994-4A6D-95BA-83B3742F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993E-032F-4B89-AB17-6D836449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118C-918B-4256-BCEF-9D03D9B0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DB7A-CC96-4B80-A8B5-C383E711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889E-ED20-471C-A53D-FE3A90E5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0C27-5AC2-4442-97E8-80E75BCB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5DEF-666A-4514-B385-491556CE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63BA-C0E4-4DC2-A45F-EF34CB36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24DB-36CE-4CA8-A1E4-2C3BFCA6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BDC-18B4-48C1-9F5F-CE246B61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E3A-4BCD-4C0A-A92B-FF61B5ED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0D7F-3E79-43B6-ABAE-FC253D24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475-C6E8-4872-81C4-4599B765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215F-5288-4C9C-AAE4-FB50A33B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A11C-0196-426B-A4B0-A0F1F01D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50AA-CF4C-4569-8068-AFE94FEA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E4E4-31DF-4D18-994C-C3CA5C943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63CF-0359-4765-BD15-1C7E519FB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uroparl.eu.int/abc/visit/brux/default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the European Un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the E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2063880"/>
            <a:ext cx="5572080" cy="34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raise the profile of TB within the EU to create a supportiv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olitical and social enviro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strength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B control activities in Europe (particularly E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unds to support TB contr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notably in Africa, Latin America and Asia) and research glob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s generally (including EU policy makers) consider tuberculosis to be a disease of the p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 policy reflects this lack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progress is being made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WHO Copenhagen declared TB a Regional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 Areas of Work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ith the 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eath (European CD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Development (Programme of 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search (new framework propos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cisi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the Stop TB Partnership aim to proactively improve our relationship and engagement with the European Union (Commission, Council and Parliamen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pping of Partner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gular briefing of officials and policy makers – on Global Plan 2006-20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untry level engagement of EU missions in HB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isterial Conference on TB and Sustainabl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gage in the process of adoption of EU proposals for 2007-2013 financing (POA, Health and Research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K Presidency – Dev. Policy Pa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ent WTBD &amp;/or Coordinating Board meeting 2006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Views of the European Parliament in Brusse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4724280"/>
            <a:ext cx="14079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Administrator</cp:lastModifiedBy>
  <dcterms:modified xsi:type="dcterms:W3CDTF">2005-05-02T12:27:38Z</dcterms:modified>
  <cp:revision>40</cp:revision>
  <dc:subject/>
  <dc:title>Slide 1</dc:title>
</cp:coreProperties>
</file>