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3F054-97C1-4C53-8410-12E3B37BC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883BE-5F73-4EE0-BF6F-41497016F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8372C-3F2C-450E-A2D6-188CD9FD1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B2C22-9220-42D2-BF4F-D24F69165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9E351E-D672-436D-8954-9837929478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90045-812B-4EB8-BE9E-891B04A92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5693D-6D51-4FD5-8A36-CD16C2EFD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A9D39-9F58-4FF9-8F2D-A1FA21A01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1CD69-9550-4DD6-B4AA-A65F07D75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0AFBC-151F-47F1-9ADB-2D730A5DC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6D95E-FF45-4923-A773-7217F01A0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34930-A21C-4F18-89E1-51E055F1A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2B0AD-74DF-4EA8-ABC2-EFBEBB0F5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DB1D1-D179-49EF-847D-380759C1C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39247-9F4F-477E-B1E7-53831E59D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3291D6-008A-44AE-ADC1-58E1D30CB9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A7B35-4E6A-4221-B276-96028767C1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0A01A-B5B8-4E7A-9194-98AC9CBB9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902D0-5A86-4C92-BCD8-9F6D78095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4326C-56E3-4CE6-B2D5-CC082367D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BB492-ABA2-487E-8FF5-4B68B4916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CB2A2-5509-41B2-872B-EEDABB80B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1E3F7-20CF-41BB-9BC8-119562618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8C007-1DBE-4E2F-B6EE-61045F9EC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2D00-3BAE-4EE2-AEC7-4FC718E5E0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5A255-CCA6-4F2E-B438-66D815F2F5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800" spc="-1" strike="noStrike">
                <a:solidFill>
                  <a:srgbClr val="ffffcc"/>
                </a:solidFill>
                <a:latin typeface="Arial"/>
              </a:rPr>
              <a:t>DRAFT STRATEGIC PLAN FOR </a:t>
            </a:r>
            <a:br>
              <a:rPr sz="2800"/>
            </a:br>
            <a:br>
              <a:rPr sz="2800"/>
            </a:br>
            <a:r>
              <a:rPr b="1" lang="en-GB" sz="3600" spc="-1" strike="noStrike">
                <a:solidFill>
                  <a:srgbClr val="ffffcc"/>
                </a:solidFill>
                <a:latin typeface="Arial"/>
              </a:rPr>
              <a:t>ADVOCACY, COMMUNICATION AND SOCIAL MOBILIZATION</a:t>
            </a:r>
            <a:endParaRPr b="1" lang="en-US" sz="3600" spc="-1" strike="noStrike">
              <a:solidFill>
                <a:srgbClr val="000000"/>
              </a:solidFill>
              <a:latin typeface="Arial"/>
            </a:endParaRPr>
          </a:p>
        </p:txBody>
      </p:sp>
      <p:sp>
        <p:nvSpPr>
          <p:cNvPr id="85" name="PlaceHolder 2"/>
          <p:cNvSpPr>
            <a:spLocks noGrp="1"/>
          </p:cNvSpPr>
          <p:nvPr>
            <p:ph type="subTitle"/>
          </p:nvPr>
        </p:nvSpPr>
        <p:spPr>
          <a:xfrm>
            <a:off x="1371600" y="4220640"/>
            <a:ext cx="6400800" cy="8636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oanne Carter, ACSM Chai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May 200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regional level</a:t>
            </a:r>
            <a:endParaRPr b="0" lang="en-US" sz="3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gional Strategic Communication Officers (SCOs) to ensure global-to-national linkages</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orkshops to present evidence, promulgate best practices and lessons learned</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gration of ACS into WHO framework, country missions, regular regional and subregional meetings</a:t>
            </a:r>
            <a:endParaRPr b="0" lang="en-US" sz="2800" spc="-1" strike="noStrike">
              <a:solidFill>
                <a:srgbClr val="000000"/>
              </a:solidFill>
              <a:latin typeface="Arial"/>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600,000/yea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5"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rPr>
              <a:t>Structure – national le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 SCO and ACS Partnership/Task Force</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strategic communication planning</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raining for national and subnational staff</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n implementation in at least 5 areas of ACS activity </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monitoring and evaluatio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5-15% of NT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Next Ste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lesh out plan for country level strategic communications May and June.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Get broader input, esp. from country level program managers and affected communities.</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urther develop country level civil society advocacy and social mobilization strate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0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Section 2: </a:t>
            </a:r>
            <a:endParaRPr b="0" lang="en-US" sz="3200" spc="-1" strike="noStrike">
              <a:solidFill>
                <a:srgbClr val="000000"/>
              </a:solidFill>
              <a:latin typeface="Arial"/>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9900"/>
                </a:solidFill>
                <a:latin typeface="Arial"/>
              </a:rPr>
              <a:t>Global advocacy</a:t>
            </a:r>
            <a:endParaRPr b="0" lang="en-US" sz="3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3200" spc="-1" strike="noStrike">
                <a:solidFill>
                  <a:srgbClr val="ff9900"/>
                </a:solidFill>
                <a:latin typeface="Arial"/>
              </a:rPr>
              <a:t>Creates the political accountability and social pressure required to mobilize new and more effective funding for TB efforts and to effectively shape policy agendas of key institu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Achievements of GP1 - outcomes</a:t>
            </a:r>
            <a:endParaRPr b="0" lang="en-US" sz="32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TB targets embraced by G8 and Commission for Macroeconomics and Health</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Put "T" in GFATM with $400 m from 2002-04</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75% growth in annual aid for HBCs, from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2800" spc="-1" strike="noStrike">
                <a:solidFill>
                  <a:srgbClr val="ff9900"/>
                </a:solidFill>
                <a:latin typeface="Arial"/>
              </a:rPr>
              <a:t>	</a:t>
            </a:r>
            <a:r>
              <a:rPr b="0" lang="en-GB" sz="2800" spc="-1" strike="noStrike">
                <a:solidFill>
                  <a:srgbClr val="ff9900"/>
                </a:solidFill>
                <a:latin typeface="Arial"/>
              </a:rPr>
              <a:t>$80 m in 2002 to $220 m in 2005</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More than $80 m mobilized for GDF</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Recent statements of support from Mandela, AU, Commission for Africa on TB-HIV</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Arial"/>
              </a:rPr>
              <a:t>Strategic vision</a:t>
            </a:r>
            <a:endParaRPr b="0" lang="en-US" sz="36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     </a:t>
            </a:r>
            <a:r>
              <a:rPr b="0" lang="en-GB" sz="3200" spc="-1" strike="noStrike">
                <a:solidFill>
                  <a:srgbClr val="ff9900"/>
                </a:solidFill>
                <a:latin typeface="Arial"/>
              </a:rPr>
              <a:t>To create and sustain the political will to mobilize full funding for GP2, to strengthen support for effective TB control policies at global, regional and national levels, and to mainstream involvement of patient and community voices in all aspects of TB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ajor Objectiv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B advocacy organizations or coalitions established and funded in all major donor countri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creased capacity and coordination at global level to support global media outreach, development of advocacy materials, messages and campaigns and identification of global and national celebrity, patient and policy champion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artnership building—engage new partners and enhance web and electronic info sharing.</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ext Ste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et broader input from ACS WG.</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tegrate with global advocacy components of other Working Group plans.</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tempt to better quantify contribution of global advocacy to resource mobiliz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CSM Strategy</a:t>
            </a:r>
            <a:endParaRPr b="0" lang="en-US" sz="3600" spc="-1" strike="noStrike">
              <a:solidFill>
                <a:srgbClr val="000000"/>
              </a:solidFill>
              <a:latin typeface="Arial"/>
            </a:endParaRPr>
          </a:p>
        </p:txBody>
      </p:sp>
      <p:sp>
        <p:nvSpPr>
          <p:cNvPr id="87" name="PlaceHolder 2"/>
          <p:cNvSpPr>
            <a:spLocks noGrp="1"/>
          </p:cNvSpPr>
          <p:nvPr>
            <p:ph/>
          </p:nvPr>
        </p:nvSpPr>
        <p:spPr>
          <a:xfrm>
            <a:off x="250560" y="1483920"/>
            <a:ext cx="8569080" cy="45687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The overall ACSM strategy consists of 2 parts:</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1. Country-level strategic communication (incl. communication, social mobilization and advocac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2. Global advocacy for increased political commitment and resource mob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5410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a:t>
            </a:r>
            <a:r>
              <a:rPr b="0" lang="en-GB" sz="3600" spc="-1" strike="noStrike">
                <a:solidFill>
                  <a:srgbClr val="ffffff"/>
                </a:solidFill>
                <a:latin typeface="Arial"/>
              </a:rPr>
              <a:t> </a:t>
            </a:r>
            <a:r>
              <a:rPr b="1" lang="en-GB" sz="3600" spc="-1" strike="noStrike">
                <a:solidFill>
                  <a:srgbClr val="ffffff"/>
                </a:solidFill>
                <a:latin typeface="Arial"/>
              </a:rPr>
              <a:t>communication</a:t>
            </a:r>
            <a:endParaRPr b="0" lang="en-US" sz="3600" spc="-1" strike="noStrike">
              <a:solidFill>
                <a:srgbClr val="000000"/>
              </a:solidFill>
              <a:latin typeface="Arial"/>
            </a:endParaRPr>
          </a:p>
        </p:txBody>
      </p:sp>
      <p:sp>
        <p:nvSpPr>
          <p:cNvPr id="89"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ection 1:</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untry-level strategic communication</a:t>
            </a:r>
            <a:endParaRPr b="0" lang="en-US" sz="32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mmunication</a:t>
            </a:r>
            <a:r>
              <a:rPr b="0" lang="en-GB" sz="3200" spc="-1" strike="noStrike">
                <a:solidFill>
                  <a:srgbClr val="cc0000"/>
                </a:solidFill>
                <a:latin typeface="Arial"/>
              </a:rPr>
              <a:t> </a:t>
            </a:r>
            <a:r>
              <a:rPr b="0" lang="en-GB" sz="2800" spc="-1" strike="noStrike">
                <a:solidFill>
                  <a:srgbClr val="cc0000"/>
                </a:solidFill>
                <a:latin typeface="Arial"/>
              </a:rPr>
              <a:t>to bring about behavioural and social chang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   </a:t>
            </a:r>
            <a:r>
              <a:rPr b="1" lang="en-GB" sz="3200" spc="-1" strike="noStrike">
                <a:solidFill>
                  <a:srgbClr val="cc0000"/>
                </a:solidFill>
                <a:latin typeface="Arial"/>
              </a:rPr>
              <a:t>Social mobilization</a:t>
            </a:r>
            <a:r>
              <a:rPr b="0" lang="en-GB" sz="3200" spc="-1" strike="noStrike">
                <a:solidFill>
                  <a:srgbClr val="cc0000"/>
                </a:solidFill>
                <a:latin typeface="Arial"/>
              </a:rPr>
              <a:t> </a:t>
            </a:r>
            <a:r>
              <a:rPr b="0" lang="en-GB" sz="2800" spc="-1" strike="noStrike">
                <a:solidFill>
                  <a:srgbClr val="cc0000"/>
                </a:solidFill>
                <a:latin typeface="Arial"/>
              </a:rPr>
              <a:t>to build a multi-sectoral respon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Advocacy</a:t>
            </a:r>
            <a:r>
              <a:rPr b="0" lang="en-GB" sz="3200" spc="-1" strike="noStrike">
                <a:solidFill>
                  <a:srgbClr val="cc0000"/>
                </a:solidFill>
                <a:latin typeface="Arial"/>
              </a:rPr>
              <a:t> </a:t>
            </a:r>
            <a:r>
              <a:rPr b="0" lang="en-GB" sz="2800" spc="-1" strike="noStrike">
                <a:solidFill>
                  <a:srgbClr val="cc0000"/>
                </a:solidFill>
                <a:latin typeface="Arial"/>
              </a:rPr>
              <a:t>to raise and sustain political and financial commitmen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1" name="PlaceHolder 2"/>
          <p:cNvSpPr>
            <a:spLocks noGrp="1"/>
          </p:cNvSpPr>
          <p:nvPr>
            <p:ph/>
          </p:nvPr>
        </p:nvSpPr>
        <p:spPr>
          <a:xfrm>
            <a:off x="53964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objective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support and develop strategies to achieve key behavioural and social changes that will contribute to sustainable increases in case detection and cure rate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provide guidance and TA for countries to develop strategic communication capacity</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help strengthen civil society advocacy capacity and mobilization of a broad set of partners in support of TB control efforts in HBC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foster participatory</a:t>
            </a:r>
            <a:r>
              <a:rPr b="1" lang="en-GB" sz="2400" spc="-1" strike="noStrike">
                <a:solidFill>
                  <a:srgbClr val="cc0000"/>
                </a:solidFill>
                <a:latin typeface="Arial"/>
              </a:rPr>
              <a:t> </a:t>
            </a:r>
            <a:r>
              <a:rPr b="0" lang="en-GB" sz="2400" spc="-1" strike="noStrike">
                <a:solidFill>
                  <a:srgbClr val="cc0000"/>
                </a:solidFill>
                <a:latin typeface="Arial"/>
              </a:rPr>
              <a:t>planning, management and evaluation practices at regional, national and sub-national level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3" name="PlaceHolder 2"/>
          <p:cNvSpPr>
            <a:spLocks noGrp="1"/>
          </p:cNvSpPr>
          <p:nvPr>
            <p:ph/>
          </p:nvPr>
        </p:nvSpPr>
        <p:spPr>
          <a:xfrm>
            <a:off x="468360" y="1341360"/>
            <a:ext cx="8229600" cy="467064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premises</a:t>
            </a:r>
            <a:endParaRPr b="0" lang="en-US" sz="32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ased on recent meta-analyses in other public health communications fields, well planned and resourced strategic communication could </a:t>
            </a:r>
            <a:r>
              <a:rPr b="0" i="1" lang="en-GB" sz="2800" spc="-1" strike="noStrike">
                <a:solidFill>
                  <a:srgbClr val="cc0000"/>
                </a:solidFill>
                <a:latin typeface="Arial"/>
              </a:rPr>
              <a:t>increase and sustain TB case detection and cure rates by 5-10%</a:t>
            </a:r>
            <a:r>
              <a:rPr b="0" lang="en-GB" sz="2800" spc="-1" strike="noStrike">
                <a:solidFill>
                  <a:srgbClr val="cc0000"/>
                </a:solidFill>
                <a:latin typeface="Arial"/>
              </a:rPr>
              <a:t> where quality services are assured.   </a:t>
            </a:r>
            <a:endParaRPr b="0" lang="en-US" sz="28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o achieve this outcome will require an estimated base investment of </a:t>
            </a:r>
            <a:r>
              <a:rPr b="0" i="1" lang="en-GB" sz="2800" spc="-1" strike="noStrike">
                <a:solidFill>
                  <a:srgbClr val="cc0000"/>
                </a:solidFill>
                <a:latin typeface="Arial"/>
              </a:rPr>
              <a:t>5% of NTP budgets, and up to 15% in complex situations </a:t>
            </a:r>
            <a:r>
              <a:rPr b="0" lang="en-GB" sz="2800" spc="-1" strike="noStrike">
                <a:solidFill>
                  <a:srgbClr val="cc0000"/>
                </a:solidFill>
                <a:latin typeface="Arial"/>
              </a:rPr>
              <a:t>of de-centralization, mobile populations, and high co-prevalence of TB-HIV, etc.</a:t>
            </a:r>
            <a:endParaRPr b="0" lang="en-US" sz="2800" spc="-1" strike="noStrike">
              <a:solidFill>
                <a:srgbClr val="000000"/>
              </a:solidFill>
              <a:latin typeface="Arial"/>
            </a:endParaRPr>
          </a:p>
          <a:p>
            <a:pPr marL="572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5"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target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08, at least 15 HBC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2, all HBCs and WHO region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5, participatory strategic communication will be a fully developed core component of TB control programme planning. </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By ?, civil society advocacy partners/partnerships active in nearly all HBC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7" name="PlaceHolder 2"/>
          <p:cNvSpPr>
            <a:spLocks noGrp="1"/>
          </p:cNvSpPr>
          <p:nvPr>
            <p:ph/>
          </p:nvPr>
        </p:nvSpPr>
        <p:spPr>
          <a:xfrm>
            <a:off x="468360" y="1483920"/>
            <a:ext cx="8229600" cy="4670280"/>
          </a:xfrm>
          <a:prstGeom prst="rect">
            <a:avLst/>
          </a:prstGeom>
          <a:noFill/>
          <a:ln w="0">
            <a:noFill/>
          </a:ln>
        </p:spPr>
        <p:txBody>
          <a:bodyPr lIns="90000" rIns="90000" tIns="46800" bIns="46800"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assumptions</a:t>
            </a:r>
            <a:endParaRPr b="0" lang="en-US" sz="32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1. Partnership will help broker bilateral funding for global and regional level planning, TA, monitoring and evaluation </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2. GFATM and bilaterals will provide bulk of funding for country-level ACS activities in short term and national governments increasingly in the longer term.</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3. Scale-up of ACS activities will benefit from  emphasis on innovative strategies like PPM and community-based DOTS that expand access to TB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risks</a:t>
            </a:r>
            <a:endParaRPr b="0" lang="en-US" sz="32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Few studies that have calculated the cost of TB ACS activities, esp. in relation to impact</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eak or nonexistent capacity in most HBCs at present to undertake strategic communication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source constraints lead to underfunded and poorly done ACS with limited or no impact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IV/AIDS, malaria and other public health threats crowd out and dilute TB communicatio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global level</a:t>
            </a:r>
            <a:endParaRPr b="0" lang="en-US" sz="3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0000"/>
                </a:solidFill>
                <a:uFillTx/>
                <a:latin typeface="Arial"/>
              </a:rPr>
              <a:t>ACSM-WG subgroup</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Strategic guidance to Board and STAG</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Gathering input from all relevant partner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echnical reviews, cost-effectiveness research</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rokering role for TA to countries </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velopment, testing and refinement of tool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semination of evidence, lessons learned</a:t>
            </a:r>
            <a:endParaRPr b="0" lang="en-US" sz="28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1.1 million/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9:18:59Z</dcterms:created>
  <dc:creator>johnsoneb</dc:creator>
  <dc:description/>
  <dc:language>en-US</dc:language>
  <cp:lastModifiedBy>Geoff</cp:lastModifiedBy>
  <dcterms:modified xsi:type="dcterms:W3CDTF">2005-05-02T10:59:42Z</dcterms:modified>
  <cp:revision>14</cp:revision>
  <dc:subject/>
  <dc:title>Slide 1</dc:title>
</cp:coreProperties>
</file>