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0C1-1472-41BF-9221-B1AB289C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5FC7-D4E6-45EA-9646-4CEFECF4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19E-37AF-40DE-8B50-E6213642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B15D-B10A-494A-8A55-F7EAA0C4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4BCB-DF5D-442F-AA0D-E0ABEC52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80EF-41BA-4B53-85A6-05D61837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183E-7DFA-4D49-8F60-6967F4B4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AF0D-44FD-4804-92ED-5BAEC55D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6E62-B80D-4907-AC7C-24FF8260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71BF-ECBC-44FA-AE03-E6B87304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0632-2F47-4720-B614-DC6AC307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E454-1D57-475D-8D6D-2F2DF659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C1BA-A999-497F-9678-1FD1CEF1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604F-583F-4430-9C47-E505F3F0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3961-15B6-49C7-94CF-90AD2CE8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5DBC-AA0B-4838-8DDD-FE49E5FF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73A4-50A8-45EF-B46D-90B1029B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8A5-8BBC-4E26-8215-8534DC4E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732-574C-4080-BEB0-9CA600FA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EE3-FAEB-40CF-878E-3E86FAB9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7542-75EF-4D63-8893-9DA0E759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A28-C5FF-4A3D-B42D-4F850163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625-8471-4654-97F0-ABEC80E1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433-2A30-4EB8-BE4A-519CD373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CD3D-5D2A-4A2C-AECC-338861D7BD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5794-5DA6-4799-BF16-4D8A0EF6C7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DEWG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preliminary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s Ababa 2 Ma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DOTS expansion implementation: milestones to 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3436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Trends in additional population to be covered by different approache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1641600"/>
            <a:ext cx="684072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treatment success rates 2002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628640"/>
          <a:ext cx="83534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83534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new smear positive case detection trends 2003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03280" y="1835280"/>
          <a:ext cx="7272360" cy="44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35280"/>
                    <a:ext cx="7272360" cy="44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cost for activities carried out by the DEW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7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1. Countries that intensified DOTS implementation already in 2004-2005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that sustained intensification and/or more efficient use of available resources in those countries will be sufficient to improve quality implies th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treated case in 2005 multiplied by number treated cases in a year = cost related to intensified DOTS that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cost increase proportional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2. Countries that need further intensification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e a typical district with a given population size (500,000) in a typical country in the region (e.g. a rural district in Ugan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required additional inputs in terms of HR, training, supervision, transport, supplies,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cost per 500,000 pop to be covered by intensified DOTS using country or regional cost data for abov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unit cost per population with population to be covered in country/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The Uganda / AFR example </a:t>
            </a:r>
            <a:br>
              <a:rPr sz="34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(DOTS intensification and community DOTS)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,000 $US per district (500,000 p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.1 $US per capi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0 million population in AFRhig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million per annum for DOTS quality improvement + community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pproach to costing new initiatives (step 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ypical additional inpu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additional population to be covered by the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between start up and running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: Costing additional PPM and community invol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"field level", PPM and Community DOTS costs the same or less than "conventional" D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up and running costs only in relation to "support structure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and guidelin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/ provincial focal points an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force / national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osts on country level and by population to be 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Objectives for DOTS Expansion 2006-201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chieve, sustain and go beyond the "70/85"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sure equitable access to quality TB care for all people with TB, especially the poor (increasing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o reach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ustain 2005 costs for DOTS quality improvement, when coverage is 100%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1484280"/>
          <a:ext cx="79531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9531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48360" y="3141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2708280"/>
            <a:ext cx="71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 for DOTS quality impro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270828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s for DOTS quality improvement and new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270828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2133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421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1916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e1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Specific objectives of the planning exerci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outline the expected DOTS expansion activities in the regions and in the world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estimate the resulting changes in case detection and treatment outcomes in regions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o provide above data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modelling of impact on TB prevalence and death rate (MD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Estimate the regional and global cost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Pas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/Feb 05: preparation of Montreux worksho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efine strategic activities to increase CD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f activities expansion (countries, reg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sultation with regions and som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n case detection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start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 05: Montreux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se estimates of activities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corporate TB/HIV and DOTS plus interaction with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ew estimates and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April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further consultation with regions and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orkshop in EMRO with key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reparation of the draf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re group of DEWG requests special teleconference to discuss th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Nex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y 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costing for countries and for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ncourage regional workshops (good preparation for cou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eleconference with 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put from sub-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mplet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n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estimates and cos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Global plan 2 to be presented to STAG and RA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 – O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rticulating DOTS Expansion – TB/HIV – DOTS plu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ct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presentation of the plan to Mega meeting Versa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DOTS Expansion scenar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"Optimistic and realistic"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t implementation of existing tools and strate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impact on case detection and treatment outcome of combined DEWG activities (DOTS coverage, DOTS quality improvement and new approach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rom activities to impact and cos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1628640"/>
            <a:ext cx="4608360" cy="36946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ddition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TS expansion activities in countries in relation to 2005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te DOTS coverage (after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d DOTS quality (HR, laboratory, supervision, drug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PM (int stand c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Community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capacity for Culture services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1628640"/>
            <a:ext cx="2016360" cy="11754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gional level out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atment su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1628640"/>
            <a:ext cx="2016000" cy="10598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pidemiological 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3213000"/>
            <a:ext cx="2016360" cy="21135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untry level cost un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to be t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population to be cov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5661000"/>
            <a:ext cx="4608360" cy="9169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Global and regional support for DOTS expansion, monitoring and evaluation and operational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3284640"/>
            <a:ext cx="1727280" cy="35535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x cost per treated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 covered x unit cost per population for activities under step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5661000"/>
            <a:ext cx="2016360" cy="6426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bal level cost 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20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29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609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5157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220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4000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verview of relevance of different types of DEWG related activit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686800" y="153036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2075040"/>
            <a:ext cx="72738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stimating increased case detection and success ra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 the expansion of activities that have an effect on case detection (increasing access) and cure (strengthening D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sultation with regions and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s in high burden countries and countries with significant proportion of case load i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 average relative increase in HBCs to non-HBCs in same region and calculate regional CD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05-02T07:56:50Z</dcterms:modified>
  <cp:revision>44</cp:revision>
  <dc:subject/>
  <dc:title>Slide 1</dc:title>
</cp:coreProperties>
</file>