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A0561-C573-4C4B-836C-C1888FB116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76240" y="738360"/>
            <a:ext cx="4913280" cy="3684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Partners share a Vision and a 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C97E-BE42-4146-819A-CD09EBB6B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CBBA-3D40-4C39-B0CA-49B9F9C8D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981E-3CC0-4567-B297-787858126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91B2-E31B-4909-A458-F75C5CE05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B6839-C61E-45C9-AFE7-FCD4E116B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7BEEB-9EE8-44A3-B492-A69016775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DDEEA-F0C3-423E-B1A7-D0F1D2A94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AF0CB-07D7-4C3B-B959-260B19108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89C7E-2ACB-4709-8630-161CB2281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B2116-3C2F-4490-9CDA-BDB0255CE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69EC0-4976-42C9-BDC5-E122CF35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AAD4-E214-4206-B3B6-CAD5EC329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0EC2C-770B-4E2A-8150-18D11661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797E7-C3FA-4132-96F9-1026DA06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69891-85AC-4BC9-B96C-6E03A3CFD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FDCD5-063B-49DA-BD24-BC65133E5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E9144-56AA-4969-9E82-A90EAD8A4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24FF-86C0-4D58-B5D0-4AD1766E4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8134-A058-4F26-AC87-63122146E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A491-D9E8-4399-A2E9-23E523419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47B0-24E3-4815-B863-7A6A2E232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AC55-4128-4D2C-9EB8-496DF2A9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D261-0225-417B-99D0-815C2A02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9EA9-C2CF-4720-A698-E0B2F46E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45DCD-6943-4161-8DBB-1A94B53DDF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F649A-831F-48DD-9427-6B1C954D33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Arial"/>
              </a:rPr>
              <a:t>A new MOU with WHO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Irene Koe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Stop TB Coordinating Bo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Addis Abab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3</a:t>
            </a:r>
            <a:r>
              <a:rPr b="1" lang="en-GB" sz="2400" spc="-1" strike="noStrike" baseline="30000">
                <a:solidFill>
                  <a:srgbClr val="ffffcc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 May 200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cisions Reques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Do we need a new MOU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Board is requested to discuss and decide whether a new MOU i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the answer is N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tatus quo is understood to prevai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cisions Reques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f the answer is YES; the Board has 2 options to proceed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tablish a negotiating committee of Members to lead discussions with WH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mpower the Secretariat to undertake discussions based on the attached draf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ATIO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have an MOU with WH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ensure mutual understanding of the adaptations and flexibility the Secretariat needs to carry out the CB approved work pl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arity for all concerned on how to address practical issues such as staffing, external correspondence (use of logo and letterhead)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 M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7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igned 2001 by WHO (DG) and STBCB (Chair 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ddresses operational aspects of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GDF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Validity to 31</a:t>
            </a:r>
            <a:r>
              <a:rPr b="0" lang="en-GB" sz="3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July 2003 but applied until a new agreement is negotiate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CERNS WITH CURRENT M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ut of date - refers to "appointments as time-limited until mid 2003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ly addresses GDF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es not reflect the establishment of the Trust F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es not fully address all relevant operational and management issues – staffing, use of logo and letterhead 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THEMES OF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MOU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gal and political aspe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gal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cretariat hosted/housed by WH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go &amp; Pub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THEMES OF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MOU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ucture of Secretariat within STB dep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k-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ministrative burd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orting, monitoring and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st-tra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THEMES OF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MOU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ff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ruitment of Executive Secre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ract brea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rm limits and quo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ffing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THEMES OF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MOU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lobal Drugs Fac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sic operating princi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nagement of the G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orting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chnical Review Committe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nder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THEMES OF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MOU 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ancial aspects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Trust Fu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SC rates (6% for Trust Fund, 3% for drug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rect procurement of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alidity of the new M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bakerl</cp:lastModifiedBy>
  <dcterms:modified xsi:type="dcterms:W3CDTF">2005-04-27T11:43:43Z</dcterms:modified>
  <cp:revision>35</cp:revision>
  <dc:subject/>
  <dc:title>Slide 1</dc:title>
</cp:coreProperties>
</file>