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688-1E69-4997-8ED7-9EC4723D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A5E-CDEF-4C19-A72D-DAD98C48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835-38C7-44C2-8F80-E174BFF5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FD9-D3E2-4747-8EE2-9B3BA34C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1028-8E87-46C4-8E17-6FAD0D4D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E41A-525C-473D-9441-523FE9C9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4AA1-3943-4F8D-88E5-5DDAA595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CCE6-B29B-450C-96D0-33731549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BAF4-508B-4A80-B6BD-EBD3DB68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BBFF-24FD-4C35-9E63-25817749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B00F-35BE-4B9B-831A-A6B782C5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384-ECF3-4413-B4A0-10EA57A4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109F-B28E-474B-BC28-1023B3D0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CD20-3153-4575-B95F-A4A823A8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21D5-BBD6-441E-BAA1-AE9CFC78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D343-19C8-48D0-A885-8C92CB02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52D7-0EE6-42AE-9E35-6ED0E602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61C-9183-4DC6-ADFE-1F877587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E4D-8E20-424D-859E-EECE97B9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8D8-4F3E-4264-BAD2-EF31A988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41C-3321-47A6-91C7-6C936735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661-C59D-4642-A3D0-D96B6D99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2D5-CC0F-4F6E-90F1-A02EE8F8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539-D716-4B6C-992C-AD8AFC24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B0A2-BE6B-4C0E-8D22-1F340FA88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E6D3-31EC-4FC7-B267-A64DAFDC9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THE GFATM: </a:t>
            </a:r>
            <a:br>
              <a:rPr sz="4400"/>
            </a:b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MAKING ROUND 5 COU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FATM Unit, TB Strategy and Operations, WHO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"Implementation"  Working Grou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OP TB Partnership Secretari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HOW MUCH FOR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: Bangladesh, Pakistan, Nigeria, Cambodia, Zimbabwe, Brazil, China, India Sudan, Vietnam  (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stimated TB Proposal Tot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$290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B components in HIV propos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ing the capacity to strongly engage with the GFATM, and to plan TA in advance (Early Warning System coord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implementation bottlenecks by providing support for project management, accounting, finance, logistics (HS streng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 BOARD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ard is reques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sources of fu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ontinue the GFATM focal point position in WHO in advance of Rou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o strengthen assistance to countries (technical and CCM) in the lead up to R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 the profile of TB in engaging at political level and with the GF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utting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Much for TB in R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le funding has increased 60% R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, TB funding has not in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proposals have been modest.  30% of all approved proposals are for TB yet overall funding for TB is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ATM reports global resource gaps for AIDS, Malaria, and TB at 77%, 17%, and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92720" y="1146600"/>
            <a:ext cx="80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  <a:ea typeface="SimSun"/>
              </a:rPr>
              <a:t>Figure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5320" y="6442200"/>
            <a:ext cx="1749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2 year bud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396720" y="6767640"/>
            <a:ext cx="59623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1413000"/>
            <a:ext cx="707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  <a:ea typeface="SimSun"/>
              </a:rPr>
              <a:t>$583 M         $886 M        $623 M         $968 M         $30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8920" y="1793880"/>
          <a:ext cx="8588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793880"/>
                    <a:ext cx="8588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2732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27320" y="3262320"/>
            <a:ext cx="555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27320" y="3262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2690640"/>
            <a:ext cx="635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27320" y="2119320"/>
            <a:ext cx="555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2732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8968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93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205000"/>
            <a:ext cx="627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01608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80996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6888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8880" y="2282760"/>
            <a:ext cx="698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68880" y="301608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3124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99160" y="492444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9160" y="1957320"/>
            <a:ext cx="709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31240" y="3098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99160" y="3098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31240" y="2282760"/>
            <a:ext cx="788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31240" y="1793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31240" y="1957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70080" y="1025640"/>
            <a:ext cx="48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6720" y="0"/>
            <a:ext cx="95407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omparison across round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wo year approved budget by diseas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FATM Unit – TBS – WHO -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technical support throughout R5 proc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bproposalhelp@who.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S Workshop in Ca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hop "Strategic Approaches to R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95360" y="291960"/>
            <a:ext cx="835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040" y="1254240"/>
            <a:ext cx="8136000" cy="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341360"/>
          <a:ext cx="799164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9916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4360" y="3789360"/>
            <a:ext cx="1079640" cy="2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716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038480"/>
            <a:ext cx="198144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1148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4495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8763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9051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1981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CALL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18763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ESULTS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92160" y="-208080"/>
            <a:ext cx="40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890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STRATEGIC APPROACH TO 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4572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TTING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8 countries plan to submit TB proposals in R5 (18HBC).  49 in R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8 countries are receiving technical support from Stop TB Part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6 consultants trained and deployed in th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RICA ROUN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4 Applying (8 HBC), 13 failed in R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ROUND 5 PRIORITIES in AFR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igeria &amp; Zimbab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9:18:59Z</dcterms:created>
  <dc:creator>johnsoneb</dc:creator>
  <dc:description/>
  <dc:language>en-US</dc:language>
  <cp:lastModifiedBy>johnsoneb</cp:lastModifiedBy>
  <dcterms:modified xsi:type="dcterms:W3CDTF">2005-05-11T09:02:35Z</dcterms:modified>
  <cp:revision>118</cp:revision>
  <dc:subject/>
  <dc:title>Slide 1</dc:title>
</cp:coreProperties>
</file>