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3E99-9C28-417B-8E9B-ACDDF6B5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E21E-D1BA-4171-A337-12EFB992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DF39-A7BA-4F29-9722-06F090C4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EF55-797C-487B-B982-239AA3A5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9B3D-558A-4F51-9061-1A86518B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4883-CA20-4F80-AD6C-71809A75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6837-D21E-43D4-83A8-AE6B1C33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95C3-7214-4193-A020-995BA53B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45BB-0EBE-4E48-8B0C-1501FDD6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A32D-9CC0-451B-B52F-FFB251E2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27E8-2EA2-4ECF-B595-506B1675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6A38-B599-4A26-867E-087CD61F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F84A-1AF7-4218-AECE-FB5F9CECD3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ixed feelings about DOTS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MS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3/05/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irectly Observed Therapy</a:t>
            </a:r>
            <a:br>
              <a:rPr sz="4000"/>
            </a:b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Essential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DOT alone vs Self Administered Treatment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lack of evidence (Cochrane revie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Feasibility?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6 month regi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ARV/AIDS experience-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ctive role of the pat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99880" y="2444760"/>
          <a:ext cx="8668080" cy="15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444760"/>
                    <a:ext cx="866808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04920" y="502920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No WHO pre-qualified drugs for 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No WHO pre-qualified 2nd line drugs</a:t>
            </a:r>
            <a:r>
              <a:rPr b="0" lang="fr-FR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457200"/>
            <a:ext cx="7239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ply of essential drug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Room for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80880" y="3505320"/>
          <a:ext cx="8483760" cy="143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05320"/>
                    <a:ext cx="848376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28600" y="685800"/>
            <a:ext cx="86868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Monitoring/ Evalu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ata Collection has its own challe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2819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eatment outcomes in projects supported by MS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TS has achieved a 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TS has evol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rand ambigu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xcl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R-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cognise difficul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ffff"/>
                </a:solidFill>
                <a:latin typeface="Arial"/>
              </a:rPr>
              <a:t>What we have is not enoug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agnostic tools for smear -, extra-pulmonary and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horter treatment, new me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versify adherence strate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Vac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chievements and Limita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chiev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Ambiguities with bran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Difficulties and limit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bservations and data from our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iscuss recent controversy over D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rder to Cha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egimes, procurement, repor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ocussed attention from Governments and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olitical W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OTS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®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Ambiguit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ame br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fferent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762120"/>
            <a:ext cx="8589960" cy="57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ction by sputum microsco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short course chemotherap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DOT by HC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“at least” all smear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nterrupted supply of essential dru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ing and reporting systems (smear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5 pillars (199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762120"/>
            <a:ext cx="85899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ction by sputum microscopy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(QC)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X-ray, cultures and D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short course chemotherapy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DOT by HCW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family, community,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ll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cas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RTB trea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nterrupted supply of </a:t>
            </a:r>
            <a:r>
              <a:rPr b="1" lang="en-GB" sz="2800" spc="-1" strike="noStrike">
                <a:solidFill>
                  <a:srgbClr val="00ffff"/>
                </a:solidFill>
                <a:latin typeface="Arial"/>
              </a:rPr>
              <a:t>drug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quality assured, FDC, 2</a:t>
            </a:r>
            <a:r>
              <a:rPr b="0" lang="en-GB" sz="24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ing and reporting systems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nabling outcome assessment of each patients, incorporating culture and DST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5 pillars </a:t>
            </a: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(200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Some of our difficulties with TB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98440" y="3346560"/>
          <a:ext cx="8601120" cy="177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3346560"/>
                    <a:ext cx="860112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33520" y="228600"/>
            <a:ext cx="8001000" cy="20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Case detectio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Exclus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13,323 patients in 52 projects supported by MSF 2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6668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roportions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80880" y="1828800"/>
          <a:ext cx="8382240" cy="44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38224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920" y="2286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andard SCC</a:t>
            </a:r>
            <a:br>
              <a:rPr sz="4400"/>
            </a:b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es one size fit al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21:38:51Z</dcterms:created>
  <dc:creator>MSFuser</dc:creator>
  <dc:description/>
  <dc:language>en-US</dc:language>
  <cp:lastModifiedBy>MSFUser</cp:lastModifiedBy>
  <dcterms:modified xsi:type="dcterms:W3CDTF">2005-05-04T13:03:37Z</dcterms:modified>
  <cp:revision>25</cp:revision>
  <dc:subject/>
  <dc:title>DOTS: The 5 pillars (1995)</dc:title>
</cp:coreProperties>
</file>