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EE7-CF07-4B62-9C9E-8B51AA67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71C-DA70-4BA3-933B-87E266FA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0C0-A6E5-4E8B-9713-2785194B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F1C-AA2F-43C0-8B5B-4D576128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5BC3-EC89-4CD8-9FC1-67231DEE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05DA-B9C5-45A9-81E0-4445667A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B7DF-43C5-4336-ABFF-547FDDCD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6F0B-AAD0-4D9D-8BB2-DB3F196D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D635-96A5-40BD-8FA8-F8E07AA6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3E1F-E889-4763-9152-19374682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4CA4-BDA2-45D2-80B5-ED699BE0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B1A-F4E1-401D-A372-8FAF3898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F330-FC80-477C-BD5F-D74BDEEF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DFB7-F102-42C2-AAF6-525BDC42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E652-3F5F-4CCF-93BF-F31501FA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8FA8-08BD-4FB9-9159-D0C8F080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28BC-974F-48D2-B08B-306E453D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FD16-8061-4EE0-ABB5-658E3669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F30-CE18-4306-AE5D-B2B7FD04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A79-C111-4B53-972D-B95006BB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943-7399-4C24-8E81-8F6C6793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FAA-21A2-4D10-B7F9-1043F5BB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F79-3B78-4E1A-9970-9A0CE125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52D0-0CBF-4644-BA46-A9566906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6664-B17C-4697-97C4-700E9F21E6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9F86-5ACB-42E3-ACBC-9A7970A220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724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3200"/>
            </a:b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National TB Control Programme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7632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Stop TB Pakista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Progresses and challen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43280" y="2705040"/>
            <a:ext cx="16448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B5B7-FECC-4910-82A6-0F43C265577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STOP TB Pakistan: the partner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Pakistan being the host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-Agencies Coordination Committee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ons/institutions named by at least 2 part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ation of CCM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928E-BCBB-48FF-81F3-852E3CE4C2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Progresses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 between WHO Pakistan  endors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s for set up of secretariat for one year secu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s of Executive secretary and one secretary  advert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plan for next six months developed on the basis of the available funds including mass media campaign by Good will ambassador (Dec 05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498-11DE-426C-9C69-6300202E81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halleng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ing with Earthquake v/s T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ng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TB control activities in Pakistan sustainabl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A2A0-1740-47C2-8947-578C39DBED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Future Needs of the Partnership Secretariat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stain Stop TB secretariat beyond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nhance the strength of the Secretariat (one Communication officer and one technical officer to be recruited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E14-C630-4C74-9F61-E3BD9A44E7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Tahoma"/>
              </a:rPr>
              <a:t>Thank you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19126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5FCB-787B-4590-A00D-41854DA578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0600" y="0"/>
            <a:ext cx="736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slamic Republic of Pakista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:140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/3rd below poverty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among the HBC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d 250,000 new TB cases each ye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E91-D3C2-470F-9053-ADBC9DA197A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Earth quake-8th October 20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           4 million affected in AJK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nd NWFP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&gt;86000 Deaths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2 million displace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071F-E653-4C54-B1DA-D2490E28A82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66680" y="139860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A62B-DCEA-4F22-8955-6FAFB289D91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7772400" cy="516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A4D-E171-4361-80C4-FBC3EC2191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1320840"/>
            <a:ext cx="7696440" cy="44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8F7-F410-4928-9CDE-51A1B367FD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Mr Wasim Akram presenting the National Stop TB Partnership</a:t>
            </a:r>
            <a:br>
              <a:rPr sz="32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ahore, 29th April 200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2700360"/>
            <a:ext cx="4496040" cy="30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796-2BC0-4CC7-A06F-8FB934C847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9800" y="536040"/>
            <a:ext cx="777096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top TB Pakistan to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bilise additional sustainable social &amp; polit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ordinate the implementation of the National strategy/plan developed by NTP for A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hance public and political perception of Stop TB Strate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gage non-traditional partners in the fight against TB and build alliances with other health and development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4368-5A4B-4562-9AA9-84A8579F14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talyzing approa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CC/ Social mobilization through GFA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private sector through GFATM/FIDELIS/ G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IACC by revisiting its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308F-C912-4248-9FAC-AA6162CE18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7:54:37Z</dcterms:created>
  <dc:creator/>
  <dc:description/>
  <dc:language>en-US</dc:language>
  <cp:lastModifiedBy>Waseem Abbas Qureshi</cp:lastModifiedBy>
  <cp:lastPrinted>1997-02-21T06:00:05Z</cp:lastPrinted>
  <dcterms:modified xsi:type="dcterms:W3CDTF">2005-11-10T13:33:34Z</dcterms:modified>
  <cp:revision>735</cp:revision>
  <dc:subject/>
  <dc:title>Tuberculosis Control and Prevention</dc:title>
</cp:coreProperties>
</file>