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B66C-D69D-4D76-A211-7729FB76E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37ED-ECCA-40DE-B231-E3CDE644A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B1BC-1B3D-404E-9D73-731A1C6C2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C7A-B9F8-4DEA-8E0C-43432C1F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0475-78E6-4EEF-892A-84FA5E87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B904-CFDB-455E-8E20-C1FEEF4A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3B0-791B-499C-9A74-EF0B1BAD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B4DC-4934-4A0B-ABB9-EA0906AC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8B3D-910B-407D-943C-3497A440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9BE-5587-4460-8ADC-13A477A8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2B9B-780B-4CE8-AD4E-5E6F08F8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D467-D3C3-4613-9E5B-25CAD498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6E7-CD23-4B8C-921B-B9B1D611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8306-9C17-444E-938D-6C0C7AA8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345-5793-4628-87E3-A965B013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ED1A-F641-451B-83B3-F2350E33D1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762120"/>
            <a:ext cx="708660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TB Control in Georg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chievements and Challen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Levan Juge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Deputy Minister of Labour, Health and Social Affairs of Geor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676520" cy="1138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8480" y="567072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Stop TB 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10-11 November 2005, Assisi, It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2286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676520"/>
            <a:ext cx="82296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oritization of Sputum Smear Microscopy for Case Det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the 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lity control by Supra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timization and equipment of the laboratory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ntrywide regular supervision and quality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914400"/>
          <a:ext cx="9169560" cy="54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6956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152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ulmonary TB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320" y="53352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057400"/>
            <a:ext cx="7620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lture based TB diagnosis is not performed routin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volvement of PHC in the case de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5335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057400"/>
            <a:ext cx="7848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treatment protocols based on WHO recommend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ful pilot project of PHC involvement in TB service in Shida Kart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“DOTS spots” in Tbil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320" y="45720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438280"/>
            <a:ext cx="8534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al DOT all over the count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w quality of cas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treatment for MDR-TB in Georg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2286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52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Treatment outcomes (Georgia, 1999-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068480"/>
          <a:ext cx="8067600" cy="53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8480"/>
                    <a:ext cx="806760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rug Supp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interrupted and regular first line anti-TB drugs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of 4 FDC anti-TB drug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9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ti-TB drugs are available on fre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74320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tional TB database on the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individualized TB reporting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 &amp; R control is a part of supervision country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66688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quality of reporting needs further impr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5335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pportunities for improving D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143000"/>
            <a:ext cx="800100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crease political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aise Public awareness about TB through Information, Education, Communication (IEC) campa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in PHC providers in DOTS strategy; implement DOTS services into PHC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vide food incentives for TB patients to ensure treatment adherenc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capacity of Program managers from central and regional lev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the strategy addressing TB/HIV co-inf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portunities for getting support from  the local author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990720"/>
          <a:ext cx="84960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90720"/>
                    <a:ext cx="8496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79280" y="40464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  <a:ea typeface="Arial"/>
              </a:rPr>
              <a:t>Case notification rates, per 100 000 population, 1980–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400800"/>
            <a:ext cx="601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Source: Global TB Control, WHO report 2005, WHO/HTM/TB/2005.34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lan for establishing DOTS+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conduct DRS survey  in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elaborate proposal to GLC and in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re is negotiation with MSF to initiate pilo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ey for second line drugs is available from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novation of the inpatient facility of the NCTBLD will be finished in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onors Assistanc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GOPA, KfW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first line TB drugs supply + technical as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WHO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– Technical assistance (DOTS coordin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USAID/MSCI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(improved case management, community involvement, follow-up from prisons, surveillanc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ERLIN/DFID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TB in general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ICRC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OTS in pri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GFATM</a:t>
            </a:r>
            <a:br>
              <a:rPr sz="2800"/>
            </a:b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Funding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tal funding requested – 6,962,99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Maximum – 5,536,965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2-year funding – 1,829, 21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BJECTIV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improve case detection and treatment success by DOTS expansion and involvement of the primary health care services in tuberculosis control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assure continuity of DOTS in prisons by taking over from the ICRC DOTS and DOTS-Plus activities in prisons by the year 2008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reduce the pool of MDR TB cases by introduction of DOTS-Plus strategy, starting as a pilot project from 2007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develop and partly implement a strategy to deal with the dual infection of TB and HIV/AIDS, in close collaboration with the AIDS cente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362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Thank you very m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for your atten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554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25040" y="304920"/>
            <a:ext cx="61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Tuberculosis incidence in FSU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4920" y="1555920"/>
          <a:ext cx="8610480" cy="47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55920"/>
                    <a:ext cx="8610480" cy="47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91440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Registered cases of  Tubercul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0"/>
            <a:ext cx="68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020600"/>
          <a:ext cx="8229600" cy="538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20600"/>
                    <a:ext cx="822960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Notification Rates , per 100 000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Georgia 1999-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3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Case Notification According to Sex and Age Groups in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8160" y="1085760"/>
          <a:ext cx="7900920" cy="516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085760"/>
                    <a:ext cx="790092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05120"/>
            <a:ext cx="78487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H identified TB as one of the major public health thr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 of the National TB Program (NTP) based on WHO recommendations (DOT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Guidelines and protocols of NTP have been develo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state financing of TB program has been improv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truction of  a new building for the National TB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CM is very active for coordinating TB control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8088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1132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t is primordial in the fight against TB to realize that this is a curable disease and it is a matter of systemized detection, consequent implementation of DOTS and prevention to minimize the prevalence of TB in the count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dra Elisabeth Roelofs, Ambassador of Stop TB Partn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457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133720"/>
            <a:ext cx="7848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tegration of TB services in general health services (Low involvement of PH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ak links between TB and HIV/AIDS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condition of  TB facility buildings and lack of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50:33Z</dcterms:created>
  <dc:creator>User</dc:creator>
  <dc:description/>
  <dc:language>en-US</dc:language>
  <cp:lastModifiedBy>PV002</cp:lastModifiedBy>
  <dcterms:modified xsi:type="dcterms:W3CDTF">2005-11-11T14:57:37Z</dcterms:modified>
  <cp:revision>85</cp:revision>
  <dc:subject/>
  <dc:title>PowerPoint Presentation</dc:title>
</cp:coreProperties>
</file>