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9EFB-FB99-4AFB-AD31-E166D09A4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E465-7150-44F5-8052-1BF251B7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F1EA-F670-49E3-967F-0547ACB4A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565D-2663-440A-B072-00072E10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4DA5-67BD-40D9-9781-B88EA3337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9F22-BE84-4E97-9425-4F42068A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F21E-A0D1-4859-987E-C5B2CC7A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AE27-E3AF-4E80-ACAA-A48DFAFC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F1BC-F1B5-4904-BD24-1C2A4991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A317-5D87-4702-8BAD-665F1E50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9365-4FBE-4FE1-95A1-75122299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C602-4EA0-4951-A033-0769B6F8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6552-BCFA-472A-B561-79DAAFDD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5CB2-1397-4EDB-9EDE-7056BF69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A80A-7446-4CB8-A157-AA7CE09D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AB39-132F-4705-B7CC-EB41C01B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87F3-46CB-4363-A0CE-F9A9D275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003A-6E1C-4A4E-9ACE-3B616732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4686-C236-4F44-9EB6-0EC756AA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F918-F8B7-44E4-884A-1B50F13D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AF19-63A3-4635-8697-1AE9241B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307A-7443-44B6-9F10-EDD3E6DA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E699-3995-4B90-9570-946BABF3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6445-A8D7-439B-9B4B-3AB142D8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5565-E150-481D-A4BB-6CDC6457D2C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C8FD-F8B5-42DF-BE79-BA635BD6D45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1280" y="1628640"/>
            <a:ext cx="8964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Tahoma"/>
              </a:rPr>
              <a:t>THE GLOBAL PLAN: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Tahoma"/>
              </a:rPr>
              <a:t>THE COST OF GLOBAL TB CONTRO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Giorgio Roscign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oordinating Board Meeting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0 November, 2005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ssis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Financing </a:t>
            </a:r>
            <a:br>
              <a:rPr sz="3600"/>
            </a:b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implication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Plan to be used for resource mobilis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mplications for national governm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mplications for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465280" y="905040"/>
            <a:ext cx="4224600" cy="59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esentation o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lobal Plan to Stop TB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7080" y="1413000"/>
            <a:ext cx="867564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Outline of presentation on the Global Pl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ackground: the planned achievemen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os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messag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Financing implic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Ten years' planned achievements: highlights of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50 million people treated for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14 million lives sav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Stop TB Partnership targets for 2015 achieved global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Tremendous progress in all reg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First new TB drug for 40 years in 2010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Diagnostics at point of care – rapid, sensitive and inexpensive TB diagnosis by 2010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New, safe, effective and affordable vaccine by 201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Global Plan </a:t>
            </a:r>
            <a:br>
              <a:rPr sz="3600"/>
            </a:b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cos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Country needs, R &amp;D, external agenc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nvestment according to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Available funding and g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8569080" cy="512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8713800" cy="49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896472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Key messag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40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A global plan for a global campaig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$56 billion investment yields large rewards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50 million TB patients trea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14 million lives sav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Need to collaborate with others to succe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The ultimate goal depends on continued innovation (in vaccines, drugs and diagnostic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We can get there! PLAN X RESOURCES = RESULT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maherd</cp:lastModifiedBy>
  <dcterms:modified xsi:type="dcterms:W3CDTF">2005-11-08T16:48:53Z</dcterms:modified>
  <cp:revision>146</cp:revision>
  <dc:subject/>
  <dc:title>Slide 1</dc:title>
</cp:coreProperties>
</file>