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4074-4846-4D2D-8539-EC00B5A9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B46E-0E95-4431-9D7B-C0750457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DD0D-DD9B-445D-916A-6A00C0607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4696-0B71-4C39-9234-F2394F9D0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0B56-F7C9-4E90-81FB-B524DB75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592F-C95D-4A20-A51C-635E1F61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CAE4-669A-4197-B942-C19F4DBD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BC28-2875-4717-80CC-063B5747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A9B7-2B1B-4F1C-8EB5-16AFAA8A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9B33-ED52-4A4C-A0EB-E34E864E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31CC-3C37-4C8B-8CD4-2896A014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9397-AA07-42CF-9F51-F197B0E5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0F1B-02C1-488B-8B55-1A5134052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24360" y="228600"/>
            <a:ext cx="5067360" cy="6629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5410080" y="2133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"/>
            <a:ext cx="3352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stimated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3, 0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ll cases of TB no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 2004: 105, 7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+ PTB:  41,467( 39% of all cas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se notification rate: All 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20/100,000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se notification rate S+ P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25/1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stimated HIV prevalence in TB Patients  -over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DRTB – Less than 1% of smear + P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2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utum sm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icroscopy centres (1/54, 000 pop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49640" y="3952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Expected Donor Support to NLTP -200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066680"/>
          <a:ext cx="8229600" cy="5708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FATM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PFAR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AID ( non PEPF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alian Gr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( Biennium)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DF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D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GAC/WHO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7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unding Needs - 20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295280"/>
          <a:ext cx="8229600" cy="5329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stimated Need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vailable Funds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ap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S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 6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00,000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1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 8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2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6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TS-Expansion and Qua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09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TS-P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96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960,000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45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66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79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arious funding status for the TB          (TB/HIV) control effort in Ke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ignificant funding 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itional financial resources should be coupled with strengthened capacity to utilize the resources ( responsive in country fund disbursement system and additional H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9:49:39Z</dcterms:created>
  <dc:creator>Dr Chakaya</dc:creator>
  <dc:description/>
  <dc:language>en-US</dc:language>
  <cp:lastModifiedBy>user</cp:lastModifiedBy>
  <dcterms:modified xsi:type="dcterms:W3CDTF">2005-11-10T13:54:18Z</dcterms:modified>
  <cp:revision>4</cp:revision>
  <dc:subject/>
  <dc:title>Slide 1</dc:title>
</cp:coreProperties>
</file>