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67EC2-867C-46DF-B7BA-8E0C2A63AA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ll 22 HBC, we have identified the main technical collaborator and the other key partn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3EDF-AF87-49A4-8A35-706E3CC76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1EB1-99E9-4661-BFD9-0E931DE64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096B-6F45-4EE1-B10F-B6BA75E97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ADA3-6FDF-41DC-A6B3-30893A866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8CE9-E420-4133-BE93-FE71D7A1C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DAB0-CFEE-4E98-96C0-008C073A2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5461-338B-4C81-A5AD-673A89FF9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44FD-37AC-4508-A4B3-0384A61F5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138E-1BF4-44A5-A730-5A37AB12F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81BC-F7F3-4582-8681-133ECDECE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AE0E-22F5-41F2-9D12-04BD039C7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927C-A702-45E1-BF85-82E3765E1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D8F10-8DD2-48B0-81FB-23EB0473A3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Building a partners flagship mechanism to support countries </a:t>
            </a:r>
            <a:r>
              <a:rPr b="1" lang="en-GB" sz="3200" spc="-1" strike="noStrike">
                <a:solidFill>
                  <a:srgbClr val="cc0000"/>
                </a:solidFill>
                <a:latin typeface="Arial"/>
              </a:rPr>
              <a:t>for the implementation of the GPST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2924280"/>
            <a:ext cx="8229600" cy="32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How to translate money into increased capacity to control T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eremiah Chakay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éopold Blan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lgosia Grzems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Support to countries: scope of the GPST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rnational staff: include expertise in different areas, DOTS, Lab, TB/HIV, MDR, ACSM, OR etc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PO: national programme officers include expertise in different areas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dministrative support is key in the process for planning, monitoring and repor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16920"/>
            <a:ext cx="7199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79280" y="755640"/>
          <a:ext cx="8785440" cy="5553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755640"/>
                    <a:ext cx="8785440" cy="555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Country support estimates inclu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78920" y="1600200"/>
            <a:ext cx="8713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ding for activities such as global/regional training to build countries capa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etings to monitor progresses and exchange experi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 external monitoring to discuss problems and sol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act 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ing new approaches, operational re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icy development, tools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ocacy and communication, social mobilis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Estimated HR needs for country sup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rnational staff: support beyond 22 HB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lobal and regional M&amp;E, policy development, OR etc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rom 150 to 350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 150 at global/regional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 200 in countries/sub-reg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PO: support beyond 22 HB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rom 80 to 525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 1 or more in each H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 10 to 50 in large countr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Way forwa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351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stablish a "</a:t>
            </a:r>
            <a:r>
              <a:rPr b="1" lang="en-GB" sz="2400" spc="-1" strike="noStrike">
                <a:solidFill>
                  <a:srgbClr val="cc3300"/>
                </a:solidFill>
                <a:latin typeface="Arial"/>
              </a:rPr>
              <a:t>coordination body for country suppor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Stop TB coalition for Technical Assistanc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quests from countries/regions/partners are collected and treat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nk by e-m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 within secretariat of "implementation" W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st more staff at country and regional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stablish a sharing system of reports (web lin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nk "strongly" with GFATM portefolio manag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orkshop for consultants in December 2005  (GFAT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pare annual plan for country support which includes all aspects (TB/HIV, LAB etc..) and builds on existing partners involvement (in January 20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Way forwa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nual meeting of key agencies (including regional level) to discuss the global plan to support countries for the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d channelled directly to relevant organizations and through the trust fund of the Stop TB partnership secretari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y in more detail the needs of countries to define better number of experts or consultants to support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ress urgently laboratory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698400"/>
            <a:ext cx="822960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Major challenges for laborat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64072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a5002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3053"/>
                </a:solidFill>
                <a:latin typeface="Arial"/>
                <a:ea typeface="굴림"/>
              </a:rPr>
              <a:t>Human resources</a:t>
            </a:r>
            <a:r>
              <a:rPr b="0" lang="en-US" sz="1800" spc="-1" strike="noStrike">
                <a:solidFill>
                  <a:srgbClr val="113053"/>
                </a:solidFill>
                <a:latin typeface="Arial"/>
                <a:ea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49"/>
              </a:spcBef>
              <a:buClr>
                <a:srgbClr val="1130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3053"/>
                </a:solidFill>
                <a:latin typeface="Arial"/>
                <a:ea typeface="굴림"/>
              </a:rPr>
              <a:t>Limited availability of experts at international, regional and national lev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49"/>
              </a:spcBef>
              <a:buClr>
                <a:srgbClr val="1130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3053"/>
                </a:solidFill>
                <a:latin typeface="Arial"/>
                <a:ea typeface="굴림"/>
              </a:rPr>
              <a:t>Limited human resources at WHO Regional and Country Offic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a5002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053"/>
                </a:solidFill>
                <a:latin typeface="Arial"/>
                <a:ea typeface="굴림"/>
              </a:rPr>
              <a:t>Financial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49"/>
              </a:spcBef>
              <a:buClr>
                <a:srgbClr val="1130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113053"/>
                </a:solidFill>
                <a:latin typeface="Arial"/>
                <a:ea typeface="굴림"/>
              </a:rPr>
              <a:t>Limited financial resources at the international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49"/>
              </a:spcBef>
              <a:buClr>
                <a:srgbClr val="1130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3053"/>
                </a:solidFill>
                <a:latin typeface="Arial"/>
                <a:ea typeface="굴림"/>
              </a:rPr>
              <a:t>Insufficient allocation of financial resources at country lev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a5002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3053"/>
                </a:solidFill>
                <a:latin typeface="Arial"/>
                <a:ea typeface="굴림"/>
              </a:rPr>
              <a:t>Planning and implementation</a:t>
            </a:r>
            <a:r>
              <a:rPr b="1" lang="en-US" sz="2000" spc="-1" strike="noStrike">
                <a:solidFill>
                  <a:srgbClr val="113053"/>
                </a:solidFill>
                <a:latin typeface="Arial"/>
                <a:ea typeface="굴림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49"/>
              </a:spcBef>
              <a:buClr>
                <a:srgbClr val="1130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3053"/>
                </a:solidFill>
                <a:latin typeface="Arial"/>
                <a:ea typeface="굴림"/>
              </a:rPr>
              <a:t>Suboptimal planning, implementation and monitoring of laboratory improvement plans at Regional and country lev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a5002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3053"/>
                </a:solidFill>
                <a:latin typeface="Arial"/>
                <a:ea typeface="굴림"/>
              </a:rPr>
              <a:t>Suboptimal coordination among partners to ensure effective prog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a5002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3053"/>
                </a:solidFill>
                <a:latin typeface="Arial"/>
                <a:ea typeface="굴림"/>
              </a:rPr>
              <a:t>Raise awareness of the crucial role of laboratory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Proposal from the SLCS </a:t>
            </a:r>
            <a:br>
              <a:rPr sz="4000"/>
            </a:b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sub-grou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11305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3053"/>
                </a:solidFill>
                <a:latin typeface="Arial"/>
              </a:rPr>
              <a:t>Provide the subgroup the status of a Working Group on Laboratory Capacity Strengthe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305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11305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3053"/>
                </a:solidFill>
                <a:latin typeface="Arial"/>
              </a:rPr>
              <a:t>Provide sufficient financial resources to start implementing Global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3053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13053"/>
                </a:solidFill>
                <a:latin typeface="Arial"/>
              </a:rPr>
              <a:t>This undertaking will ensure continues leadership, coordinatio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13053"/>
                </a:solidFill>
                <a:latin typeface="Arial"/>
              </a:rPr>
              <a:t>and guidance to accelerate expansion of laboratory capa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13053"/>
                </a:solidFill>
                <a:latin typeface="Arial"/>
              </a:rPr>
              <a:t>including access to culture and D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c0000"/>
                </a:solidFill>
                <a:latin typeface="Arial"/>
              </a:rPr>
              <a:t>Immediate needs to start scaling up laboratory capacity strengthe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8496360" cy="48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tandardization of documents 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. Assessment of laboratory networks: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Support to countri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. Support to Regions and Countries in planning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Train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 Monitoring and evalu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 Meeting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8. Technical Assistance and Coordination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    2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9. Support to the Supranational Reference Laboratory Network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OTAL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     5700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Request to the boa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964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mments and guidance on the Stop TB coalition for 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mments and decision on the request fo the SL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9152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Support to countries in the Global DOTS Expansion Plan 20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234900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5 year National strategic plan based on country needs and on National Health Development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1 year National operational plan based on the strategic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 ICC convened by the NTP to support the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technical agency supporting the country on strategic and technical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-360360" y="1484280"/>
          <a:ext cx="7229520" cy="483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60360" y="1484280"/>
                    <a:ext cx="7229520" cy="48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9280" y="425160"/>
            <a:ext cx="878544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National Coordination (ICC): status in 22 HB countr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6720" y="1956960"/>
            <a:ext cx="8266320" cy="343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35000"/>
              </a:lnSpc>
              <a:spcBef>
                <a:spcPts val="5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916360" y="1666800"/>
            <a:ext cx="2950920" cy="43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Russia*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CC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DC, DFID, GTZ, KNCV, OSI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IH, USAID, WB,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WHO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3657600"/>
            <a:ext cx="3780000" cy="100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Cambodia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CC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IDA,  JATA,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JIC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RIT, USAID, WB,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W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China*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ICC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IDA, DFB,  DFID, GFATM, Japan, KNCV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WB,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W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Philippines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CC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DC, CIDA,  JICA, USAID, WB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WHO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Vietnam*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CC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DC, 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KNCV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NL, WB, W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796000" y="1773360"/>
            <a:ext cx="3348000" cy="159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angladesh*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CC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RAC, CIDA , DFB, USAID, WB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WHO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India*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            (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CC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IDA,  DFID, DANIDA, GFATM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GLRA, USAID,  WB,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WHO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Indonesia*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STB P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B, AUSAID, CIDA, GFATM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KNCV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 NL, USAID,  WB,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W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Myanma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CC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UATL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UNDP,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WHO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Thailand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 ICC  CDC, GFATM, W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124000" y="4653000"/>
            <a:ext cx="4176720" cy="2031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Ethiopia*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CC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FATM, GLRA,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NCV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NL, WB,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W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DR Congo*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CC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FB, 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IUATL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TLMI, USAID, W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Kenya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CC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DC, FHI, 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KNCV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NLR, WB, W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Mozambique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 ICC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GLRA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 ,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WHO,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KNCV, IUATL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Nigeria*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CC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DFB, GLRA, KNCV, NLR, IUATLD, WB,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 W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S. Africa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 ICC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DC, DFID,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UATL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KNCV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USAID, W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Tanzania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CC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LRA, 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KNCV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SWISS, WB, W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Uganda*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CC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FID, GLRA, ICD,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UATL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TLMI,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W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Zimbabwe*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o ICC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UATLD,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W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4165560"/>
            <a:ext cx="2411280" cy="509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Brazil*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STB P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DC, DFB, GLRA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UATLD, USAID,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WHO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673520" y="3124080"/>
            <a:ext cx="541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03280" y="2819520"/>
            <a:ext cx="3097440" cy="79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Afghanistan*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;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CC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LRA, ICD, MEDAIR, NOR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 W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Pakistan*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TB P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FID,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LRA, ICD, IUATLD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JICA, WB,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 W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35000" y="1447920"/>
            <a:ext cx="2778120" cy="852840"/>
          </a:xfrm>
          <a:prstGeom prst="rect">
            <a:avLst/>
          </a:prstGeom>
          <a:solidFill>
            <a:srgbClr val="ffe8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66cc"/>
                </a:solidFill>
                <a:latin typeface="Humanst521 Cn BT"/>
              </a:rPr>
              <a:t>- </a:t>
            </a:r>
            <a:r>
              <a:rPr b="1" lang="en-GB" sz="1400" spc="-1" strike="noStrike">
                <a:solidFill>
                  <a:srgbClr val="3366cc"/>
                </a:solidFill>
                <a:latin typeface="Arial"/>
              </a:rPr>
              <a:t>Government leads N-IC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66cc"/>
                </a:solidFill>
                <a:latin typeface="Arial"/>
              </a:rPr>
              <a:t>- ICC coordinates partn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66cc"/>
                </a:solidFill>
                <a:latin typeface="Arial"/>
              </a:rPr>
              <a:t>- WHO facilitate Gvt and partners </a:t>
            </a:r>
            <a:r>
              <a:rPr b="1" lang="en-GB" sz="14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3366cc"/>
                </a:solidFill>
                <a:latin typeface="Arial"/>
              </a:rPr>
              <a:t>effo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0400" y="6346800"/>
            <a:ext cx="24116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Humanst521 Cn BT"/>
              </a:rPr>
              <a:t> </a:t>
            </a:r>
            <a:r>
              <a:rPr b="1" lang="en-US" sz="1400" spc="-1" strike="noStrike">
                <a:solidFill>
                  <a:srgbClr val="333333"/>
                </a:solidFill>
                <a:latin typeface="Humanst521 Cn BT"/>
              </a:rPr>
              <a:t>WHO office in all count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Humanst521 Cn BT"/>
              </a:rPr>
              <a:t>* : WHO TB staf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Current coordination: 200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ry coordination mee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on of country missions every other we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areas of TB work (TB/HIV, MDR-TB, GDF, etc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yond the 22 HB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regions and key technical agencies (Union, KNCV, CDC, GLRA, DFB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ication of a "coordinating agency" for each of the HBC and some other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BCTA/TB-CAP coordination linked with DEWG coord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Proble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gular information exchange from agencies and reg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FATM not sufficiently link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ifferent missions in countries (it increases the demand at country leve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orts of visits not fully exploited (weak system to share them, with the exception of the Un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Situation analy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8435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d demand from countries (73 countries have GFATM grants, new WB loans/gran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overall pla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management etc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broader scope: DOTS+, TB/HIV, Lab, PPM, CTBC etc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ak coordination and response in certain field (lab for example..) and countries other than 2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74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ttle funds to increase capacity to respond (ISAC, TBCTA, Back-up initiative, CIDA), some new perspective: TB-CAP (country leve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GPSTB2: estimated needs average per year 2006-200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826920" y="1830240"/>
          <a:ext cx="74170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830240"/>
                    <a:ext cx="74170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492360" y="3789360"/>
            <a:ext cx="1854360" cy="520200"/>
          </a:xfrm>
          <a:prstGeom prst="rect">
            <a:avLst/>
          </a:prstGeom>
          <a:noFill/>
          <a:ln w="22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Health care system for T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492360" y="4292640"/>
            <a:ext cx="1854360" cy="520200"/>
          </a:xfrm>
          <a:prstGeom prst="rect">
            <a:avLst/>
          </a:prstGeom>
          <a:noFill/>
          <a:ln w="22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Human resources for T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058080" y="3733920"/>
            <a:ext cx="1676160" cy="520200"/>
          </a:xfrm>
          <a:prstGeom prst="rect">
            <a:avLst/>
          </a:prstGeom>
          <a:noFill/>
          <a:ln w="22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TB control activ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806560" y="3962520"/>
            <a:ext cx="635040" cy="88920"/>
          </a:xfrm>
          <a:prstGeom prst="rightArrow">
            <a:avLst>
              <a:gd name="adj1" fmla="val 50000"/>
              <a:gd name="adj2" fmla="val 178543"/>
            </a:avLst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914400" y="3733920"/>
            <a:ext cx="1854360" cy="520200"/>
          </a:xfrm>
          <a:prstGeom prst="rect">
            <a:avLst/>
          </a:prstGeom>
          <a:noFill/>
          <a:ln w="22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National financial resources for T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372280" y="4051440"/>
            <a:ext cx="634680" cy="88920"/>
          </a:xfrm>
          <a:prstGeom prst="rightArrow">
            <a:avLst>
              <a:gd name="adj1" fmla="val 50000"/>
              <a:gd name="adj2" fmla="val 178441"/>
            </a:avLst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070680" y="2044800"/>
            <a:ext cx="1676160" cy="1690200"/>
          </a:xfrm>
          <a:prstGeom prst="rect">
            <a:avLst/>
          </a:prstGeom>
          <a:noFill/>
          <a:ln w="4752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Needs for TB control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492360" y="3213000"/>
            <a:ext cx="1854360" cy="520200"/>
          </a:xfrm>
          <a:prstGeom prst="rect">
            <a:avLst/>
          </a:prstGeom>
          <a:noFill/>
          <a:ln w="22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Increased capacity for TB contr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914400" y="2070000"/>
            <a:ext cx="1854360" cy="1600560"/>
          </a:xfrm>
          <a:prstGeom prst="rect">
            <a:avLst/>
          </a:prstGeom>
          <a:noFill/>
          <a:ln w="475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New financial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492360" y="5734080"/>
            <a:ext cx="1841760" cy="520200"/>
          </a:xfrm>
          <a:prstGeom prst="rect">
            <a:avLst/>
          </a:prstGeom>
          <a:noFill/>
          <a:ln w="22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Support to countries additional capac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rot="21391200">
            <a:off x="3110040" y="4965480"/>
            <a:ext cx="293400" cy="888840"/>
          </a:xfrm>
          <a:custGeom>
            <a:avLst/>
            <a:gdLst/>
            <a:ahLst/>
            <a:rect l="l" t="t" r="r" b="b"/>
            <a:pathLst>
              <a:path w="113" h="568">
                <a:moveTo>
                  <a:pt x="105" y="568"/>
                </a:moveTo>
                <a:cubicBezTo>
                  <a:pt x="52" y="479"/>
                  <a:pt x="0" y="391"/>
                  <a:pt x="1" y="296"/>
                </a:cubicBezTo>
                <a:cubicBezTo>
                  <a:pt x="2" y="201"/>
                  <a:pt x="57" y="100"/>
                  <a:pt x="113" y="0"/>
                </a:cubicBezTo>
              </a:path>
            </a:pathLst>
          </a:custGeom>
          <a:noFill/>
          <a:ln w="316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rot="21285600">
            <a:off x="2868120" y="4349880"/>
            <a:ext cx="522360" cy="1670040"/>
          </a:xfrm>
          <a:custGeom>
            <a:avLst/>
            <a:gdLst/>
            <a:ahLst/>
            <a:rect l="l" t="t" r="r" b="b"/>
            <a:pathLst>
              <a:path w="113" h="568">
                <a:moveTo>
                  <a:pt x="105" y="568"/>
                </a:moveTo>
                <a:cubicBezTo>
                  <a:pt x="52" y="479"/>
                  <a:pt x="0" y="391"/>
                  <a:pt x="1" y="296"/>
                </a:cubicBezTo>
                <a:cubicBezTo>
                  <a:pt x="2" y="201"/>
                  <a:pt x="57" y="100"/>
                  <a:pt x="113" y="0"/>
                </a:cubicBezTo>
              </a:path>
            </a:pathLst>
          </a:custGeom>
          <a:noFill/>
          <a:ln w="316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3336840" y="4915080"/>
            <a:ext cx="92160" cy="88560"/>
          </a:xfrm>
          <a:prstGeom prst="line">
            <a:avLst/>
          </a:prstGeom>
          <a:ln w="22320">
            <a:solidFill>
              <a:srgbClr val="cc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298680" y="4190760"/>
            <a:ext cx="117720" cy="158760"/>
          </a:xfrm>
          <a:prstGeom prst="line">
            <a:avLst/>
          </a:prstGeom>
          <a:ln w="31680">
            <a:solidFill>
              <a:srgbClr val="cc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89280" y="444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 Unicode MS"/>
                <a:ea typeface="Arial Unicode MS"/>
              </a:rPr>
              <a:t>Increasing absorptive capac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787320" y="158760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8760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"/>
          <p:cNvSpPr/>
          <p:nvPr/>
        </p:nvSpPr>
        <p:spPr>
          <a:xfrm rot="19578000">
            <a:off x="5338800" y="3063600"/>
            <a:ext cx="711000" cy="88920"/>
          </a:xfrm>
          <a:prstGeom prst="rightArrow">
            <a:avLst>
              <a:gd name="adj1" fmla="val 50000"/>
              <a:gd name="adj2" fmla="val 199899"/>
            </a:avLst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rot="19224000">
            <a:off x="5253120" y="3571560"/>
            <a:ext cx="904680" cy="90360"/>
          </a:xfrm>
          <a:prstGeom prst="rightArrow">
            <a:avLst>
              <a:gd name="adj1" fmla="val 50000"/>
              <a:gd name="adj2" fmla="val 250299"/>
            </a:avLst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rot="19510800">
            <a:off x="5410440" y="3345840"/>
            <a:ext cx="41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43280" y="3213000"/>
            <a:ext cx="504720" cy="36036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Support to countries: scope of the GPST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lobal and regional capacity buil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rategic and technical direct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country capacity buil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nitoring and evaluation (include impac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ordination (global, regional, count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dvocacy and commun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licy development and operational re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06:42:27Z</dcterms:created>
  <dc:creator>Knut Lönnroth</dc:creator>
  <dc:description/>
  <dc:language>en-US</dc:language>
  <cp:lastModifiedBy>Leopold Blanc</cp:lastModifiedBy>
  <dcterms:modified xsi:type="dcterms:W3CDTF">2005-11-10T13:06:02Z</dcterms:modified>
  <cp:revision>84</cp:revision>
  <dc:subject/>
  <dc:title>Slide 1</dc:title>
</cp:coreProperties>
</file>