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</p:sldIdLst>
  <p:sldSz cx="9144000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0"/>
          </p:nvPr>
        </p:nvSpPr>
        <p:spPr>
          <a:xfrm>
            <a:off x="-3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1"/>
          </p:nvPr>
        </p:nvSpPr>
        <p:spPr>
          <a:xfrm>
            <a:off x="388440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AA3C-658F-4684-9395-A3DD2D8FBE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ufficient clinical trial sites that meet GCP/GMP standards with trained personnel, sound infrastructure and appropriate procedures for patient recruitment, compliance and retention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Harmonized regulatory guidelines, including fast-track approv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 robust and sustained pipeline of new drug candidates and back-up program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nimal models and validated surrogate markers broadly adopted by TB drug developers to aid in early identification of promising versus unpromising candidates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Biomarkers and surrogate endpoints to aid translational research and speed clinical development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esting programs that enable more rapid and precise dose selection and optimization of complementary drug combina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361E4-C6E5-4335-832F-826E5E5BFA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C71BA-FF53-461E-B2F9-E071610E74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3F4FC-1E23-4759-BF78-A5608F26B8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D3D67-EB20-421E-86A5-A3AAC256C4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3EBB6-01B7-4A32-93BB-C52B3BB7EF9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2D279-E5BC-4786-AD87-C106C265714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BA344-F8FF-4580-8820-F73D2A755DA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E81A6-8072-44E1-94A8-D28B1B92637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E303A-9C3B-4465-B9F9-2B68838DB29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2CCA6-0ADA-46AB-A732-3A2F26F066B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64C15-8DCA-4E87-884F-C4B7B39E88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E3135-F076-4F92-A804-F42B2B7068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E37BA-8789-46F8-BA21-347552A25C1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6E827-4E27-465C-A3C1-0841A52461E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71CC7-DB6A-49A1-8B61-FF74F49428E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B5363-BF97-48B2-95C0-07CA5BD1436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A2568-AAB4-4056-9297-CE6BA3A4422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CD4D8D-53DA-45FD-B086-AA9A9EF2D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DEA52C-9152-471E-9DFE-EC5A074A4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FCA83A-4F7D-41E8-B4E1-42E478964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30567A-87CE-4B67-BAA4-21A4F6137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731545-74CB-4BA8-9CDE-324E010C8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7E0F7-99E3-4609-90C6-FA2D2F6B193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E9BE87-CC3D-40D9-8AEE-9196E9624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3DBEF1-AD46-42F3-954D-11871F68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FADF41-56F3-4C5F-90C4-0988A65D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FF4988-70C8-4B37-8569-336034E9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ACAC98-30A4-4E97-9719-DF055A6BB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94870D-257A-4377-B1FA-9A468BC1B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23CE97-8986-4546-B558-2FB155358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3D6B86-C01F-438C-B701-75391A89D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2BC7B4-3D83-402D-9114-F9661AA97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834188-8693-4A79-A313-01C7BACE6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B4763-3168-4A89-8DC6-2490EBE7711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2AA8C3-C77B-4AC5-BC23-527ACFA1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70070A-E50B-4D10-94C8-99ECDB781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374791-BD6F-4A83-A425-E28DF4018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3A8CC9-DD65-40B9-99F9-8AA0A690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6D0B3E-17EA-467E-B4C0-268D8427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FAA773-4D63-4675-963B-65A324E7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8753E9-08E0-425F-B603-99BFD2F64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20CB01-9AAB-4BAF-97A5-9FE495E0F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0945AF-7BF0-4D1A-A652-2CF5DFFEB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581FE-0420-4655-A50A-C33DDE71A1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CDE61-88D6-47A0-8911-E5FE4C0965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FC514-E746-4425-AB40-A6D1CB9D79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35D62-CB72-4218-9A31-02E098FAED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A0B54-3253-42BF-9A80-2713A8EB69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33720" y="6854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2516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cc251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33720" y="1523880"/>
            <a:ext cx="6858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55272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ED8CA-73DB-497C-ABCF-5F6669E8BF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2516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cc2516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AD523-5F2F-48F5-933E-3B8685ECDE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796AE-0770-426D-8998-312FBFB34F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FA5B0-A267-4050-9F75-13AB6E1DEE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ing Group on New Dru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762120" y="3580920"/>
            <a:ext cx="76197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perationalizing” the Strategic Pl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71440" y="4832280"/>
            <a:ext cx="680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p TB Partnership Coordinating Board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uja, Nig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 24-25,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orking Group Needs</a:t>
            </a:r>
            <a:br>
              <a:rPr sz="40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rom the Strategic Pla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71600" y="2895120"/>
            <a:ext cx="7315200" cy="44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obust and sustained new drug pipel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nical trial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monized regulatory guidelines, fast-track appro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l models and validated surrogate mar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markers and surrogate end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432240" y="2438280"/>
            <a:ext cx="28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2006 – 2007 Fo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mph" presetID="16">
                                  <p:stCondLst>
                                    <p:cond delay="1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1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1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160"/>
                            </p:stCondLst>
                            <p:childTnLst>
                              <p:par>
                                <p:cTn id="13" nodeType="afterEffect" fill="hold" presetClass="emph" presetID="16">
                                  <p:stCondLst>
                                    <p:cond delay="1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59"/>
                            </p:stCondLst>
                            <p:childTnLst>
                              <p:par>
                                <p:cTn id="18" nodeType="afterEffect" fill="hold" presetClass="emph" presetID="16">
                                  <p:stCondLst>
                                    <p:cond delay="1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9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20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21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23520" y="233208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plete landscape of TB compounds in develop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detailed inventory of clinical trial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logue with regulatory authorities on guidances nasc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gent need for funding - $3.6B gap for drugs alone (2006 - 2015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514600" y="3200400"/>
            <a:ext cx="63244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990720"/>
            <a:ext cx="67820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04920" y="1981080"/>
          <a:ext cx="8762760" cy="4647960"/>
        </p:xfrm>
        <a:graphic>
          <a:graphicData uri="http://schemas.openxmlformats.org/drawingml/2006/table">
            <a:tbl>
              <a:tblPr/>
              <a:tblGrid>
                <a:gridCol w="2666880"/>
                <a:gridCol w="3352680"/>
                <a:gridCol w="274320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G Role/A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bust and sustained pipeline of new drug candidates and back-up progra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uct comprehensive mapping of the global TB drug portfolio via a web-based survey and make results available to WG member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vey launch: summer 200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 finalization and presentation: fall 200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rmonized regulatory guidelines; fast-track approv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e and sponsor open forums on key regulatory issues in TB drug development with regulatory authorities, industry and WG memb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conference: Washington, DC, December 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conference: Europe, September 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fficient clinical trial sites meeting GCP/GMP standar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ate and disseminate results of clinical trial site assessments by WG partn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go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2365560" y="1069920"/>
            <a:ext cx="533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ork Plan and Time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4T01:10:34Z</dcterms:created>
  <dc:creator>Beth Oldham</dc:creator>
  <dc:description/>
  <dc:language>en-US</dc:language>
  <cp:lastModifiedBy>bakerl</cp:lastModifiedBy>
  <dcterms:modified xsi:type="dcterms:W3CDTF">2006-05-02T15:02:01Z</dcterms:modified>
  <cp:revision>20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EmailEntryID">
    <vt:lpwstr>00000000F5BE291CF156FA40B2C348AEB191C4DD449A2C00</vt:lpwstr>
  </property>
  <property fmtid="{D5CDD505-2E9C-101B-9397-08002B2CF9AE}" pid="3" name="_ReviewCycleID">
    <vt:r8>984594159</vt:r8>
  </property>
  <property fmtid="{D5CDD505-2E9C-101B-9397-08002B2CF9AE}" pid="4" name="_ReviewingToolsShownOnce">
    <vt:lpwstr/>
  </property>
</Properties>
</file>