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696E-86CE-4259-B1E2-ACD522E7D8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0C1B-8310-44BE-B673-0A48D89F3CB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2392-7331-4F06-9A8B-DC704CD297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19CA-3EEA-4C06-BF7D-BFC807DE51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8C67-536A-49A4-A133-04848643273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975-5BB2-481C-B69E-4AEC11C5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6D4C-5061-4CD9-9561-65F70883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D5A-CC73-482C-8EE3-0E57B718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2946-869E-4FF5-AE8F-5710BF4B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4D5D-010D-4457-847F-AD844672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6860-0F44-4CD5-95EC-53EF0965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D223-52AB-469E-985F-8BFC9F15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7E51-0536-4658-8392-E86A3BA3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DC80-12E7-4C0F-AAC8-0CACC01B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38EF-CC75-4B9A-B7DB-8AB234CD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85EE-311B-4486-9B49-A27D935C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41B8-469E-4B26-8004-BE33C57B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6803-C0F5-4437-934D-BFA9B204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3996-8BBD-4139-97C8-5F037879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560B-7723-450A-9253-265FDC7A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924D-E7B1-46C2-805E-1BDB128F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2C2F-4F30-4584-A5BE-59455270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C5AF-DD7E-4848-B411-8D0D7C54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F494-C894-46D9-9EFE-2EA6F99B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049-7C84-414B-80E2-1E22013C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D358-F13F-42D1-8DB7-6F387A67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E4DC-2FB6-42E4-81DD-3F14A63C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2884-32DC-4996-B403-0C1F9751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11E5-961C-4DD1-986B-2E6F1685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F5F6-962D-406B-A99A-B819F0A7DF6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6F96-D1E0-41D4-83CD-16BC78945BD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G on New TB Vaccines –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here do we go from here?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essons from GP1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5 vaccine candidates in phase I clinical trials by the end of 200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Lesson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Sense of ownership / buy-in by partners does not co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utomaticall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must position itself more prominently as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" 1st  stop shop " on vaccine R&amp;D matters, both insid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community and to the outsid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 must become more professiona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Mechanisms for a more rapid response by the WG to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pcoming challenges need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 strategic "scaffold" ("roadmap"/"blueprint") for th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ide range of diverse activities is need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hallenges for GP2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a safe, effective licensed vaccine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available at affordable cost by 201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	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Challeng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echnical:      lacking immune surrogate of protection, diagnosis of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clinical trial endpoints, in particular in childre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Economic:     estimated cost to bring existing candidates to licensure: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S$ 600million, estimated availability : US$ 60 million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Normative:    no regulatory capacity fro vaccine tria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in endemic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Participatory: few industry,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no endemic country participation i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formulation of research go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function: Need to increase response time &amp; visibility for the W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609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ow can the Board help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, Advocacy, Link with the TB control community for epidemiology, laboratory, trial site selection…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Use Board links with highest levels of government as well as grassroots to create a momentum &amp; pressure &amp; ownership in endemic countries for TB vaccine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</a:t>
            </a: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National Plans for TB Vaccine Development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</a:t>
            </a:r>
            <a:r>
              <a:rPr b="0" lang="en-GB" sz="32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</a:t>
            </a:r>
            <a:r>
              <a:rPr b="0" lang="en-GB" sz="3200" spc="-1" strike="noStrike">
                <a:solidFill>
                  <a:srgbClr val="990000"/>
                </a:solidFill>
                <a:latin typeface="Mistral"/>
                <a:ea typeface="宋体"/>
              </a:rPr>
              <a:t>tool (?) developmen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                       </a:t>
            </a:r>
            <a:r>
              <a:rPr b="0" lang="en-GB" sz="4000" spc="-1" strike="noStrike">
                <a:solidFill>
                  <a:srgbClr val="990000"/>
                </a:solidFill>
                <a:latin typeface="Lucida Handwriting"/>
                <a:ea typeface="宋体"/>
              </a:rPr>
              <a:t>research </a:t>
            </a:r>
            <a:r>
              <a:rPr b="0" lang="en-GB" sz="4000" spc="-1" strike="noStrike">
                <a:solidFill>
                  <a:srgbClr val="990000"/>
                </a:solidFill>
                <a:latin typeface="Mistral"/>
                <a:ea typeface="宋体"/>
              </a:rPr>
              <a:t>(?) </a:t>
            </a: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08720" y="4508640"/>
            <a:ext cx="3490560" cy="1150560"/>
            <a:chOff x="5508720" y="4508640"/>
            <a:chExt cx="3490560" cy="1150560"/>
          </a:xfrm>
        </p:grpSpPr>
        <p:sp>
          <p:nvSpPr>
            <p:cNvPr id="98" name=""/>
            <p:cNvSpPr/>
            <p:nvPr/>
          </p:nvSpPr>
          <p:spPr>
            <a:xfrm flipV="1">
              <a:off x="5572440" y="4508640"/>
              <a:ext cx="129276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720" y="4584960"/>
              <a:ext cx="135828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6480" y="4660920"/>
              <a:ext cx="3232800" cy="84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4200" y="4738680"/>
              <a:ext cx="2781360" cy="920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28720" y="4437000"/>
            <a:ext cx="1582560" cy="649440"/>
          </a:xfrm>
          <a:prstGeom prst="rightArrow">
            <a:avLst>
              <a:gd name="adj1" fmla="val 50000"/>
              <a:gd name="adj2" fmla="val 6092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661000"/>
            <a:ext cx="3241440" cy="647640"/>
          </a:xfrm>
          <a:prstGeom prst="wedgeRoundRectCallout">
            <a:avLst>
              <a:gd name="adj1" fmla="val 291"/>
              <a:gd name="adj2" fmla="val -148282"/>
              <a:gd name="adj3" fmla="val 16667"/>
            </a:avLst>
          </a:prstGeom>
          <a:solidFill>
            <a:srgbClr val="ffffff"/>
          </a:solidFill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20000"/>
                </a:solidFill>
                <a:latin typeface="Tahoma"/>
              </a:rPr>
              <a:t>Inspired by the National (African) AIDS Vaccine Development Plans (AAVI)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new WG Chai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  <a:ea typeface="宋体"/>
              </a:rPr>
              <a:t>Mr Michel GRECO, former CEO of Aventis (now Sanofi) Pasteu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MG is looking forward to strong interaction with the Board and counts on its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landscape has strongly improved over the last couple of years, the TB vaccine community is more ready to act in a coordinated fashion, to optimize resources and to develop standards that should ease the prioritization process down the roa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a continued need to open new research avenues as it is too early to assume that existing products will make it to marke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need for and the opportunities offered must be attacked more aggressively, more research, more advocacy, more fund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secretariat will need more resources to keep up with the with the growing task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going to be abn increased newsflow on TB vacines over the coming years and MG is looking forward to becoming a bearer of hopefully good news to the board in the fut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7T17:37:17Z</cp:lastPrinted>
  <dcterms:modified xsi:type="dcterms:W3CDTF">2006-05-02T15:03:14Z</dcterms:modified>
  <cp:revision>213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