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6.jpeg" ContentType="image/jpeg"/>
  <Override PartName="/ppt/media/image5.wmf" ContentType="image/x-wmf"/>
  <Override PartName="/ppt/media/image10.png" ContentType="image/png"/>
  <Override PartName="/ppt/media/image12.jpeg" ContentType="image/jpeg"/>
  <Override PartName="/ppt/media/image7.jpeg" ContentType="image/jpeg"/>
  <Override PartName="/ppt/media/image13.jpeg" ContentType="image/jpeg"/>
  <Override PartName="/ppt/media/image8.jpeg" ContentType="image/jpeg"/>
  <Override PartName="/ppt/media/image3.wmf" ContentType="image/x-wmf"/>
  <Override PartName="/ppt/media/image2.wmf" ContentType="image/x-wmf"/>
  <Override PartName="/ppt/media/image23.jpeg" ContentType="image/jpeg"/>
  <Override PartName="/ppt/media/image4.wmf" ContentType="image/x-wmf"/>
  <Override PartName="/ppt/media/image27.wmf" ContentType="image/x-wmf"/>
  <Override PartName="/ppt/media/image26.png" ContentType="image/png"/>
  <Override PartName="/ppt/media/image14.png" ContentType="image/png"/>
  <Override PartName="/ppt/media/image25.jpeg" ContentType="image/jpeg"/>
  <Override PartName="/ppt/media/image24.jpeg" ContentType="image/jpeg"/>
  <Override PartName="/ppt/media/image21.jpeg" ContentType="image/jpeg"/>
  <Override PartName="/ppt/media/image22.jpeg" ContentType="image/jpeg"/>
  <Override PartName="/ppt/media/image1.jpeg" ContentType="image/jpeg"/>
  <Override PartName="/ppt/media/image15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D814-617F-419A-86E8-18D9DF736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49C8-DEA0-4388-8470-A94046DB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3704-B42A-4D8B-87EF-910FCEFBD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E975-3A75-48D8-B36B-21C11957B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A117-9DB1-40B0-80E5-B7DD498F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C0CB-3930-4C15-9E76-D12D300C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7C03-5B6F-436C-89D0-23188F99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9E5A-1138-49B4-8193-ABAFC658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C48A-F092-4692-A4B3-E1BEFDDA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A96B-4552-4C19-B0CC-0E311BCF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EBBB-6E6F-428B-83A1-1C0B2119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2F26-7673-4BA6-9F22-DF2FBF4C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AE0C-A92F-42F4-99B2-D9062033EE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toptb.org/events/partners_forum/2004/default.asp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h/imgres?imgurl=http://www.imakinaria.com/archives/mh-bullseye.jpg&amp;imgrefurl=http://www.imakinaria.com/archives/2004_10.html&amp;h=600&amp;w=800&amp;sz=80&amp;tbnid=UUbWhQZIJ2yl5M:&amp;tbnh=106&amp;tbnw=142&amp;hl=en&amp;start=8&amp;prev=/images%3Fq%3Dbullseye%26svnum%3D10%26hl%3Den%26lr%3D%26sa%3D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owetogospelchor.de/show/index.html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06828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ffff"/>
                </a:solidFill>
                <a:latin typeface="Arial Rounded MT Bold"/>
              </a:rPr>
              <a:t>WHAT IF?</a:t>
            </a:r>
            <a:br>
              <a:rPr sz="15000"/>
            </a:br>
            <a:endParaRPr b="0" lang="en-US" sz="1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AT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1" name="" descr="Keeping the Pled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378400"/>
            <a:ext cx="5470560" cy="1479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876400" cy="3324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84360" y="2205000"/>
            <a:ext cx="3724200" cy="2714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3995640" y="1197000"/>
            <a:ext cx="5000760" cy="3324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6084720" y="3533760"/>
            <a:ext cx="28767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AT? </a:t>
            </a: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Opportunity!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1989000"/>
            <a:ext cx="8604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oice for constituencie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sens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sible platform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lling 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elebrating of successes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nouring TB hero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light key constituencie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 level advocac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ster compet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higher profile for TB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atellite e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 far NOT an inclusive ev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Y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1413000"/>
            <a:ext cx="78483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dated in Partnership structure and procedures as the body to which all other elements of the Partnership are answer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roved by the Board and WHO in the 2006-7 workplan and already earmarked by donors for funding through the trust fund ($366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ard committed to Forum in Africa in the Bluepri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ed to fully implement and fund the Global Pl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        </a:t>
            </a: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Objectives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16000" y="1773360"/>
            <a:ext cx="734364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oice for constituencies on implementing 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ancing summ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etplace for connecting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fluence policy in host country and through bilateral CB mee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elebrate countries that have reached 2005 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port on trends in implementing 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port on external review of Partnership and call for endorsement of recommend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36440"/>
            <a:ext cx="20876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ERE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7991640" cy="4994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flipH="1" flipV="1">
            <a:off x="5076360" y="5084640"/>
            <a:ext cx="647640" cy="71928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3203280" y="4868640"/>
            <a:ext cx="647640" cy="718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7019640" y="3141360"/>
            <a:ext cx="647640" cy="718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5292360" y="4508280"/>
            <a:ext cx="647640" cy="718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92360" y="57340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4787640" y="5373720"/>
            <a:ext cx="647640" cy="71928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3280" y="6237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Capet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96000" y="57340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Johannesbu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40360" y="4941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Nairob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812000" y="371628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eij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WHERE? </a:t>
            </a:r>
            <a:br>
              <a:rPr sz="4800"/>
            </a:b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773360"/>
            <a:ext cx="763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6000" y="1844640"/>
            <a:ext cx="7128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mmit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illing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olicy Change Poten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st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ase of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st sh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348680" y="0"/>
            <a:ext cx="1795320" cy="1811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940360" y="1052640"/>
            <a:ext cx="1476360" cy="1817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397640" y="4508640"/>
            <a:ext cx="1746360" cy="1828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724360" y="3284640"/>
            <a:ext cx="1798920" cy="1706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7236000" y="2421000"/>
            <a:ext cx="2122200" cy="1816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5651640" y="5383080"/>
            <a:ext cx="183024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WHERE? </a:t>
            </a:r>
            <a:br>
              <a:rPr sz="4800"/>
            </a:br>
            <a:r>
              <a:rPr b="0" lang="en-GB" sz="4800" spc="-1" strike="noStrike">
                <a:solidFill>
                  <a:srgbClr val="0000ff"/>
                </a:solidFill>
                <a:latin typeface="Arial Rounded MT Bold"/>
              </a:rPr>
              <a:t>Johannesburg</a:t>
            </a:r>
            <a:br>
              <a:rPr sz="4800"/>
            </a:b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1773360"/>
            <a:ext cx="8820000" cy="59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um in Africa answers to the CB commitment make in the Blueprint for Afr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A willingness to host Forum is being explor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for positive policy change is substantial given positive signals from Deputy President and Presid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st savings are potentially large if linked to the Capetown IUATLD meeting.  Media attention can be managed strategically to benefit both ev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frastructure, transport and media access are very go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et's make something to celebrate in South Africa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347840"/>
            <a:ext cx="824400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EN? </a:t>
            </a: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October 07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484280"/>
            <a:ext cx="820908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bstantial cost savings if the Forum is held immediately before the IUATLD Congress in Capetown, end of October, 2007.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dia messages can be managed with IUATLD to ensure a WIN-WIN scenario: a media crescendo throughout the forum and congress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timing will allow us – starting now – to build momentum,  secure very high level involvement, prepare background papers and communication products,  secure venue, ensure consult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HOW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2543040" cy="1704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799160" y="3597120"/>
            <a:ext cx="4344840" cy="3260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Participants in the First Technical Advisory Group Meeting to Stop TB in the Western Pacific Region"/>
          <p:cNvPicPr/>
          <p:nvPr/>
        </p:nvPicPr>
        <p:blipFill>
          <a:blip r:embed="rId3"/>
          <a:stretch/>
        </p:blipFill>
        <p:spPr>
          <a:xfrm>
            <a:off x="1619280" y="2133720"/>
            <a:ext cx="4562280" cy="2438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651640" y="1332000"/>
            <a:ext cx="3492360" cy="2023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250920" y="4000680"/>
            <a:ext cx="3676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could cut Africa High prevalence rate in half from 2006 baseline by 2015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608200"/>
            <a:ext cx="91440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HOW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413000"/>
            <a:ext cx="763272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nership Secretariat led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mittees for major areas of work and overs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fessional project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cal advocacy part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siness community as KEY local and global part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ssibility of a secondment to the Gover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R South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164360" y="189000"/>
            <a:ext cx="1795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 Rounded MT Bold"/>
              </a:rPr>
              <a:t>Board Decision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r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n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e3ebf1"/>
                </a:solidFill>
                <a:latin typeface="Arial Rounded MT Bold"/>
              </a:rPr>
              <a:t>Discussion Points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atellite events: research mee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ckground docu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 bi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clusive or inclusi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dget limi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litical advocacy strateg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ccess criteri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649920" y="3789360"/>
            <a:ext cx="24940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306828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ffff"/>
                </a:solidFill>
                <a:latin typeface="Arial Rounded MT Bold"/>
              </a:rPr>
              <a:t>WHAT IF?</a:t>
            </a:r>
            <a:br>
              <a:rPr sz="15000"/>
            </a:br>
            <a:endParaRPr b="0" lang="en-US" sz="1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could reach fair financing goals for all HBCs and major donors?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83534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knew exactly what new research programmes to ask for from EU and NIH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564000" y="2852640"/>
            <a:ext cx="2233440" cy="3506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8360" y="2852640"/>
            <a:ext cx="2106720" cy="2592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659640" y="2781360"/>
            <a:ext cx="219528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877080" y="2852640"/>
            <a:ext cx="172404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ALL Stop TB Partners could connect and collaborate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1866960"/>
            <a:ext cx="835164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could attract MORE very high level champions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1593720"/>
            <a:ext cx="748836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ffff"/>
                </a:solidFill>
                <a:latin typeface="Arial Rounded MT Bold"/>
              </a:rPr>
              <a:t>FORUM</a:t>
            </a:r>
            <a:br>
              <a:rPr sz="15000"/>
            </a:br>
            <a:r>
              <a:rPr b="1" lang="en-GB" sz="15000" spc="-1" strike="noStrike">
                <a:solidFill>
                  <a:srgbClr val="0000ff"/>
                </a:solidFill>
                <a:latin typeface="Arial Rounded MT Bold"/>
              </a:rPr>
              <a:t>2007</a:t>
            </a:r>
            <a:endParaRPr b="0" lang="en-US" sz="1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 Rounded MT Bold"/>
              </a:rPr>
              <a:t>Board Decision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Rounded MT Bold"/>
              </a:rPr>
              <a:t>Whe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Rounded MT Bold"/>
              </a:rPr>
              <a:t>When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Rounded MT Bold"/>
              </a:rPr>
              <a:t>Can the Secretariat start plann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 Rounded MT Bold"/>
              </a:rPr>
              <a:t>Forum </a:t>
            </a:r>
            <a:r>
              <a:rPr b="1" lang="en-GB" sz="5400" spc="-1" strike="noStrike">
                <a:solidFill>
                  <a:srgbClr val="0000ff"/>
                </a:solidFill>
                <a:latin typeface="Arial Rounded MT Bold"/>
              </a:rPr>
              <a:t>2007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a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re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How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07:43:55Z</dcterms:created>
  <dc:creator>England</dc:creator>
  <dc:description/>
  <dc:language>en-US</dc:language>
  <cp:lastModifiedBy>bakerl</cp:lastModifiedBy>
  <dcterms:modified xsi:type="dcterms:W3CDTF">2006-05-02T15:16:21Z</dcterms:modified>
  <cp:revision>30</cp:revision>
  <dc:subject/>
  <dc:title>Slide 1</dc:title>
</cp:coreProperties>
</file>