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76690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74560" y="4252320"/>
            <a:ext cx="76690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04320" y="160956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74560" y="425232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04320" y="425232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24692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67640" y="1609560"/>
            <a:ext cx="24692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60720" y="1609560"/>
            <a:ext cx="24692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74560" y="4252320"/>
            <a:ext cx="24692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67640" y="4252320"/>
            <a:ext cx="24692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60720" y="4252320"/>
            <a:ext cx="246924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74560" y="1609560"/>
            <a:ext cx="766908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76690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3742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04320" y="1609560"/>
            <a:ext cx="3742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1080" y="188640"/>
            <a:ext cx="716292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04320" y="1609560"/>
            <a:ext cx="3742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74560" y="425232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3742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4320" y="160956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04320" y="425232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4320" y="1609560"/>
            <a:ext cx="37422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74560" y="4252320"/>
            <a:ext cx="766908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21575" b="89325"/>
          <a:stretch/>
        </p:blipFill>
        <p:spPr>
          <a:xfrm>
            <a:off x="7236000" y="1109520"/>
            <a:ext cx="1873080" cy="260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4560" y="1609560"/>
            <a:ext cx="76690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19280" y="1125360"/>
            <a:ext cx="7524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0" t="0" r="8931" b="0"/>
          <a:stretch/>
        </p:blipFill>
        <p:spPr>
          <a:xfrm>
            <a:off x="-12600" y="0"/>
            <a:ext cx="14508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06600" y="1407960"/>
            <a:ext cx="691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66"/>
                </a:solidFill>
                <a:latin typeface="Century Gothic"/>
              </a:rPr>
              <a:t>LAUNCHING</a:t>
            </a:r>
            <a:br>
              <a:rPr sz="3600"/>
            </a:br>
            <a:endParaRPr b="1" lang="en-US" sz="3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79640" y="5373720"/>
            <a:ext cx="66564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Dr François Bonnici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Global Health Initiative, World Economic Foru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51400" y="2131920"/>
            <a:ext cx="2833560" cy="139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0240" y="3686040"/>
            <a:ext cx="530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27 Januar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nual Meeting in Davos, 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6199" b="0"/>
          <a:stretch/>
        </p:blipFill>
        <p:spPr>
          <a:xfrm>
            <a:off x="6659640" y="189000"/>
            <a:ext cx="23050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Mandate &amp; Objective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76690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Mandate given by board in Assisi to launch Global Plan at Annual Meeting in Davo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Objectives: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To generate maximum global media interest in the announcement of the Global Plan in conjunction with parallel launch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To secure Bill Gates, a G8 leader and an African leader to back the Global Plan in a high profile press ev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To establish media interest for parallel launch events and for a strong year of advoc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6199" b="0"/>
          <a:stretch/>
        </p:blipFill>
        <p:spPr>
          <a:xfrm>
            <a:off x="6659640" y="189000"/>
            <a:ext cx="23050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98320" y="188640"/>
            <a:ext cx="752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orld leaders publicly commit to 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6459" t="0" r="0" b="0"/>
          <a:stretch/>
        </p:blipFill>
        <p:spPr>
          <a:xfrm>
            <a:off x="1612800" y="1413000"/>
            <a:ext cx="73915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28880" y="5819760"/>
            <a:ext cx="5977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This Plan makes a compelling case for greater investment in TB. We're willing to triple our funding for TB, and we urge others to do the same.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4845" t="0" r="0" b="8617"/>
          <a:stretch/>
        </p:blipFill>
        <p:spPr>
          <a:xfrm>
            <a:off x="1539720" y="4998960"/>
            <a:ext cx="1227240" cy="1513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16360" y="3848040"/>
            <a:ext cx="591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If 2005 was the year of commitment then 2006 must be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ear of delivery."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I hope that the G8 will make fighting TB a top priority.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0" t="0" r="0" b="4308"/>
          <a:stretch/>
        </p:blipFill>
        <p:spPr>
          <a:xfrm>
            <a:off x="1546200" y="3156120"/>
            <a:ext cx="1204920" cy="1584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916360" y="1989720"/>
            <a:ext cx="59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"We hope that the African Union will endorse this Plan, and call upon African governments to commit their share of resources needed to implement it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547640" y="1268280"/>
            <a:ext cx="1224000" cy="162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15640" y="3198960"/>
            <a:ext cx="32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Rt Hon Gordon Brown MP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Chancellor of the Excheq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3840" y="5013360"/>
            <a:ext cx="51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Bill Gates Jr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Co-Founder, Bill &amp; Melinda Gates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347840"/>
            <a:ext cx="272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HE Olusegun Obasanjo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President of Nig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98320" y="188640"/>
            <a:ext cx="752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World leaders publicly commit to TB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Result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4560" y="1538280"/>
            <a:ext cx="76690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Newspapers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More than 330 press articles in major papers and online newspapers worldwi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Televisio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BBC TV, CNN, CNBC, oth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Webcas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Watched several thousand times through the interne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Radio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Gordon Brown on Today programme on BBC Radio 4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Marcos Espinal – various Radio interviews eg. Voice of America, Radio South Afric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6199" b="0"/>
          <a:stretch/>
        </p:blipFill>
        <p:spPr>
          <a:xfrm>
            <a:off x="6729480" y="174600"/>
            <a:ext cx="2328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108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74560" y="1609560"/>
            <a:ext cx="76690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All Stop TB Partners who developed Global Pl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Coordinating Boa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Bill &amp; Melinda Gates Found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Stop TB Partnership Secretari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Ketchum and Global Health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Advocacy partner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565632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this plan, these powerful new tools and the resources to do the job, we will break the back of the global TB epidemic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96640" y="489888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Dr Marcos Espinal</a:t>
            </a:r>
            <a:br>
              <a:rPr sz="1800"/>
            </a:b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Executive Secretary, Stop TB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76440" y="4854600"/>
            <a:ext cx="1365120" cy="1584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0" r="6199" b="0"/>
          <a:stretch/>
        </p:blipFill>
        <p:spPr>
          <a:xfrm>
            <a:off x="6751800" y="195120"/>
            <a:ext cx="2328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6760" y="188640"/>
            <a:ext cx="716292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How can we do more for 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the Stop TB Partnership?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6199" b="0"/>
          <a:stretch/>
        </p:blipFill>
        <p:spPr>
          <a:xfrm>
            <a:off x="6735600" y="231840"/>
            <a:ext cx="2329200" cy="743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60600" y="1552680"/>
            <a:ext cx="766908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Explore a framework with secretariat for further opportun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to leverage private sector streng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for advocacy at World Economic Forum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 …</a:t>
            </a:r>
            <a:r>
              <a:rPr b="0" lang="en-GB" sz="22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3:39:55Z</dcterms:created>
  <dc:creator>FRB</dc:creator>
  <dc:description/>
  <dc:language>en-US</dc:language>
  <cp:lastModifiedBy>bakerl</cp:lastModifiedBy>
  <dcterms:modified xsi:type="dcterms:W3CDTF">2006-05-02T15:41:59Z</dcterms:modified>
  <cp:revision>128</cp:revision>
  <dc:subject/>
  <dc:title>Global Plan Launch at Davos</dc:title>
</cp:coreProperties>
</file>