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5954-E043-4F13-BD72-BE596206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CC18-C0F5-42FA-94D2-C873A1C9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1F1C-4A4F-46F1-9EA7-AE63A050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081F-E156-451C-9E06-C2BDEC6A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3360-049D-4A2C-9315-71A71C25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F5CA-269E-4AB4-96A4-3BCD5451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A4DA-FBA1-42CD-BEFE-F17B30F8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D07F-F1F1-47B6-84A3-EFB8B745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A66F-6172-4EE2-B6B1-7D86575A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127B-D46F-4696-9360-F248FA3C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A815-4F07-4B41-B00C-B64BDA50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E1D5-A026-4833-8A3C-C687CBEF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2EDB-D88F-4E28-8167-45499493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4D00-3928-46F1-BC16-1FBF3B43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2596-EC33-4F04-B598-B3597881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3BAB-D5F5-467E-BEE2-8BC3F499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CA36-9292-4012-82A8-8C1F3479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F9A8-62C3-4BC5-B3B8-22752E91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FFC5-9452-4227-8F61-49AE685D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A9D7-1B65-4B80-9D4D-C3AF5C15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0175-E9F2-4B5F-B327-EB1BF7A3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53EA-E06F-4E41-85D2-D3F037A8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2F89-E809-4546-AE77-84FBFBEE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6DCC-7694-4F23-89C7-5D34F1CA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928F-3160-4294-A97C-D1D1AE78BED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28E6-7E8B-44E2-BF9E-266986B3932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conomic Benefits of Tuberculosis Control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Africa &amp; 22 High Burden Countr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45200" y="2513160"/>
            <a:ext cx="60267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11</a:t>
            </a:r>
            <a:r>
              <a:rPr b="0" lang="en-US" sz="2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Stop TB Partnership Board Meeting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Jakarta, 29-30 November 2006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acques Baudou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rector, Health Nutrition &amp; Popul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World Bank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8E3C-3D8A-473A-A7C5-71B0A965BB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mmary results for 22 HBCs globally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164 billion/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81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51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67FA-866C-45F9-BAA9-BA4E12F26F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ults: 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urden of deaths associated with TB in 22 HBC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14400" y="1905120"/>
          <a:ext cx="8001000" cy="45655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9.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84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71.2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.3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A449-BA10-4047-A4DA-0051A80BA2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burden of TB is signific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ikely benefits of Global Plan 2006-2015 exceed cost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10 in Afric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50 in the 22 HBC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impact of TB deaths is greatest in China and Ind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owing incomes and large avertable TB burde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ote high levels of TB coinfection with HIV in Afric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FC52-A1D5-4FBB-831D-F9BDA3AA51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otential policy implica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ow will the Partnership disseminate and use this report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perational implicati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licy and program desig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llocative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chnical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5255-7915-4088-B715-7072DBCDDD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6A97-B5AC-4593-A004-591FB765DE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or: Ramanan Laxminaraya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Joint exercise of several Stop TB partn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nanced by the Bill &amp; Melinda Gates Foundation (US$95,000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naged by the World Bank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versight group from World Bank, WHO, BMGF &amp; Stop TB Partnership Secretari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529C-3BE1-49F2-90FC-9F1B74A910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ighligh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tion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ey finding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tential implications for policymak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7611-3037-4CED-82E6-6E58EDA682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8229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ext of heavy health burde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bout 8.8 million new cases per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7 million TB-related deaths in 2003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Corbett, Watt, et al., 2003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reatest burden of TB falls on working-age adult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emature death accounts for over 80% of DALYs lost  to TB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Dye, 2006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and poverty dimensions important: mean household spending on TB can account for 8 – 20% of annual household income (Russell, 2004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udy adds to knowledge base of economic costs and benefi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AC33-A5E5-4092-A8CC-D408D9A0B4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costs of TB in Africa - - and in the 22 High Burden Countries (HBCs)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benefits of controlling TB in Africa - - and in the 22 HBCs under specified scenario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policy implications of the finding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DC6B-BF94-4C13-A73C-E621653C69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ll income approac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corporates both annual income &amp; number of years over which the income is enjoy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putes value of increased life expectancy on economic well-be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lue of a statistical lif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idely used in economics and reg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laces a value not on a particular life, but on public health measures that can reduce the statistically expected number of deaths by 1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ses revealed preference approaches to assess willingness to pay to lower probability of dy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927E-5F8B-484B-9C39-A09A19650D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stimates of costs and benefits in this study refer to economic costs, not to financial/accounting cos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finition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stained DOTS: Maintain 2005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nhanced DOTS: Global Plan 2006-201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frica: Epidemiological region as defined in Global Plan 2006-2015, Annex 2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72E8-888F-4D39-BA6A-05F884F9D8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mmary results for Africa</a:t>
            </a:r>
            <a:br>
              <a:rPr sz="3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66 billion/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6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4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8A0A-1EA0-42CF-91DF-3902F755CE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enefits &amp; costs of deaths associated with TB in Africa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914400" y="2362320"/>
          <a:ext cx="8001000" cy="40129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.18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4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7.26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.6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68E-BECD-46C0-995E-602C7E5F38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b89350</cp:lastModifiedBy>
  <dcterms:modified xsi:type="dcterms:W3CDTF">2006-11-22T22:42:14Z</dcterms:modified>
  <cp:revision>442</cp:revision>
  <dc:subject/>
  <dc:title>Non-Financial Constraints  on the Response to HIV/AIDS and TB in ECA</dc:title>
</cp:coreProperties>
</file>