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BF97-96E1-48C3-BEA4-00DE84838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9019-3389-46F4-9407-2A218C64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1911-63E9-4D3B-9F36-456531AB4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F479-8996-4C44-B0F7-5C566217C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134D-42CC-4926-BC62-6023587AE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44C8-2DB0-45E4-8376-8BC7B58D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44EAE-FB9B-4185-9D36-7B5E185B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8985D-D79D-4A9F-8421-F2060ED8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4087-BDC7-4C5B-B77D-D2F5E4ED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A439C-0D10-45C9-B01A-7562392B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DB767-3F70-4F05-B104-9E2DD5D7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8A1A-1B51-41F1-9796-EBDE03EB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5237-FCCF-4DB8-B024-C0A54880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A206-30E2-4D36-9C59-54E2042C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56906-A8A3-4B45-9FEA-4D55C514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8F6B-FC82-4450-A856-701F7B649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4FD3-37D6-42A3-8544-CBB9CB821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B552-4226-4431-BC6E-62ECDE4E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BB27-EF24-4A39-94A0-C2A03DEF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A685-EEDE-471B-A4EF-89B567BA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373F-36EB-45E4-AAED-33086B98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BD68-B174-4470-9527-7AFCB85E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439D-8235-4709-8FD7-67929354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E952-D55B-4913-8F51-B28904AC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7640" y="0"/>
            <a:ext cx="91072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95aa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695a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8193-B0A6-41B2-84DC-1DA77EC5E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640" y="0"/>
            <a:ext cx="91072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95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62CD-3C2A-4F87-8242-03AB434E6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695a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695a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695aa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 u="sng">
                <a:solidFill>
                  <a:srgbClr val="0695aa"/>
                </a:solidFill>
                <a:uFillTx/>
                <a:latin typeface="Arial"/>
              </a:rPr>
              <a:t>Aligning and Harmonising GHIs to </a:t>
            </a:r>
            <a:br>
              <a:rPr sz="2800"/>
            </a:br>
            <a:r>
              <a:rPr b="1" lang="en-GB" sz="2800" spc="-1" strike="noStrike" u="sng">
                <a:solidFill>
                  <a:srgbClr val="0695aa"/>
                </a:solidFill>
                <a:uFillTx/>
                <a:latin typeface="Arial"/>
              </a:rPr>
              <a:t>Strengthen Health Systems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 Francis Omas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ive 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obal Health Workforce Al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op TB 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erlin, 23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 October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605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95aa"/>
                </a:solidFill>
                <a:latin typeface="Arial"/>
              </a:rPr>
              <a:t>Structure of the </a:t>
            </a:r>
            <a:br>
              <a:rPr sz="3600"/>
            </a:br>
            <a:r>
              <a:rPr b="1" lang="en-US" sz="3600" spc="-1" strike="noStrike">
                <a:solidFill>
                  <a:srgbClr val="0695aa"/>
                </a:solidFill>
                <a:latin typeface="Arial"/>
              </a:rPr>
              <a:t>Global Health Workforce Alliance</a:t>
            </a:r>
            <a:endParaRPr b="0" lang="en-US" sz="36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71640" y="2276640"/>
            <a:ext cx="3095640" cy="18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Tahoma"/>
              </a:rPr>
              <a:t>GHW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Tahoma"/>
              </a:rPr>
              <a:t>Members’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427640" y="2384280"/>
            <a:ext cx="2286000" cy="43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GHWA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16360" y="5084640"/>
            <a:ext cx="134640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ols &amp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uide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27640" y="5084640"/>
            <a:ext cx="128772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67640" y="5084640"/>
            <a:ext cx="131112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oc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3640" y="5084640"/>
            <a:ext cx="133020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cale up 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amp;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207" idx="0"/>
            <a:endCxn id="209" idx="2"/>
          </p:cNvCxnSpPr>
          <p:nvPr/>
        </p:nvCxnSpPr>
        <p:spPr>
          <a:xfrm flipH="1" flipV="1" rot="5400000">
            <a:off x="4207680" y="3712320"/>
            <a:ext cx="1033560" cy="171216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10" name=""/>
          <p:cNvCxnSpPr>
            <a:stCxn id="204" idx="0"/>
            <a:endCxn id="209" idx="2"/>
          </p:cNvCxnSpPr>
          <p:nvPr/>
        </p:nvCxnSpPr>
        <p:spPr>
          <a:xfrm flipH="1" flipV="1" rot="5400000">
            <a:off x="4968000" y="4472640"/>
            <a:ext cx="1033560" cy="19116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11" name=""/>
          <p:cNvCxnSpPr>
            <a:stCxn id="205" idx="0"/>
            <a:endCxn id="209" idx="2"/>
          </p:cNvCxnSpPr>
          <p:nvPr/>
        </p:nvCxnSpPr>
        <p:spPr>
          <a:xfrm flipV="1" rot="16200000">
            <a:off x="5709240" y="3921480"/>
            <a:ext cx="1033560" cy="129312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12" name=""/>
          <p:cNvCxnSpPr>
            <a:stCxn id="203" idx="2"/>
            <a:endCxn id="209" idx="0"/>
          </p:cNvCxnSpPr>
          <p:nvPr/>
        </p:nvCxnSpPr>
        <p:spPr>
          <a:xfrm>
            <a:off x="5570640" y="2820600"/>
            <a:ext cx="10080" cy="6087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3" name=""/>
          <p:cNvCxnSpPr>
            <a:stCxn id="206" idx="0"/>
            <a:endCxn id="209" idx="2"/>
          </p:cNvCxnSpPr>
          <p:nvPr/>
        </p:nvCxnSpPr>
        <p:spPr>
          <a:xfrm flipV="1" rot="16200000">
            <a:off x="6434640" y="3196080"/>
            <a:ext cx="1033560" cy="274392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214" name=""/>
          <p:cNvSpPr/>
          <p:nvPr/>
        </p:nvSpPr>
        <p:spPr>
          <a:xfrm>
            <a:off x="7245360" y="1628640"/>
            <a:ext cx="15350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Executive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245360" y="3068640"/>
            <a:ext cx="1535040" cy="53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Nominating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245360" y="2279520"/>
            <a:ext cx="1535040" cy="64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Program / Polic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214" idx="1"/>
            <a:endCxn id="203" idx="3"/>
          </p:cNvCxnSpPr>
          <p:nvPr/>
        </p:nvCxnSpPr>
        <p:spPr>
          <a:xfrm flipV="1" rot="10800000">
            <a:off x="6712920" y="1881360"/>
            <a:ext cx="532440" cy="722520"/>
          </a:xfrm>
          <a:prstGeom prst="bentConnector3">
            <a:avLst>
              <a:gd name="adj1" fmla="val 49797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8" name=""/>
          <p:cNvCxnSpPr>
            <a:stCxn id="216" idx="1"/>
            <a:endCxn id="203" idx="3"/>
          </p:cNvCxnSpPr>
          <p:nvPr/>
        </p:nvCxnSpPr>
        <p:spPr>
          <a:xfrm rot="10800000">
            <a:off x="6712920" y="2602800"/>
            <a:ext cx="532440" cy="10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9" name=""/>
          <p:cNvCxnSpPr>
            <a:stCxn id="215" idx="1"/>
            <a:endCxn id="203" idx="3"/>
          </p:cNvCxnSpPr>
          <p:nvPr/>
        </p:nvCxnSpPr>
        <p:spPr>
          <a:xfrm rot="10800000">
            <a:off x="6712920" y="2602800"/>
            <a:ext cx="532440" cy="730800"/>
          </a:xfrm>
          <a:prstGeom prst="bentConnector3">
            <a:avLst>
              <a:gd name="adj1" fmla="val 49797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209" name=""/>
          <p:cNvSpPr/>
          <p:nvPr/>
        </p:nvSpPr>
        <p:spPr>
          <a:xfrm>
            <a:off x="4427640" y="3429000"/>
            <a:ext cx="2305080" cy="622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GHWA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 hidden="1"/>
          <p:cNvSpPr/>
          <p:nvPr/>
        </p:nvSpPr>
        <p:spPr>
          <a:xfrm>
            <a:off x="0" y="0"/>
            <a:ext cx="1620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35280" y="5084640"/>
            <a:ext cx="122400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484360" y="458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00000" y="4581360"/>
            <a:ext cx="7417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900000" y="4653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5084640"/>
            <a:ext cx="143172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niv.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 HIV tre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32000" y="4653000"/>
            <a:ext cx="662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ing Groups </a:t>
            </a:r>
            <a:r>
              <a:rPr b="1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 Task Fo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7164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48920"/>
            <a:ext cx="82296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695aa"/>
                </a:solidFill>
                <a:latin typeface="Arial"/>
              </a:rPr>
              <a:t>Scale-up framework</a:t>
            </a:r>
            <a:endParaRPr b="0" lang="en-US" sz="29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914560" y="1411920"/>
            <a:ext cx="37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SimSun"/>
              </a:rPr>
              <a:t>GOAL: HEALTH OUTCOME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661440" y="1844640"/>
            <a:ext cx="22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INDICATOR: MD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 rot="10800000">
            <a:off x="2556000" y="2203560"/>
            <a:ext cx="410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BASIC PACKAGE OF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1280" y="29232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SKILL 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572280"/>
            <a:ext cx="92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"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LOSE-TO-CLIENT HEALTH T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Defined within country context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307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987640" y="4329360"/>
            <a:ext cx="433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Existing capacity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Development of new capac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42800" y="4869000"/>
          <a:ext cx="8291520" cy="1992240"/>
        </p:xfrm>
        <a:graphic>
          <a:graphicData uri="http://schemas.openxmlformats.org/drawingml/2006/table">
            <a:tbl>
              <a:tblPr/>
              <a:tblGrid>
                <a:gridCol w="2764080"/>
                <a:gridCol w="2763720"/>
                <a:gridCol w="2763720"/>
              </a:tblGrid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ECHNIC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POLITICAL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</a:t>
                      </a: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FINAN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Train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Institutio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Infrastructu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Connectiv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artnershi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Supportive environ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Leadershi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Commit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Legisla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olic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artnershi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Resourc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Incentiv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artnershi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 flipV="1">
            <a:off x="457200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57200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572000" y="1773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5292360" y="4221000"/>
            <a:ext cx="289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58920" y="4869000"/>
            <a:ext cx="64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780000" y="4221000"/>
            <a:ext cx="2872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43280" y="42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Pillars of Country HRH Program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lti-sector Country Action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alth Sector Strategic Plan (Multi-se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rehensive HRH Plan in line with HS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RH Observatory with Annual Reporting and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, Regional, global, links/partner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vocacy for Health and H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dership an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732720" y="2781360"/>
            <a:ext cx="1496880" cy="1079280"/>
          </a:xfrm>
          <a:custGeom>
            <a:avLst/>
            <a:gdLst>
              <a:gd name="textAreaLeft" fmla="*/ 0 w 1496880"/>
              <a:gd name="textAreaRight" fmla="*/ 1497240 w 149688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c03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anklin Gothic Medium"/>
              </a:rPr>
              <a:t>S</a:t>
            </a:r>
            <a:r>
              <a:rPr b="1" lang="en-GB" sz="1600" spc="-1" strike="noStrike">
                <a:solidFill>
                  <a:srgbClr val="000000"/>
                </a:solidFill>
                <a:latin typeface="Franklin Gothic Medium"/>
              </a:rPr>
              <a:t>TRONGER </a:t>
            </a:r>
            <a:br>
              <a:rPr sz="1600"/>
            </a:br>
            <a:r>
              <a:rPr b="1" lang="en-GB" sz="1800" spc="-1" strike="noStrike">
                <a:solidFill>
                  <a:srgbClr val="000000"/>
                </a:solidFill>
                <a:latin typeface="Franklin Gothic Medium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Franklin Gothic Medium"/>
              </a:rPr>
              <a:t>EAL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anklin Gothic Medium"/>
              </a:rPr>
              <a:t>S</a:t>
            </a:r>
            <a:r>
              <a:rPr b="1" lang="en-GB" sz="1600" spc="-1" strike="noStrike">
                <a:solidFill>
                  <a:srgbClr val="000000"/>
                </a:solidFill>
                <a:latin typeface="Franklin Gothic Medium"/>
              </a:rPr>
              <a:t>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49760" y="2708280"/>
            <a:ext cx="2082960" cy="11937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Adequate / availab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Compet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Motiva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Suppor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79280" y="2276640"/>
            <a:ext cx="1512720" cy="2086920"/>
            <a:chOff x="179280" y="2276640"/>
            <a:chExt cx="1512720" cy="2086920"/>
          </a:xfrm>
        </p:grpSpPr>
        <p:sp>
          <p:nvSpPr>
            <p:cNvPr id="249" name=""/>
            <p:cNvSpPr/>
            <p:nvPr/>
          </p:nvSpPr>
          <p:spPr>
            <a:xfrm>
              <a:off x="179280" y="2276640"/>
              <a:ext cx="1512720" cy="2086920"/>
            </a:xfrm>
            <a:prstGeom prst="ellipse">
              <a:avLst/>
            </a:prstGeom>
            <a:noFill/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Visibil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Evide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Polit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9880" y="2519280"/>
              <a:ext cx="125532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4643280" y="2349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Franklin Gothic Medium"/>
              </a:rPr>
              <a:t>H</a:t>
            </a:r>
            <a:r>
              <a:rPr b="1" lang="en-GB" sz="1600" spc="-1" strike="noStrike">
                <a:solidFill>
                  <a:srgbClr val="0000cc"/>
                </a:solidFill>
                <a:latin typeface="Franklin Gothic Medium"/>
              </a:rPr>
              <a:t>EALTH</a:t>
            </a:r>
            <a:r>
              <a:rPr b="1" lang="en-GB" sz="1800" spc="-1" strike="noStrike">
                <a:solidFill>
                  <a:srgbClr val="0000cc"/>
                </a:solidFill>
                <a:latin typeface="Franklin Gothic Medium"/>
              </a:rPr>
              <a:t> W</a:t>
            </a:r>
            <a:r>
              <a:rPr b="1" lang="en-GB" sz="1600" spc="-1" strike="noStrike">
                <a:solidFill>
                  <a:srgbClr val="0000cc"/>
                </a:solidFill>
                <a:latin typeface="Franklin Gothic Medium"/>
              </a:rPr>
              <a:t>ORK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16200000">
            <a:off x="7006680" y="3015360"/>
            <a:ext cx="302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03b00"/>
                </a:solidFill>
                <a:latin typeface="Arial"/>
              </a:rPr>
              <a:t>Better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919880" y="2208240"/>
            <a:ext cx="2597400" cy="1769400"/>
            <a:chOff x="1919880" y="2208240"/>
            <a:chExt cx="2597400" cy="1769400"/>
          </a:xfrm>
        </p:grpSpPr>
        <p:sp>
          <p:nvSpPr>
            <p:cNvPr id="254" name=""/>
            <p:cNvSpPr/>
            <p:nvPr/>
          </p:nvSpPr>
          <p:spPr>
            <a:xfrm>
              <a:off x="1919880" y="2587680"/>
              <a:ext cx="2597400" cy="1389960"/>
            </a:xfrm>
            <a:prstGeom prst="rect">
              <a:avLst/>
            </a:prstGeom>
            <a:solidFill>
              <a:srgbClr val="ccffcc"/>
            </a:solidFill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Leadership / managemen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Education &amp; train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Recruitment  / deploy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Incentives / reten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Regional sup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271240" y="2208240"/>
              <a:ext cx="205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a20000"/>
                  </a:solidFill>
                  <a:latin typeface="Franklin Gothic Medium"/>
                </a:rPr>
                <a:t>C</a:t>
              </a:r>
              <a:r>
                <a:rPr b="1" lang="en-GB" sz="1600" spc="-1" strike="noStrike">
                  <a:solidFill>
                    <a:srgbClr val="a20000"/>
                  </a:solidFill>
                  <a:latin typeface="Franklin Gothic Medium"/>
                </a:rPr>
                <a:t>OUNTRY</a:t>
              </a:r>
              <a:r>
                <a:rPr b="1" lang="en-GB" sz="1800" spc="-1" strike="noStrike">
                  <a:solidFill>
                    <a:srgbClr val="a20000"/>
                  </a:solidFill>
                  <a:latin typeface="Franklin Gothic Medium"/>
                </a:rPr>
                <a:t> A</a:t>
              </a:r>
              <a:r>
                <a:rPr b="1" lang="en-GB" sz="1600" spc="-1" strike="noStrike">
                  <a:solidFill>
                    <a:srgbClr val="a20000"/>
                  </a:solidFill>
                  <a:latin typeface="Franklin Gothic Medium"/>
                </a:rPr>
                <a:t>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 flipV="1">
            <a:off x="2340000" y="3933360"/>
            <a:ext cx="0" cy="86220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19280" y="3357720"/>
            <a:ext cx="360360" cy="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340000" y="1773360"/>
            <a:ext cx="0" cy="86364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9280" y="2781360"/>
            <a:ext cx="151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808080"/>
                </a:solidFill>
                <a:uFillTx/>
                <a:latin typeface="Franklin Gothic Medium"/>
              </a:rPr>
              <a:t>ADVOC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  <p:grpSp>
        <p:nvGrpSpPr>
          <p:cNvPr id="261" name=""/>
          <p:cNvGrpSpPr/>
          <p:nvPr/>
        </p:nvGrpSpPr>
        <p:grpSpPr>
          <a:xfrm>
            <a:off x="1979640" y="476280"/>
            <a:ext cx="3168000" cy="1726920"/>
            <a:chOff x="1979640" y="476280"/>
            <a:chExt cx="3168000" cy="1726920"/>
          </a:xfrm>
        </p:grpSpPr>
        <p:sp>
          <p:nvSpPr>
            <p:cNvPr id="262" name=""/>
            <p:cNvSpPr/>
            <p:nvPr/>
          </p:nvSpPr>
          <p:spPr>
            <a:xfrm>
              <a:off x="1979640" y="476280"/>
              <a:ext cx="3168000" cy="1726920"/>
            </a:xfrm>
            <a:prstGeom prst="ellipse">
              <a:avLst/>
            </a:prstGeom>
            <a:noFill/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Fiscal 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Mig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Alignmen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74280" y="576000"/>
              <a:ext cx="235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 u="sng">
                  <a:solidFill>
                    <a:srgbClr val="74727c"/>
                  </a:solidFill>
                  <a:uFillTx/>
                  <a:latin typeface="Franklin Gothic Medium"/>
                </a:rPr>
                <a:t>ADDRESSING </a:t>
              </a:r>
              <a:br>
                <a:rPr sz="1800"/>
              </a:br>
              <a:r>
                <a:rPr b="1" lang="en-GB" sz="1800" spc="-1" strike="noStrike" u="sng">
                  <a:solidFill>
                    <a:srgbClr val="74727c"/>
                  </a:solidFill>
                  <a:uFillTx/>
                  <a:latin typeface="Franklin Gothic Medium"/>
                </a:rPr>
                <a:t>GLOBAL ISS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427640" y="3357720"/>
            <a:ext cx="360360" cy="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2050920" y="4221000"/>
            <a:ext cx="3384000" cy="1871640"/>
            <a:chOff x="2050920" y="4221000"/>
            <a:chExt cx="3384000" cy="1871640"/>
          </a:xfrm>
        </p:grpSpPr>
        <p:sp>
          <p:nvSpPr>
            <p:cNvPr id="266" name=""/>
            <p:cNvSpPr/>
            <p:nvPr/>
          </p:nvSpPr>
          <p:spPr>
            <a:xfrm>
              <a:off x="2050920" y="4221000"/>
              <a:ext cx="3384000" cy="1871640"/>
            </a:xfrm>
            <a:prstGeom prst="ellipse">
              <a:avLst/>
            </a:prstGeom>
            <a:noFill/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Observatories: 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national, regional, glob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Resear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Sharing &amp; Lear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982960" y="4280760"/>
              <a:ext cx="164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 u="sng">
                  <a:solidFill>
                    <a:srgbClr val="808080"/>
                  </a:solidFill>
                  <a:uFillTx/>
                  <a:latin typeface="Franklin Gothic Medium"/>
                </a:rPr>
                <a:t>KNOWLED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5364000" y="18900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9999"/>
                </a:solidFill>
                <a:latin typeface="Arial"/>
              </a:rPr>
              <a:t>Strategy &amp;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95aa"/>
                </a:solidFill>
                <a:latin typeface="Arial"/>
              </a:rPr>
              <a:t>Deliverables: Ten years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strategies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numbers of superior perfor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awareness and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idence and information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or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best to plan and implement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community of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kling key global 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gr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scal sp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political vi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ocacy and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al point co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Action Plan (Roadma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Mov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World now moving: IHP, GBP, PFH,  AU, Asia, PEPFAR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lobal Forum 2 -7 March 2008, Kamp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Political and Economic Background of </a:t>
            </a:r>
            <a:br>
              <a:rPr sz="2800"/>
            </a:b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Alignment and Harmonisation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st pre and post independence ho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conomic collapse, weakened governance, disease bu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money, dependence on donors: addressing visible problems for accountability to vo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ncial instruments key to vertical interventions: need to demonstrate results for f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y forwar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Anchored in strong country leadership i.e. comprehensive country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Donor pe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Demonstrat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Health System Components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icies, Leadership an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: equipment, buildings,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ly Chain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4692960"/>
            <a:ext cx="5148360" cy="7855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Household &amp;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0920" y="4002480"/>
            <a:ext cx="4465440" cy="7855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ub-district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9640" y="3281760"/>
            <a:ext cx="3816360" cy="7855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District Lev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258920" y="2495880"/>
            <a:ext cx="2449440" cy="785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g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fer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76360" y="921240"/>
            <a:ext cx="2014560" cy="162000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N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fer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3600000">
            <a:off x="1408680" y="2453400"/>
            <a:ext cx="54608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7200000">
            <a:off x="-1900440" y="2566800"/>
            <a:ext cx="5359320" cy="112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695aa"/>
                </a:solidFill>
                <a:latin typeface="Arial"/>
              </a:rPr>
              <a:t>Heath System Pyramid</a:t>
            </a:r>
            <a:endParaRPr b="0" lang="en-US" sz="36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64000" y="1052280"/>
            <a:ext cx="3322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er-speciali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d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52720" y="1916280"/>
            <a:ext cx="1440000" cy="504720"/>
          </a:xfrm>
          <a:prstGeom prst="leftArrow">
            <a:avLst>
              <a:gd name="adj1" fmla="val 50000"/>
              <a:gd name="adj2" fmla="val 71327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05200" y="4149720"/>
            <a:ext cx="1487520" cy="504720"/>
          </a:xfrm>
          <a:prstGeom prst="leftArrow">
            <a:avLst>
              <a:gd name="adj1" fmla="val 50000"/>
              <a:gd name="adj2" fmla="val 73680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17800" y="4941720"/>
            <a:ext cx="1474920" cy="505080"/>
          </a:xfrm>
          <a:prstGeom prst="leftArrow">
            <a:avLst>
              <a:gd name="adj1" fmla="val 50000"/>
              <a:gd name="adj2" fmla="val 73004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072200" y="4129200"/>
            <a:ext cx="417600" cy="1292040"/>
          </a:xfrm>
          <a:custGeom>
            <a:avLst/>
            <a:gdLst>
              <a:gd name="textAreaLeft" fmla="*/ 0 w 417600"/>
              <a:gd name="textAreaRight" fmla="*/ 150840 w 417600"/>
              <a:gd name="textAreaTop" fmla="*/ 33480 h 1292040"/>
              <a:gd name="textAreaBottom" fmla="*/ 1258560 h 129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35440" y="3014640"/>
            <a:ext cx="1440000" cy="504720"/>
          </a:xfrm>
          <a:prstGeom prst="leftArrow">
            <a:avLst>
              <a:gd name="adj1" fmla="val 50000"/>
              <a:gd name="adj2" fmla="val 71327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85000" y="3940200"/>
            <a:ext cx="49680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45400" y="3898800"/>
            <a:ext cx="72540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384720" y="2565360"/>
            <a:ext cx="417240" cy="1467000"/>
          </a:xfrm>
          <a:custGeom>
            <a:avLst/>
            <a:gdLst>
              <a:gd name="textAreaLeft" fmla="*/ 0 w 417240"/>
              <a:gd name="textAreaRight" fmla="*/ 150480 w 417240"/>
              <a:gd name="textAreaTop" fmla="*/ 38160 h 1467000"/>
              <a:gd name="textAreaBottom" fmla="*/ 1428840 h 146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475040" y="3792600"/>
            <a:ext cx="60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SH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695aa"/>
                </a:solidFill>
                <a:latin typeface="Arial"/>
              </a:rPr>
              <a:t>Common Interventions Across GHIs</a:t>
            </a:r>
            <a:endParaRPr b="0" lang="en-US" sz="32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dvocacy for health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unacceptable disease bu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Reject “God has called him/her” “His/her day has come” Treat as societal and health system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source mobilisa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arguments for increased resources and the exceptionality case for health, fiscal space dile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“Dying for economic growth” is there no middle w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olerable inequal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Globalized world replete with wealth, knowledge and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Power of civil society, NGOs, politics: better working conditions, stronger health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338280" y="2114640"/>
            <a:ext cx="483372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o ensure access to a motivated, skilled &amp; supported health worker by every person, in every village, everywhere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539640" y="1101600"/>
            <a:ext cx="2676600" cy="26766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5076720" y="4005360"/>
            <a:ext cx="2630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Dr LEE Jong-wook, 1945-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WHO Director-Gen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Global Health Workforce Crisis : Context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pulations living longer in developed countries, demanding extended care for pain free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ease burden in low income countries especially SSA incre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Shortage estimated 4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ng history of neglect: complexity, wrong policies, professionalism in developed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rican Health Ministers outcry at three consecutive World Health Assemb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conomic Collapse in Sub-Saharan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Inequalities in the midst of plenty: wealth, knowledge, technology in a connected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15680" y="3752640"/>
            <a:ext cx="4092840" cy="546120"/>
          </a:xfrm>
          <a:prstGeom prst="rect">
            <a:avLst/>
          </a:prstGeom>
          <a:solidFill>
            <a:srgbClr val="c9e8ed">
              <a:alpha val="35000"/>
            </a:srgbClr>
          </a:solidFill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11116" r="0" b="4293"/>
          <a:stretch/>
        </p:blipFill>
        <p:spPr>
          <a:xfrm>
            <a:off x="0" y="1384200"/>
            <a:ext cx="9144000" cy="5473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9999"/>
                </a:solidFill>
                <a:latin typeface="Tahoma"/>
              </a:rPr>
              <a:t>57</a:t>
            </a:r>
            <a:r>
              <a:rPr b="0" lang="en-GB" sz="3600" spc="-1" strike="noStrike">
                <a:solidFill>
                  <a:srgbClr val="009999"/>
                </a:solidFill>
                <a:latin typeface="Tahoma"/>
              </a:rPr>
              <a:t> critical shortage countries </a:t>
            </a:r>
            <a:r>
              <a:rPr b="1" lang="en-GB" sz="2000" spc="-1" strike="noStrike">
                <a:solidFill>
                  <a:srgbClr val="009999"/>
                </a:solidFill>
                <a:latin typeface="Arial Narrow"/>
              </a:rPr>
              <a:t>(doctors, nurses, midwi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638172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Source: World Health Report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GB" sz="1500" spc="-1" strike="noStrike">
                <a:solidFill>
                  <a:srgbClr val="0695aa"/>
                </a:solidFill>
                <a:latin typeface="Arial"/>
              </a:rPr>
              <a:t>Changes in life expectancy in selected African countries </a:t>
            </a:r>
            <a:br>
              <a:rPr sz="1500"/>
            </a:br>
            <a:r>
              <a:rPr b="0" lang="en-GB" sz="1500" spc="-1" strike="noStrike">
                <a:solidFill>
                  <a:srgbClr val="0695aa"/>
                </a:solidFill>
                <a:latin typeface="Arial"/>
              </a:rPr>
              <a:t>with high and low HIV prevalence: 1950 - 2005</a:t>
            </a:r>
            <a:endParaRPr b="0" lang="en-US" sz="15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21560" y="2286000"/>
            <a:ext cx="18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ith high HIV preval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25960" y="2583000"/>
            <a:ext cx="181080" cy="1440"/>
          </a:xfrm>
          <a:prstGeom prst="line">
            <a:avLst/>
          </a:prstGeom>
          <a:ln cap="rnd" w="38160">
            <a:solidFill>
              <a:srgbClr val="0099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63840" y="2508120"/>
            <a:ext cx="747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9999"/>
                </a:solidFill>
                <a:latin typeface="Arial"/>
              </a:rPr>
              <a:t>Zimbab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25960" y="2805120"/>
            <a:ext cx="181080" cy="1440"/>
          </a:xfrm>
          <a:prstGeom prst="line">
            <a:avLst/>
          </a:prstGeom>
          <a:ln cap="rnd" w="3816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55200" y="2730600"/>
            <a:ext cx="90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cc00"/>
                </a:solidFill>
                <a:latin typeface="Arial"/>
              </a:rPr>
              <a:t>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25960" y="3029040"/>
            <a:ext cx="181080" cy="1440"/>
          </a:xfrm>
          <a:prstGeom prst="line">
            <a:avLst/>
          </a:prstGeom>
          <a:ln cap="rnd" w="3816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64920" y="2954160"/>
            <a:ext cx="721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66ff"/>
                </a:solidFill>
                <a:latin typeface="Arial"/>
              </a:rPr>
              <a:t>Botsw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25160" y="3919680"/>
            <a:ext cx="179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ith low HIV preval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08680" y="4216320"/>
            <a:ext cx="182520" cy="180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53760" y="4141800"/>
            <a:ext cx="884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99cc"/>
                </a:solidFill>
                <a:latin typeface="Arial"/>
              </a:rPr>
              <a:t>Madagas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925960" y="4363920"/>
            <a:ext cx="749880" cy="182880"/>
            <a:chOff x="5925960" y="4363920"/>
            <a:chExt cx="749880" cy="182880"/>
          </a:xfrm>
        </p:grpSpPr>
        <p:sp>
          <p:nvSpPr>
            <p:cNvPr id="107" name=""/>
            <p:cNvSpPr/>
            <p:nvPr/>
          </p:nvSpPr>
          <p:spPr>
            <a:xfrm>
              <a:off x="5925960" y="4437720"/>
              <a:ext cx="181440" cy="144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8320" y="4363920"/>
              <a:ext cx="587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Arial"/>
                </a:rPr>
                <a:t>Seneg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5925960" y="4660920"/>
            <a:ext cx="181080" cy="144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22880" y="4587840"/>
            <a:ext cx="30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ccff"/>
                </a:solidFill>
                <a:latin typeface="Arial"/>
              </a:rPr>
              <a:t>M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4760" y="6021360"/>
            <a:ext cx="483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UN Department of Economic and Social Affairs (200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World Population Prospects, the 2000 Revision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966960" y="3938040"/>
            <a:ext cx="365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068480" y="5217840"/>
            <a:ext cx="4654080" cy="502920"/>
            <a:chOff x="1068480" y="5217840"/>
            <a:chExt cx="4654080" cy="502920"/>
          </a:xfrm>
        </p:grpSpPr>
        <p:sp>
          <p:nvSpPr>
            <p:cNvPr id="114" name=""/>
            <p:cNvSpPr/>
            <p:nvPr/>
          </p:nvSpPr>
          <p:spPr>
            <a:xfrm flipV="1">
              <a:off x="1068480" y="5217840"/>
              <a:ext cx="144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49436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191484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23410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7586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18456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360504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0312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4488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487512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529524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720040" y="5217840"/>
              <a:ext cx="252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72960" y="1752480"/>
            <a:ext cx="5348160" cy="3577320"/>
            <a:chOff x="372960" y="1752480"/>
            <a:chExt cx="5348160" cy="3577320"/>
          </a:xfrm>
        </p:grpSpPr>
        <p:sp>
          <p:nvSpPr>
            <p:cNvPr id="127" name=""/>
            <p:cNvSpPr/>
            <p:nvPr/>
          </p:nvSpPr>
          <p:spPr>
            <a:xfrm>
              <a:off x="1068480" y="4731120"/>
              <a:ext cx="4652640" cy="36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68480" y="424692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68480" y="3771360"/>
              <a:ext cx="4652640" cy="144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68480" y="328320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68480" y="280692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68480" y="231948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068480" y="184320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68480" y="1843200"/>
              <a:ext cx="1440" cy="336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977760" y="520884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977760" y="4731120"/>
              <a:ext cx="88920" cy="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977760" y="424656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977760" y="3771360"/>
              <a:ext cx="88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977760" y="328284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977760" y="280656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977760" y="231912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977040" y="1842840"/>
              <a:ext cx="885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68480" y="5209200"/>
              <a:ext cx="46526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78720" y="2382120"/>
              <a:ext cx="4233240" cy="1587960"/>
            </a:xfrm>
            <a:custGeom>
              <a:avLst/>
              <a:gdLst/>
              <a:ahLst/>
              <a:rect l="l" t="t" r="r" b="b"/>
              <a:pathLst>
                <a:path w="546" h="150">
                  <a:moveTo>
                    <a:pt x="0" y="109"/>
                  </a:moveTo>
                  <a:lnTo>
                    <a:pt x="55" y="89"/>
                  </a:lnTo>
                  <a:lnTo>
                    <a:pt x="109" y="70"/>
                  </a:lnTo>
                  <a:lnTo>
                    <a:pt x="164" y="50"/>
                  </a:lnTo>
                  <a:lnTo>
                    <a:pt x="218" y="31"/>
                  </a:lnTo>
                  <a:lnTo>
                    <a:pt x="273" y="13"/>
                  </a:lnTo>
                  <a:lnTo>
                    <a:pt x="328" y="0"/>
                  </a:lnTo>
                  <a:lnTo>
                    <a:pt x="382" y="18"/>
                  </a:lnTo>
                  <a:lnTo>
                    <a:pt x="437" y="94"/>
                  </a:lnTo>
                  <a:lnTo>
                    <a:pt x="491" y="150"/>
                  </a:lnTo>
                  <a:lnTo>
                    <a:pt x="546" y="150"/>
                  </a:lnTo>
                </a:path>
              </a:pathLst>
            </a:custGeom>
            <a:noFill/>
            <a:ln cap="rnd" w="50760">
              <a:solidFill>
                <a:srgbClr val="ff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78720" y="2945520"/>
              <a:ext cx="4233240" cy="1616400"/>
            </a:xfrm>
            <a:custGeom>
              <a:avLst/>
              <a:gdLst/>
              <a:ahLst/>
              <a:rect l="l" t="t" r="r" b="b"/>
              <a:pathLst>
                <a:path w="546" h="153">
                  <a:moveTo>
                    <a:pt x="0" y="153"/>
                  </a:moveTo>
                  <a:lnTo>
                    <a:pt x="55" y="133"/>
                  </a:lnTo>
                  <a:lnTo>
                    <a:pt x="109" y="115"/>
                  </a:lnTo>
                  <a:lnTo>
                    <a:pt x="164" y="97"/>
                  </a:lnTo>
                  <a:lnTo>
                    <a:pt x="218" y="79"/>
                  </a:lnTo>
                  <a:lnTo>
                    <a:pt x="273" y="60"/>
                  </a:lnTo>
                  <a:lnTo>
                    <a:pt x="328" y="50"/>
                  </a:lnTo>
                  <a:lnTo>
                    <a:pt x="382" y="49"/>
                  </a:lnTo>
                  <a:lnTo>
                    <a:pt x="437" y="34"/>
                  </a:lnTo>
                  <a:lnTo>
                    <a:pt x="491" y="18"/>
                  </a:lnTo>
                  <a:lnTo>
                    <a:pt x="546" y="0"/>
                  </a:lnTo>
                </a:path>
              </a:pathLst>
            </a:custGeom>
            <a:noFill/>
            <a:ln w="507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78720" y="2298600"/>
              <a:ext cx="4233240" cy="1472400"/>
            </a:xfrm>
            <a:custGeom>
              <a:avLst/>
              <a:gdLst/>
              <a:ahLst/>
              <a:rect l="l" t="t" r="r" b="b"/>
              <a:pathLst>
                <a:path w="546" h="139">
                  <a:moveTo>
                    <a:pt x="0" y="139"/>
                  </a:moveTo>
                  <a:lnTo>
                    <a:pt x="55" y="111"/>
                  </a:lnTo>
                  <a:lnTo>
                    <a:pt x="109" y="93"/>
                  </a:lnTo>
                  <a:lnTo>
                    <a:pt x="164" y="76"/>
                  </a:lnTo>
                  <a:lnTo>
                    <a:pt x="218" y="60"/>
                  </a:lnTo>
                  <a:lnTo>
                    <a:pt x="273" y="47"/>
                  </a:lnTo>
                  <a:lnTo>
                    <a:pt x="328" y="34"/>
                  </a:lnTo>
                  <a:lnTo>
                    <a:pt x="382" y="18"/>
                  </a:lnTo>
                  <a:lnTo>
                    <a:pt x="437" y="0"/>
                  </a:lnTo>
                  <a:lnTo>
                    <a:pt x="491" y="32"/>
                  </a:lnTo>
                  <a:lnTo>
                    <a:pt x="546" y="117"/>
                  </a:lnTo>
                </a:path>
              </a:pathLst>
            </a:custGeom>
            <a:noFill/>
            <a:ln cap="rnd" w="50760">
              <a:solidFill>
                <a:srgbClr val="99cc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78720" y="2871360"/>
              <a:ext cx="4233240" cy="1713240"/>
            </a:xfrm>
            <a:custGeom>
              <a:avLst/>
              <a:gdLst/>
              <a:ahLst/>
              <a:rect l="l" t="t" r="r" b="b"/>
              <a:pathLst>
                <a:path w="546" h="162">
                  <a:moveTo>
                    <a:pt x="0" y="162"/>
                  </a:moveTo>
                  <a:lnTo>
                    <a:pt x="55" y="153"/>
                  </a:lnTo>
                  <a:lnTo>
                    <a:pt x="109" y="146"/>
                  </a:lnTo>
                  <a:lnTo>
                    <a:pt x="164" y="134"/>
                  </a:lnTo>
                  <a:lnTo>
                    <a:pt x="218" y="114"/>
                  </a:lnTo>
                  <a:lnTo>
                    <a:pt x="273" y="93"/>
                  </a:lnTo>
                  <a:lnTo>
                    <a:pt x="328" y="73"/>
                  </a:lnTo>
                  <a:lnTo>
                    <a:pt x="382" y="55"/>
                  </a:lnTo>
                  <a:lnTo>
                    <a:pt x="437" y="36"/>
                  </a:lnTo>
                  <a:lnTo>
                    <a:pt x="491" y="18"/>
                  </a:lnTo>
                  <a:lnTo>
                    <a:pt x="546" y="0"/>
                  </a:lnTo>
                </a:path>
              </a:pathLst>
            </a:custGeom>
            <a:noFill/>
            <a:ln w="50760">
              <a:solidFill>
                <a:srgbClr val="ff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78720" y="2099520"/>
              <a:ext cx="4233240" cy="2526840"/>
            </a:xfrm>
            <a:custGeom>
              <a:avLst/>
              <a:gdLst/>
              <a:ahLst/>
              <a:rect l="l" t="t" r="r" b="b"/>
              <a:pathLst>
                <a:path w="546" h="239">
                  <a:moveTo>
                    <a:pt x="0" y="180"/>
                  </a:moveTo>
                  <a:lnTo>
                    <a:pt x="55" y="153"/>
                  </a:lnTo>
                  <a:lnTo>
                    <a:pt x="109" y="135"/>
                  </a:lnTo>
                  <a:lnTo>
                    <a:pt x="164" y="111"/>
                  </a:lnTo>
                  <a:lnTo>
                    <a:pt x="218" y="83"/>
                  </a:lnTo>
                  <a:lnTo>
                    <a:pt x="273" y="54"/>
                  </a:lnTo>
                  <a:lnTo>
                    <a:pt x="328" y="25"/>
                  </a:lnTo>
                  <a:lnTo>
                    <a:pt x="382" y="0"/>
                  </a:lnTo>
                  <a:lnTo>
                    <a:pt x="437" y="20"/>
                  </a:lnTo>
                  <a:lnTo>
                    <a:pt x="491" y="163"/>
                  </a:lnTo>
                  <a:lnTo>
                    <a:pt x="546" y="239"/>
                  </a:lnTo>
                </a:path>
              </a:pathLst>
            </a:custGeom>
            <a:noFill/>
            <a:ln cap="rnd" w="50760">
              <a:solidFill>
                <a:srgbClr val="3366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78720" y="3082320"/>
              <a:ext cx="4233240" cy="1713240"/>
            </a:xfrm>
            <a:custGeom>
              <a:avLst/>
              <a:gdLst/>
              <a:ahLst/>
              <a:rect l="l" t="t" r="r" b="b"/>
              <a:pathLst>
                <a:path w="546" h="162">
                  <a:moveTo>
                    <a:pt x="0" y="162"/>
                  </a:moveTo>
                  <a:lnTo>
                    <a:pt x="55" y="144"/>
                  </a:lnTo>
                  <a:lnTo>
                    <a:pt x="109" y="126"/>
                  </a:lnTo>
                  <a:lnTo>
                    <a:pt x="164" y="103"/>
                  </a:lnTo>
                  <a:lnTo>
                    <a:pt x="218" y="84"/>
                  </a:lnTo>
                  <a:lnTo>
                    <a:pt x="273" y="66"/>
                  </a:lnTo>
                  <a:lnTo>
                    <a:pt x="328" y="55"/>
                  </a:lnTo>
                  <a:lnTo>
                    <a:pt x="382" y="37"/>
                  </a:lnTo>
                  <a:lnTo>
                    <a:pt x="437" y="26"/>
                  </a:lnTo>
                  <a:lnTo>
                    <a:pt x="491" y="11"/>
                  </a:lnTo>
                  <a:lnTo>
                    <a:pt x="546" y="0"/>
                  </a:lnTo>
                </a:path>
              </a:pathLst>
            </a:custGeo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9840" y="5116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9840" y="46400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9840" y="41526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9840" y="367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9840" y="3190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9840" y="27122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99840" y="22266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98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6200000">
              <a:off x="-506520" y="3642840"/>
              <a:ext cx="197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Life expectancy (year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065960" y="5294160"/>
            <a:ext cx="470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50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94720" y="5294160"/>
            <a:ext cx="435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55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162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4144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622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8780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1404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3236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578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86280" y="53085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038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00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583480" y="618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1449360" y="1461960"/>
            <a:ext cx="5667480" cy="3934080"/>
            <a:chOff x="1449360" y="1461960"/>
            <a:chExt cx="5667480" cy="3934080"/>
          </a:xfrm>
        </p:grpSpPr>
        <p:sp>
          <p:nvSpPr>
            <p:cNvPr id="173" name=""/>
            <p:cNvSpPr txBox="1"/>
            <p:nvPr/>
          </p:nvSpPr>
          <p:spPr>
            <a:xfrm>
              <a:off x="1449360" y="1461960"/>
              <a:ext cx="5667480" cy="393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4" name=""/>
          <p:cNvGraphicFramePr/>
          <p:nvPr/>
        </p:nvGraphicFramePr>
        <p:xfrm>
          <a:off x="1187280" y="1709640"/>
          <a:ext cx="3383280" cy="27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9640"/>
                    <a:ext cx="3383280" cy="27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2806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2646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187280" y="1773360"/>
          <a:ext cx="6696360" cy="3384360"/>
        </p:xfrm>
        <a:graphic>
          <a:graphicData uri="http://schemas.openxmlformats.org/drawingml/2006/table">
            <a:tbl>
              <a:tblPr/>
              <a:tblGrid>
                <a:gridCol w="3240360"/>
                <a:gridCol w="3456000"/>
              </a:tblGrid>
              <a:tr h="33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0" y="1662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427640" y="1920960"/>
          <a:ext cx="3600360" cy="266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1920960"/>
                    <a:ext cx="3600360" cy="26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826920" y="82512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The overwhelming bu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792920" y="6589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32000" y="1916280"/>
            <a:ext cx="2952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frica's shar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global disease bu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1916280"/>
            <a:ext cx="3168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frica's shar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world's health work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Things may get worse in the future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and for care in industrialised world will continue to grow; even if demand per person were constant, demographic changes – ageing - would demand more H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ions show that if the industrialised world wants to maintain present levels of care, this will require an extra 8.5M health workers by 2025: an increase of 2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stern Europe has problem with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increased demand, increases in HRH requirements will impact global labour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95aa"/>
                </a:solidFill>
                <a:latin typeface="Arial"/>
              </a:rPr>
              <a:t>1.3 Comprehensive Development Framework, “Vision  2025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verty Eradication Action Plan (PEAP/PRS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l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mework for Economic Growth and Trans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 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oval of constraints to the 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itable and efficient collection and use of public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suring Good Governance and Security: effective and functioning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ing public service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ucing corruption, promoting transparency and particip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suring law and order and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755640" y="6165720"/>
            <a:ext cx="4705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ctor-Wide Approaches, Uganda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5796000" y="6021360"/>
          <a:ext cx="88596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0" y="6021360"/>
                    <a:ext cx="8859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dership and Management capacity for Health Services (centre and distric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uman resources – recruitment, retention and deploy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acity of Instit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rated Health System Delivery of Minimum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nowledge g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sectoral collaboratio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staining partnership and tru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lement Paris Declaration on Aid Effectiven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staining level of commitment and mutual respec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Initi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 health sector public resource envelo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cro-economics and Heal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Global Health Workforce Crisis: Milestones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Joint Learning Initiative 2002 -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ual Commonwealth Health Ministers 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rican Ministers at three World Health Assemb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ld Health Report 20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 Level Forum on Health MD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slo 1, Oslo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Health Workforce Al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6:30:22Z</dcterms:created>
  <dc:creator>fouquet</dc:creator>
  <dc:description/>
  <dc:language>en-US</dc:language>
  <cp:lastModifiedBy> </cp:lastModifiedBy>
  <dcterms:modified xsi:type="dcterms:W3CDTF">2007-10-23T10:39:24Z</dcterms:modified>
  <cp:revision>3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54523036</vt:r8>
  </property>
  <property fmtid="{D5CDD505-2E9C-101B-9397-08002B2CF9AE}" pid="3" name="_AuthorEmail">
    <vt:lpwstr>FouquetP@who.int</vt:lpwstr>
  </property>
  <property fmtid="{D5CDD505-2E9C-101B-9397-08002B2CF9AE}" pid="4" name="_AuthorEmailDisplayName">
    <vt:lpwstr>Fouquet, Pierre Benjamin</vt:lpwstr>
  </property>
  <property fmtid="{D5CDD505-2E9C-101B-9397-08002B2CF9AE}" pid="5" name="_EmailSubject">
    <vt:lpwstr>STB_berlin.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