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E6A-1530-43E6-81EF-BC0B6387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BB28-CFBE-4259-8A26-D7AFDCEF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8238-CC7E-4571-A2CC-09A8CE87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1CCC-E979-4FF1-8391-AB9BB062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D343-8614-4FF5-9A08-6681B2EC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C832-6B5B-4C4A-9DFB-C317E070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BAE0-DF67-4BFD-B5D7-499C04A6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ABF3-B34D-4E24-98D6-C3F6A3A4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95F8-D141-4D5D-B6D6-325327FF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8DAE-B484-4BC7-90BE-82FCA05D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79CD-0915-477E-AEE2-913BD95B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0C3-9217-4C2C-AE6B-C8B8A90D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9D9C-E8E5-4FBB-9AE3-DD2EB77E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8EB2-D78D-48E7-BFED-00ED05A2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80CC-D890-46A6-8E70-F91614C5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ED80-57FA-4801-8080-5A90135F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755A-1C20-4DB7-BEFC-B6B17802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E6B-38F2-4113-A262-C2D6F0C1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AE7E-E780-4DFA-B9FF-B32DDA25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8E6-9690-4F4E-887D-1D290F85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C2F-61B1-40F5-BB7A-0B3F81C3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8B79-6A40-4819-B4A7-BE2D21DF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AFF-ABC1-48A8-B897-57A0C0A6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8B51-2B79-412A-BEC8-F9493ECB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8547-E5DC-4277-B7FB-5F5D217D2C2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51DC-AA4E-47AB-B4BE-CAB5C6942AE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 perspective of the community evolution in TB control (2005-2007), by a living legend.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on of the UCCATM for the Civil Society to engage in Political advocacy in Kenya.( this was after TB grant Round 2, Phase 2 was suspended in Kenya 200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ting of the suspension on R2 P2,its sig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ing of Round 5 and money disbur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ocacy for TB representation on the C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civil society engagement in TB activ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drawal of the Industrial property bill from parliament-Bill to ensure use of brand drugs only for HIV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media coverage on TB and TB/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sing of the political profile of TB in Keny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lanned activ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ive effort campaign on TB in Kenya-(gazzetement of TB and HIV as emergenc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os engagement of civil societies to think and do TB work at grass root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HA conference April 2007 “Impact of TB among PLH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ly I stay committed to TB advocacy and be assured that you cant count on me for your support in all TB work= TB free wor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knowledg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ard members for all their unwavering support  for patient empowe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munity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l the community representatives at the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 Jeremiah Chak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Educational f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I referral Hosp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vil Society in Ken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ntry Point in TB &amp;TB/HIV advocac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/HIV co-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iving the dual epide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pite an immune re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 started after open confession of living with HIV  being the first HCW to openly acknowledge hav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ion in TB/HIV advocacy organized by WH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national advoca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 by Results educational fund to participate in media work prior to G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nvolved media interviews on Good morning Scotland and BBC English and Kiswahili program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n one meetings with Parliamentarians in UK to sensitise them of the TB situation i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of TB letter to Tony Blair’s office prior to G8 to advocate for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ever board member to represent communities affected on the Stop TB C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ative on the TB/HIV working group and cor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to the Open Society Institute Community advisory Committee on TB/HIV monitoring and advocacy project –Projec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gass Global Task force 2006 to represent TB/HI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achievements 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unity engagement within the Stop TB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epresentative on the C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moting TB/HIV advisor in UNA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tion of component 5 within the Stop TB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tion in HLM’s and Global plan 2 launch in Africa and Toronto AIDS confere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G research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G-OSI collaboration for TB, TB-HIV advocacy training and treatment liter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ablishment of a Community Task For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eading the TB-HIV WG to endorse universal targets for TB-HIV collaborative ac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Global achievements 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Patients Char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obal media articles-Maputo, Toronto on TB and TB/HI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Civil Society Challenge f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greater collaboration among WHO HIV and TB Departments and UNAI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expanded diagnosis of smear negative of extra-pulmonary TB in high HIV prevalence ar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new TB drugs, better TB diagnostics and a new TB vac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donors support for TB contro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rican emergency declaration on TB-South Africa, Nigeria, Tanzania and Malawi – Kenya ???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African Civil society on TB/HIV prior to the Abuja summit that resulted in the specific TB/HIV indicators in the common position paper (post Abu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on in the ACSO taskforce to represent TB/HIV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ion in the 2nd Training of TB/HIV advocates in Africa. And TAG’s workshop that brought together 70 participants from African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World Bank Pres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Finance during the recent UNECA meeting in Add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Health during the recent Jo Burg meeting April 200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B Emergency- CSO advo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raining of journalists on TB/HIV March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% campaign on Health by AC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nyan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/HIV steering committ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 I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MOI Referral Hospital TB/HIV committee that resulted in one stop clinic for TB/H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United Civil society Coalition on AIDS,TB and Malaria representing T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literacy on TB and TB/HIV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ask force on TB/HIV for training journa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5:39:40Z</dcterms:created>
  <dc:creator>  </dc:creator>
  <dc:description/>
  <dc:language>en-US</dc:language>
  <cp:lastModifiedBy>Ezio T. Santos Filho</cp:lastModifiedBy>
  <dcterms:modified xsi:type="dcterms:W3CDTF">2007-04-18T17:05:47Z</dcterms:modified>
  <cp:revision>15</cp:revision>
  <dc:subject/>
  <dc:title>2004-2006 Patient Empowerment</dc:title>
</cp:coreProperties>
</file>