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640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42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640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D5F3163-8477-4D4E-B04D-D7D023A678C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776760" y="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7676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1D72-66EF-4545-9652-F4089B6A6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6795-BB1B-4B6A-8295-A5A2AD03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114B-3342-4D95-A5CB-9B6D88CDA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06C6-3EC4-494B-B2B1-9951EE749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39E1-6162-4F26-827F-877A0DDC4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F908-770C-4747-995C-5D81C94C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0A5F-1C6C-412C-B88C-B6DF16CB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F4D7-7550-48F5-BE8D-BED933A4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1A0B-223A-45E3-8C87-82933627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4388-F7E0-46D3-92CB-439ABC13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EE59-FFC5-44A8-9924-794E2A4E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555F-FA7A-4275-B015-1EDB67C5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E0EA-85FA-48E2-A316-B3E72E87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A6EF-11B9-4886-BDE7-F2C90730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64DE-5236-4FA7-8A1F-A91FDDFD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9074-77F6-4439-AE67-542766543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31CC-1140-4044-9C07-1209C854F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0834-DEAB-4163-8B9E-823D8572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22EC-6D22-4CCE-AAB9-4DB30E5B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6E57-C73F-49FA-8AAC-F3EFD59D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E9E8-14DC-4A04-869A-0933E641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997A-2C4D-4289-A74B-557631A9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F30D-6DD6-4D59-9846-6C0AA247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423C-9F2C-4033-9D8E-7534EAC2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2DC7-EF42-4E06-A6C0-C234B8001FF5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E927-BBF4-4DFA-B5BF-1D06B3693724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ANNUAL REPORT 2006</a:t>
            </a:r>
            <a:endParaRPr b="1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Tahoma"/>
              </a:rPr>
              <a:t>Principal Highlight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217000" y="4869000"/>
            <a:ext cx="458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3409200" y="1065600"/>
            <a:ext cx="1904400" cy="73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arcos Esp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xecutive Secre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38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come an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penditure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905120"/>
            <a:ext cx="8142120" cy="44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   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COM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34,350     58,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PENDITUR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36,660     52,9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CREASE IN INCOME OVER 2005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6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CREASE IN EXPENDITURE OVER 2005 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39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com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1700280"/>
            <a:ext cx="8763120" cy="24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HI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5,472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3,97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DF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 28,878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4,07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4,350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58,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450864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INCREASE IN GDF INCOME             </a:t>
            </a: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	</a:t>
            </a: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53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INCREASE IN PARTNERSHIP INCOME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155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xpenditures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01600" y="1341360"/>
            <a:ext cx="8763120" cy="49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 Suppor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,211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5,79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dvocacy &amp; Communication            929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9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DF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  30,196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43,34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eneral Management &amp; ADM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324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74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36,660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52,97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ransferred to reserve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Surplus/(deficit) of incom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fter reserves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(2,310)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,08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0320" y="1341360"/>
            <a:ext cx="8762760" cy="48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National partnershi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54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hip building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606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6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A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312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44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overnance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47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72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Working Group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52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77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echnical Assistance to India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_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0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24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,211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5,7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720" y="11556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Partn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upport Expenditure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DF Expenditure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30320" y="1341360"/>
            <a:ext cx="8762760" cy="36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rocurement of TB Drug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8,367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41,34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QA &amp; pre-qualification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2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8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A, monitoring and salar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1,649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87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dvocacy &amp; communication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57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_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0,196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43,3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otal income for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years 2000 to 2006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138320" y="1460520"/>
          <a:ext cx="6505560" cy="438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38320" y="1460520"/>
                    <a:ext cx="6505560" cy="43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116000" y="55166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OMPOUND ANNUAL GROWTH RATE OF 43.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24760" y="3933720"/>
            <a:ext cx="541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4.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02240" y="2743200"/>
            <a:ext cx="473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95280" y="1409760"/>
          <a:ext cx="3824280" cy="53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09760"/>
                    <a:ext cx="3824280" cy="5332320"/>
                  </a:xfrm>
                  <a:prstGeom prst="rect">
                    <a:avLst/>
                  </a:prstGeom>
                  <a:ln w="324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920" y="1249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aunch of the Global Plan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43280" y="2349360"/>
            <a:ext cx="417672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ointment of the first ever UN Secretary General Special Envoy to Stop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1628640"/>
            <a:ext cx="8964720" cy="475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4392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igher profile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360" y="1196640"/>
            <a:ext cx="9216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all to Stop TB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C, G8, UNGASS, Ibero-American Summit, African Union Summit, AIDS Int Conf, Clinton Summit, World TB Day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uropean Regional Partnership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ountry Partnerships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High Level Missions to Brazil, Nigeria, India, Indonesia 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ngagement of world leaders (Annan, Arroyo, Brown, Gates, Kaunda, Obasanjo, Sampaio, Tutu, and others)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Kochon Award 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Parliamentarian Groups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oordinating Board  – Nigeria and Indonesia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256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21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ing Groups Highlights I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nnual meetin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Drug development (Paris), Diagnostics (Paris), Vaccines (Vienna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ven drugs in clinical develop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pen Forum on regulatory hurdl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athway to patients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GATB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ew phage-based test for detection of RIF resi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iagnosis for TB: Global Demand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FIND/TDR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wo vaccines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Oxford, Aeras/Crucell)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in clinical tri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hase III trials sites in Ethiopia, India, and Uganda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AERAS/EDCTP/TBVAC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ing Groups Highlights II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360" y="1484280"/>
            <a:ext cx="9288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ual meeting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OTS Expansion (Paris), MDR-TB (Atlanta), TB/HIV (Toronto), ACSM (Milan/Par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0% Case Detection – 84% Treatment Succes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B TEAM – Global F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national Standards for TB Ca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DR-TB Global 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LC – 53 project – 25 000 pati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ection control sub-group under TB/HIV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SM at country level – US$ 30 m – Sixth GF ro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-273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top TB Partnership Global Coalition on Technical Assistance (TBTEAM) – Global Fun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8360" y="1414440"/>
          <a:ext cx="849636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14440"/>
                    <a:ext cx="849636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7308720" y="981000"/>
            <a:ext cx="1150920" cy="647640"/>
          </a:xfrm>
          <a:prstGeom prst="wedgeRoundRectCallout">
            <a:avLst>
              <a:gd name="adj1" fmla="val -43791"/>
              <a:gd name="adj2" fmla="val 56370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64% incl. Pakistan 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8160" y="4510080"/>
            <a:ext cx="1150920" cy="647640"/>
          </a:xfrm>
          <a:prstGeom prst="wedgeRoundRectCallout">
            <a:avLst>
              <a:gd name="adj1" fmla="val -77722"/>
              <a:gd name="adj2" fmla="val 44361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35 incl. Pakistan 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1413000"/>
            <a:ext cx="4105080" cy="792000"/>
          </a:xfrm>
          <a:prstGeom prst="wedgeRoundRectCallout">
            <a:avLst>
              <a:gd name="adj1" fmla="val -4407"/>
              <a:gd name="adj2" fmla="val 36972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Tahoma"/>
              </a:rPr>
              <a:t>2004 Beij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CB approves the concept of country TA on GFATM grants through DOTS Expansion W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42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DF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1471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proval of 3.3 million anti-TB drug treatments reaching 10 m patient treatm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ced new drug orders worth US$29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 range expanded to include second line anti-TB dru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hnical assistance to 58 countries by drug management and TB exper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bvisitor</cp:lastModifiedBy>
  <cp:lastPrinted>2004-03-15T16:24:32Z</cp:lastPrinted>
  <dcterms:modified xsi:type="dcterms:W3CDTF">2007-04-19T13:20:21Z</dcterms:modified>
  <cp:revision>179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