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3BFF-7F63-4615-8EA2-A4436245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9CD3-15C4-44FC-B1DB-C7EF2F8B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3A40-4BC4-416A-9E21-5E1DA156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09DD-ED28-4F81-8C92-29F4DDE3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38F7-391B-4B3C-A868-0D899F1A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0579-9F9C-47CC-B933-7DCC5417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FE08-6490-4F49-AECA-F98BDAC4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0D6A-8931-4FA8-8E96-B4E31355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E053-2D7A-43DE-B09D-6281F79B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B402-786C-4049-96CC-D2D504CD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E49-77B8-49E9-BE16-DD599B42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7778-8032-4530-B535-BE5BDC46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5A50-D3FD-4553-A6A2-678EDA27A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05264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Financing TB control: </a:t>
            </a:r>
            <a:br>
              <a:rPr sz="3800"/>
            </a:b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Recent trends and the role of a new tool for planning and budgeting at country level </a:t>
            </a:r>
            <a:br>
              <a:rPr sz="3800"/>
            </a:br>
            <a:br>
              <a:rPr sz="2400"/>
            </a:b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therine Floyd, Andrea Pantoj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Coordinating Board Meet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v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2000" y="5013360"/>
            <a:ext cx="2952720" cy="1646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Part 2: WHO planning and 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budgeting to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Plans for individual countries for 2006 onwards not always in line with Global Plan, especially for newer components of Stop TB Strategy (country plans tend to be less ambitious)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TB "planning and budgeting" tool developed to assist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line with Global Plan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, as well as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alled a "planning and budgeting" tool to highl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Plans should include a budget, but sometimes do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Budgets should be based on and in line with plan goals, objectives and plann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ment proc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125360"/>
          <a:ext cx="8209080" cy="5204160"/>
        </p:xfrm>
        <a:graphic>
          <a:graphicData uri="http://schemas.openxmlformats.org/drawingml/2006/table">
            <a:tbl>
              <a:tblPr/>
              <a:tblGrid>
                <a:gridCol w="1728720"/>
                <a:gridCol w="648036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developed and submitted to USAID via TBCA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2006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approved by USAI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Ma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 version of tool developed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on planning frameworks developed for Global Plan and STB workshops for Global Fund proposal develop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-testing + practical application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, Indonesia, Kenya, Somalia, South Africa, regional planning workshop for 10 priority countries in Latin Ameri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s and finalization based on field-tes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mpanying documentation + sharepoint site prepar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 into French, Spanish, Russi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of sharepoint s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374920" y="239400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62280" y="317016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521160" y="2921040"/>
          <a:ext cx="511200" cy="517320"/>
        </p:xfrm>
        <a:graphic>
          <a:graphicData uri="http://schemas.openxmlformats.org/drawingml/2006/table">
            <a:tbl>
              <a:tblPr/>
              <a:tblGrid>
                <a:gridCol w="511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704960" y="-1477800"/>
          <a:ext cx="523800" cy="517320"/>
        </p:xfrm>
        <a:graphic>
          <a:graphicData uri="http://schemas.openxmlformats.org/drawingml/2006/table">
            <a:tbl>
              <a:tblPr/>
              <a:tblGrid>
                <a:gridCol w="5238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31640" y="2421000"/>
            <a:ext cx="6985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Guided tour of the to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General benefits of using the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353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Should improve quality of plans and budgets and save time once initial effort to understand/use tool is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Easy to revise or update plans/budgets when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lans and budgets for TB control set out comprehensively in one place, in standardize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Much of plan document itself can be produced by writing written text description of what is set out in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solid foundation for resource mobilization including applications to Global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framework for monitoring and evaluation of plan implementation as well as comparisons among and within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Automatically produces financial information requested on annual WHO data collectio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32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Promotion, practical application, next step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39640" y="1268280"/>
          <a:ext cx="8136000" cy="4937400"/>
        </p:xfrm>
        <a:graphic>
          <a:graphicData uri="http://schemas.openxmlformats.org/drawingml/2006/table">
            <a:tbl>
              <a:tblPr/>
              <a:tblGrid>
                <a:gridCol w="1295640"/>
                <a:gridCol w="6840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06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to WHO EURO regional and country office staff followed by training in how to use the t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s with Global Fund r.e. use of tool in Rd 6 and Rd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workshops for countries with Round 6 gra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 inter-regional planning and budgeting workshop for 10 countries, Ca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ch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nning and budgeting 5-day  workshop for priority African countries in Brazzaville, 19 countries represent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-May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Global Fund Round 7 workshops in Nepal (SEAR, EMR), Cairo (EMR, AFR), Harare and Dakar (AF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-up support to countries that have used the to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planning and budgeting workshop for African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Issues for the Coordinating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985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dorse and help to support planning and budgeting in line with the Global Plan at country level, including promotion and practical application of the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pport resource mobilization efforts based on the foundation of robust and country-owned plans and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5596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. Too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rea Pantoja (S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ilippe Veltsos (IT support t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. Funding: U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sharepoint.who.int/sites/TBbudge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User name: ads\TB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assword: 2Budget4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64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1: Financing TB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Recent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omparisons with the Global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2: WHO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Guided tour to illustrate main features (practical demons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ractical application to date and 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NTP budgets by source of funding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47640" y="1600200"/>
          <a:ext cx="798048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600200"/>
                    <a:ext cx="798048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Total TB control costs by funding source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164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lanning and funding: The Global Plan vs. current eff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248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Global Plan sets 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Range and scale at which interventions need to be implemented in 7 regions to achieve MDG and Stop TB Partnership targets globally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Successful implementation requ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untry plans in line with regional plans in 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obilization of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mplementation of planned activities/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755640" y="1989000"/>
            <a:ext cx="3355920" cy="38498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916520" y="1052640"/>
          <a:ext cx="357012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6520" y="1052640"/>
                    <a:ext cx="357012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01640" y="3938760"/>
          <a:ext cx="3409920" cy="265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640" y="3938760"/>
                    <a:ext cx="34099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056200" y="3938760"/>
          <a:ext cx="3289320" cy="265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56200" y="3938760"/>
                    <a:ext cx="32893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39640" y="992160"/>
          <a:ext cx="3654360" cy="2793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992160"/>
                    <a:ext cx="365436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3640" y="907920"/>
          <a:ext cx="3313440" cy="291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907920"/>
                    <a:ext cx="331344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003640" y="3684600"/>
          <a:ext cx="3384720" cy="3017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3684600"/>
                    <a:ext cx="338472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84360" y="836640"/>
          <a:ext cx="3325680" cy="2833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836640"/>
                    <a:ext cx="332568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84360" y="3645000"/>
          <a:ext cx="3384360" cy="308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3645000"/>
                    <a:ext cx="338436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60600" y="4481640"/>
            <a:ext cx="1152720" cy="143028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92640" y="4411800"/>
            <a:ext cx="1190520" cy="150012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60600" y="4202280"/>
            <a:ext cx="1152720" cy="27936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92640" y="4340160"/>
            <a:ext cx="1190520" cy="7164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60600" y="4027320"/>
            <a:ext cx="1152720" cy="17496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92640" y="4097160"/>
            <a:ext cx="1190520" cy="2430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3760920"/>
            <a:ext cx="1152720" cy="2664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92640" y="4005360"/>
            <a:ext cx="1190520" cy="918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92640" y="3970440"/>
            <a:ext cx="1190520" cy="3492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92640" y="3760920"/>
            <a:ext cx="1190520" cy="209520"/>
          </a:xfrm>
          <a:prstGeom prst="rect">
            <a:avLst/>
          </a:prstGeom>
          <a:solidFill>
            <a:srgbClr val="ff00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60600" y="2898720"/>
            <a:ext cx="1152720" cy="862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92640" y="3679920"/>
            <a:ext cx="1190520" cy="810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60600" y="1714680"/>
            <a:ext cx="1152720" cy="11840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92640" y="2795760"/>
            <a:ext cx="1190520" cy="884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3214800"/>
            <a:ext cx="1150920" cy="2697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17880" y="1146240"/>
            <a:ext cx="6120" cy="4765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49400" y="591192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49400" y="5224320"/>
            <a:ext cx="1684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49400" y="454968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49400" y="386568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49400" y="31910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9400" y="250344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1830240"/>
            <a:ext cx="168480" cy="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49400" y="11462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17880" y="5911920"/>
            <a:ext cx="5541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117880" y="5911920"/>
            <a:ext cx="61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9481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827680" y="5911920"/>
            <a:ext cx="97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6597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60600" y="5934240"/>
            <a:ext cx="1487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lobal Plan to Stop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92640" y="5927760"/>
            <a:ext cx="1125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untry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5927760"/>
            <a:ext cx="1279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vailable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720" y="3143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720" y="2432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720" y="17589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720" y="1074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720" y="44784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6720" y="515304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6720" y="38419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3360" y="124920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h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3360" y="2031840"/>
            <a:ext cx="103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3360" y="257652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3360" y="312264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3360" y="3879720"/>
            <a:ext cx="14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SM/CT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3360" y="4425840"/>
            <a:ext cx="128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3360" y="4970520"/>
            <a:ext cx="194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PM/PAL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3360" y="551664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3360" y="5392800"/>
            <a:ext cx="298440" cy="12384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3360" y="4818240"/>
            <a:ext cx="298440" cy="12348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292640"/>
            <a:ext cx="298440" cy="12384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3360" y="3736800"/>
            <a:ext cx="298440" cy="12384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3360" y="2997360"/>
            <a:ext cx="298440" cy="123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3360" y="2441520"/>
            <a:ext cx="298440" cy="12384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3360" y="1865160"/>
            <a:ext cx="298440" cy="1238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3360" y="1125360"/>
            <a:ext cx="298440" cy="1238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anning and funding of TB control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101080" y="5805360"/>
            <a:ext cx="879480" cy="898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381040" y="112536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3.1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50880" y="215568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3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6520" y="260820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0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96360" y="2205000"/>
            <a:ext cx="1333440" cy="25333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Funding gap for the Global Pl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$1.1 billion in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981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Based on 84 countries with 90% global TB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071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 of country reports with Global Plan in Africa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463760"/>
            <a:ext cx="870120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0:44:55Z</dcterms:created>
  <dc:creator>steenbergeng</dc:creator>
  <dc:description/>
  <dc:language>en-US</dc:language>
  <cp:lastModifiedBy>floydk</cp:lastModifiedBy>
  <dcterms:modified xsi:type="dcterms:W3CDTF">2007-04-18T08:52:01Z</dcterms:modified>
  <cp:revision>173</cp:revision>
  <dc:subject/>
  <dc:title>Slide 1</dc:title>
</cp:coreProperties>
</file>