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A064-9D3A-4AA6-8D44-04CEF727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EDFA-1329-40A3-B587-2804D65A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7375-CD67-4336-9223-5967A33D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0A79-658D-46D6-ABE9-1B0FFBBE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6DB2-D463-40CE-B2AC-DDB8E027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C73-FA2F-428C-80A7-0C23450C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F4A8-6D39-4239-B3A7-419BCCBA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BB57-5981-4482-ABD2-4317441C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D1F4-A92A-4A0A-8BBB-0CBAD8F3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2452-EC86-4AD1-9AE4-DBD3EA89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151-4CD0-42AD-9F7B-501F5892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9773-26B2-498C-AECC-1D3AF940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DA34-BB2E-4D9F-B920-B5E5534D8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images.google.ch/imgres?imgurl=http://www.telescope.bg/bg_skywatcher/img/skp25012eq6-sb.jpg&amp;imgrefurl=http://www.telescope.bg/bg/skywatcher.html&amp;h=656&amp;w=360&amp;sz=41&amp;hl=en&amp;start=12&amp;tbnid=JGLvl2dDRxXooM:&amp;tbnh=138&amp;tbnw=76&amp;prev=/images%3Fq%3Dtelescope%26gbv%3D2%26svnum%3D10%26hl%3Den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dTB</a:t>
            </a:r>
            <a:br>
              <a:rPr sz="48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B determinants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meeting 18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ut Lönnr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p TB Department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386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epidemiological patterns associated with the apparent failure to reduce incidence in som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the population level impact on the TB epidemic of various risk factors – Population Attributable Fraction (PA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Explore possible intervention areas not fully covered in the Stop TB Strategy, model potential impact on the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Contribute to the evolution of the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e to Commission on Social Determinants of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 Attributable Fr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selected risk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selection of risk factors with reasonably high prevalence:  HIV, smoking, malnutrition, diabetes, indoor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relative risk estimates (TB disease) from systematic reviews and consultations with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alence estimates for 22 HBCs, from various global datab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of preliminary population attributable fraction for the risk factors in 22 HB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69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1989000"/>
          <a:ext cx="8229600" cy="4575240"/>
        </p:xfrm>
        <a:graphic>
          <a:graphicData uri="http://schemas.openxmlformats.org/drawingml/2006/table">
            <a:tbl>
              <a:tblPr/>
              <a:tblGrid>
                <a:gridCol w="1873080"/>
                <a:gridCol w="2117880"/>
                <a:gridCol w="2119320"/>
                <a:gridCol w="211932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lative risk for active TB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eighted preval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pulation Attributable 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IV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lnutr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be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o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door Air Pol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6084720" y="260280"/>
            <a:ext cx="28814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oretical relative TB decrease if risk factor is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24720" y="1483920"/>
            <a:ext cx="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ed 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and extend risk factor analysis (Crowding, alcohol, occupational exposure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country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impact on TB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hese "downstream" risk factors to "upstream" deter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ntervention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within and outside the health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fine roles for NTPs and Stop TB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ntervention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ogrammatic,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within TB programmes and across public health programmes, to reduce HIV, smoking, malnutrition,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HSS and PHC strengthening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: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improve capacity to address all above risk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Outside health care: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ddress malnutrition, indoor air pollution, crowding, and "upstream" social determinants through social, economic and environmental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spects of the pres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 Stop TB Partnership contribute to the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tentative suggested broad intervention areas  appropriate and fea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be the role of WHO and the Stop TB Partnership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r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ocating need to address social determinants outside the health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ity planners, sociologists, architects, engineers and nutritionists in Stop TB Partnersh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0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causing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4356000" y="1268280"/>
            <a:ext cx="4788000" cy="558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500720" cy="558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97960" y="189000"/>
            <a:ext cx="882360" cy="160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35280" y="3284640"/>
            <a:ext cx="1656000" cy="1296720"/>
          </a:xfrm>
          <a:prstGeom prst="leftArrow">
            <a:avLst>
              <a:gd name="adj1" fmla="val 50000"/>
              <a:gd name="adj2" fmla="val 319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35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geographical vari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1246320"/>
            <a:ext cx="9144000" cy="5638680"/>
            <a:chOff x="0" y="1246320"/>
            <a:chExt cx="9144000" cy="5638680"/>
          </a:xfrm>
        </p:grpSpPr>
        <p:graphicFrame>
          <p:nvGraphicFramePr>
            <p:cNvPr id="52" name=""/>
            <p:cNvGraphicFramePr/>
            <p:nvPr/>
          </p:nvGraphicFramePr>
          <p:xfrm>
            <a:off x="0" y="1246320"/>
            <a:ext cx="9144000" cy="563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46320"/>
                      <a:ext cx="9144000" cy="563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4" name=""/>
            <p:cNvGrpSpPr/>
            <p:nvPr/>
          </p:nvGrpSpPr>
          <p:grpSpPr>
            <a:xfrm>
              <a:off x="0" y="3151080"/>
              <a:ext cx="2438280" cy="1770480"/>
              <a:chOff x="0" y="3151080"/>
              <a:chExt cx="2438280" cy="1770480"/>
            </a:xfrm>
          </p:grpSpPr>
          <p:sp>
            <p:nvSpPr>
              <p:cNvPr id="55" name=""/>
              <p:cNvSpPr/>
              <p:nvPr/>
            </p:nvSpPr>
            <p:spPr>
              <a:xfrm>
                <a:off x="304920" y="3881520"/>
                <a:ext cx="179280" cy="10800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381312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to 4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4920" y="4098960"/>
                <a:ext cx="179280" cy="10800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4030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 to 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04920" y="4314960"/>
                <a:ext cx="179280" cy="108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7200" y="4246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 to 2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4920" y="3448080"/>
                <a:ext cx="179280" cy="108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7200" y="337968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 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4920" y="3665520"/>
                <a:ext cx="179280" cy="1080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7200" y="3597120"/>
                <a:ext cx="190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 to 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4920" y="4530600"/>
                <a:ext cx="179280" cy="1080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57200" y="4462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or m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920" y="4743360"/>
                <a:ext cx="179280" cy="108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57200" y="467532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 Estimat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3151080"/>
                <a:ext cx="1828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er 100 000 popul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men at higher ris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2060640"/>
          <a:ext cx="5148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5148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003640" y="2060640"/>
          <a:ext cx="3816360" cy="45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060640"/>
                    <a:ext cx="381636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68360" y="14842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notified new smear positive cases globally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148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of daily smokers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re the poor at higher ris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461960"/>
            <a:ext cx="9144000" cy="525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64000" y="2560680"/>
            <a:ext cx="2016000" cy="1373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788000" y="3537000"/>
            <a:ext cx="2077920" cy="1555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804000" y="3900600"/>
            <a:ext cx="2160720" cy="151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4" name="" descr="Die Ärtze werden von den Bewohnern bereits erwartet"/>
          <p:cNvPicPr/>
          <p:nvPr/>
        </p:nvPicPr>
        <p:blipFill>
          <a:blip r:embed="rId5"/>
          <a:stretch/>
        </p:blipFill>
        <p:spPr>
          <a:xfrm>
            <a:off x="2502000" y="692280"/>
            <a:ext cx="1674720" cy="223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5373720"/>
            <a:ext cx="237672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/no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ffective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414520" cy="33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79280" y="3645000"/>
            <a:ext cx="2376720" cy="153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0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rfec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health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3789360"/>
            <a:ext cx="2305080" cy="1894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 treatment and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cc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2276640"/>
            <a:ext cx="4032000" cy="2016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515772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623736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3357720"/>
            <a:ext cx="0" cy="358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19640" y="134136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788000" y="2708280"/>
            <a:ext cx="1224000" cy="1081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2781360"/>
            <a:ext cx="1295280" cy="3311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 deaths in England and W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7696440" cy="4270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32720" y="4149720"/>
            <a:ext cx="143964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07664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/>
          <p:cNvPicPr/>
          <p:nvPr/>
        </p:nvPicPr>
        <p:blipFill>
          <a:blip r:embed="rId3"/>
          <a:stretch/>
        </p:blipFill>
        <p:spPr>
          <a:xfrm>
            <a:off x="2843280" y="1844640"/>
            <a:ext cx="1349280" cy="1513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96000" y="4149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tributed 3% of reduction in TB death 1848-19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2924280"/>
            <a:ext cx="2376360" cy="27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Down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sk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or air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1197000"/>
            <a:ext cx="237636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Up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cial, economic and environmental determi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7640" y="566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242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3:08:24Z</dcterms:created>
  <dc:creator>Knut Lonnroth</dc:creator>
  <dc:description/>
  <dc:language>en-US</dc:language>
  <cp:lastModifiedBy>Knut Lonnroth</cp:lastModifiedBy>
  <dcterms:modified xsi:type="dcterms:W3CDTF">2007-04-18T05:39:56Z</dcterms:modified>
  <cp:revision>44</cp:revision>
  <dc:subject/>
  <dc:title>Slide 1</dc:title>
</cp:coreProperties>
</file>