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34E9-E833-422F-92A5-CC9F44F8DF6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A1B08D24-AD07-41E5-A2EC-69E0BC6F5BB0}" type="datetime3">
              <a:rPr b="1" lang="en-GB" sz="1400" spc="-1" strike="noStrike">
                <a:solidFill>
                  <a:srgbClr val="96ccee"/>
                </a:solidFill>
                <a:latin typeface="Arial Narrow"/>
                <a:ea typeface="Arial"/>
              </a:rPr>
              <a:t>31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C1A76A0-21EA-4166-A12C-461C1AE767E6}"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