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4285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1DA68-F724-4D20-BE3F-A6D019111D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90880" y="8705880"/>
            <a:ext cx="299088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CACD833D-269E-45D6-BBDA-B58B6E322590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06640" y="676440"/>
            <a:ext cx="4601880" cy="345096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898560" y="4355640"/>
            <a:ext cx="5013360" cy="41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41A65-EBC8-4E47-899C-7B5437F6C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81946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74360" y="3903840"/>
            <a:ext cx="81946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3421C-EE5B-4801-AF9E-5847BD0C2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74360" y="390384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73400" y="390384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18499-B137-47DA-A7B6-7D8F18676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5280" y="150660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15840" y="150660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74360" y="390384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5280" y="390384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15840" y="390384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D65FD-7678-4921-A654-D12025AA1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774360" y="1506600"/>
            <a:ext cx="81946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81946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26880" y="189000"/>
            <a:ext cx="8299440" cy="32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774360" y="390384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74360" y="1506600"/>
            <a:ext cx="81946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99A1B-623B-4431-924F-4F6722473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973400" y="390384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774360" y="3903840"/>
            <a:ext cx="81946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81946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774360" y="3903840"/>
            <a:ext cx="81946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774360" y="390384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973400" y="390384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45280" y="150660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315840" y="150660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774360" y="390384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545280" y="390384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315840" y="390384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74360" y="1506600"/>
            <a:ext cx="81946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81946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81946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6C261-14CE-4C83-96FE-1789648FB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326880" y="189000"/>
            <a:ext cx="8299440" cy="32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774360" y="390384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973400" y="390384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774360" y="3903840"/>
            <a:ext cx="81946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81946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774360" y="3903840"/>
            <a:ext cx="81946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774360" y="390384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973400" y="390384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545280" y="150660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315840" y="150660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774360" y="390384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545280" y="390384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315840" y="390384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774360" y="1506600"/>
            <a:ext cx="81946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81946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FA686-8DF3-423C-B513-49B546C4B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326880" y="189000"/>
            <a:ext cx="8299440" cy="32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774360" y="390384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973400" y="390384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774360" y="3903840"/>
            <a:ext cx="81946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81946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774360" y="3903840"/>
            <a:ext cx="81946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774360" y="390384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973400" y="390384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545280" y="150660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315840" y="150660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774360" y="390384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545280" y="390384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315840" y="390384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5F117-660D-4ECD-A96F-64AF11E36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774360" y="1506600"/>
            <a:ext cx="81946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81946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326880" y="189000"/>
            <a:ext cx="8299440" cy="32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774360" y="390384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973400" y="390384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774360" y="3903840"/>
            <a:ext cx="81946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81946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774360" y="3903840"/>
            <a:ext cx="81946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774360" y="390384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973400" y="390384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26880" y="189000"/>
            <a:ext cx="8299440" cy="32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3A6CB-63C5-4A4B-8C7A-9FFF39E00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545280" y="150660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315840" y="150660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774360" y="390384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545280" y="390384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315840" y="390384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74360" y="390384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42458-7ACA-405F-8379-2C97A0B95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73400" y="390384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92AD4-0DAD-45A4-9C66-2341F6D67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74360" y="3903840"/>
            <a:ext cx="81946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B6FA9-B7FC-4239-81D8-CCF191DFB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8024C-895B-411B-AB59-1A7AF7700A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 hidden="1"/>
          <p:cNvSpPr/>
          <p:nvPr/>
        </p:nvSpPr>
        <p:spPr>
          <a:xfrm>
            <a:off x="-648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4285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74360" y="1506600"/>
            <a:ext cx="81946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lvl="1" marL="457200" indent="-228600">
              <a:spcBef>
                <a:spcPts val="451"/>
              </a:spcBef>
              <a:buClr>
                <a:srgbClr val="164e6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lvl="2" marL="914400" indent="-228600">
              <a:spcBef>
                <a:spcPts val="451"/>
              </a:spcBef>
              <a:buClr>
                <a:srgbClr val="164e6a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lvl="3" marL="1376280" indent="-233280">
              <a:spcBef>
                <a:spcPts val="451"/>
              </a:spcBef>
              <a:buClr>
                <a:srgbClr val="164e6a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lvl="4" marL="2058840" indent="-230040">
              <a:spcBef>
                <a:spcPts val="451"/>
              </a:spcBef>
              <a:buClr>
                <a:srgbClr val="164e6a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lvl="5" marL="2058840" indent="-2300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lvl="6" marL="2058840" indent="-2300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861400" y="6657840"/>
            <a:ext cx="176400" cy="1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DF58B-523C-4FB9-BEEF-A933C6AC863C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9144000" cy="163440"/>
          </a:xfrm>
          <a:prstGeom prst="rect">
            <a:avLst/>
          </a:prstGeom>
          <a:solidFill>
            <a:srgbClr val="e2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3440" bIns="72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7353360" y="6124680"/>
            <a:ext cx="1622520" cy="493560"/>
          </a:xfrm>
          <a:prstGeom prst="rect">
            <a:avLst/>
          </a:prstGeom>
          <a:ln w="0">
            <a:noFill/>
          </a:ln>
        </p:spPr>
      </p:pic>
      <p:sp>
        <p:nvSpPr>
          <p:cNvPr id="47" name="FooterSimple"/>
          <p:cNvSpPr/>
          <p:nvPr/>
        </p:nvSpPr>
        <p:spPr>
          <a:xfrm>
            <a:off x="505800" y="6529320"/>
            <a:ext cx="28843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d4d4d"/>
                </a:solidFill>
                <a:latin typeface="Arial"/>
              </a:rPr>
              <a:t>17</a:t>
            </a:r>
            <a:r>
              <a:rPr b="0" lang="en-US" sz="800" spc="-1" strike="noStrike" baseline="30000">
                <a:solidFill>
                  <a:srgbClr val="4d4d4d"/>
                </a:solidFill>
                <a:latin typeface="Arial"/>
              </a:rPr>
              <a:t>th</a:t>
            </a:r>
            <a:r>
              <a:rPr b="0" lang="en-US" sz="800" spc="-1" strike="noStrike">
                <a:solidFill>
                  <a:srgbClr val="4d4d4d"/>
                </a:solidFill>
                <a:latin typeface="Arial"/>
              </a:rPr>
              <a:t> Coordinating Board Meeting | Geneva | 5-6 November 200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9144000" cy="163440"/>
          </a:xfrm>
          <a:prstGeom prst="rect">
            <a:avLst/>
          </a:prstGeom>
          <a:solidFill>
            <a:srgbClr val="e2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3440" bIns="72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838760" y="5153040"/>
            <a:ext cx="4056120" cy="1233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154"/>
          <p:cNvSpPr/>
          <p:nvPr/>
        </p:nvSpPr>
        <p:spPr>
          <a:xfrm>
            <a:off x="0" y="0"/>
            <a:ext cx="9144000" cy="163440"/>
          </a:xfrm>
          <a:prstGeom prst="rect">
            <a:avLst/>
          </a:prstGeom>
          <a:solidFill>
            <a:srgbClr val="e2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3440" bIns="72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155" descr="HQ HTM STB TBP - Logo With Continents - v2"/>
          <p:cNvPicPr/>
          <p:nvPr/>
        </p:nvPicPr>
        <p:blipFill>
          <a:blip r:embed="rId2"/>
          <a:stretch/>
        </p:blipFill>
        <p:spPr>
          <a:xfrm>
            <a:off x="4838760" y="5153040"/>
            <a:ext cx="4056120" cy="123336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4285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774360" y="1506600"/>
            <a:ext cx="81946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lvl="1" marL="343080" indent="-343080">
              <a:spcBef>
                <a:spcPts val="451"/>
              </a:spcBef>
              <a:buClr>
                <a:srgbClr val="164e6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lvl="2" marL="343080" indent="-343080">
              <a:spcBef>
                <a:spcPts val="451"/>
              </a:spcBef>
              <a:buClr>
                <a:srgbClr val="164e6a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lvl="3" marL="343080" indent="-343080">
              <a:spcBef>
                <a:spcPts val="451"/>
              </a:spcBef>
              <a:buClr>
                <a:srgbClr val="164e6a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lvl="4" marL="343080" indent="-343080">
              <a:spcBef>
                <a:spcPts val="451"/>
              </a:spcBef>
              <a:buClr>
                <a:srgbClr val="164e6a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 hidden="1"/>
          <p:cNvSpPr/>
          <p:nvPr/>
        </p:nvSpPr>
        <p:spPr>
          <a:xfrm>
            <a:off x="-648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4285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774360" y="1506600"/>
            <a:ext cx="81946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lvl="1" marL="343080" indent="-343080">
              <a:spcBef>
                <a:spcPts val="451"/>
              </a:spcBef>
              <a:buClr>
                <a:srgbClr val="164e6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lvl="2" marL="343080" indent="-343080">
              <a:spcBef>
                <a:spcPts val="451"/>
              </a:spcBef>
              <a:buClr>
                <a:srgbClr val="164e6a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lvl="3" marL="343080" indent="-343080">
              <a:spcBef>
                <a:spcPts val="451"/>
              </a:spcBef>
              <a:buClr>
                <a:srgbClr val="164e6a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lvl="4" marL="343080" indent="-343080">
              <a:spcBef>
                <a:spcPts val="451"/>
              </a:spcBef>
              <a:buClr>
                <a:srgbClr val="164e6a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5" name="Text Box 12"/>
          <p:cNvSpPr/>
          <p:nvPr/>
        </p:nvSpPr>
        <p:spPr>
          <a:xfrm>
            <a:off x="8861400" y="6657840"/>
            <a:ext cx="176400" cy="1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E62C7-93FB-4DD1-A57C-1ABBA4E1B543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123"/>
          <p:cNvSpPr/>
          <p:nvPr/>
        </p:nvSpPr>
        <p:spPr>
          <a:xfrm>
            <a:off x="0" y="0"/>
            <a:ext cx="9144000" cy="163440"/>
          </a:xfrm>
          <a:prstGeom prst="rect">
            <a:avLst/>
          </a:prstGeom>
          <a:solidFill>
            <a:srgbClr val="e2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3440" bIns="72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125" descr="HQ HTM STB TBP - Logo With Continents - v2"/>
          <p:cNvPicPr/>
          <p:nvPr/>
        </p:nvPicPr>
        <p:blipFill>
          <a:blip r:embed="rId2"/>
          <a:stretch/>
        </p:blipFill>
        <p:spPr>
          <a:xfrm>
            <a:off x="7353360" y="6124680"/>
            <a:ext cx="1622520" cy="493560"/>
          </a:xfrm>
          <a:prstGeom prst="rect">
            <a:avLst/>
          </a:prstGeom>
          <a:ln w="0">
            <a:noFill/>
          </a:ln>
        </p:spPr>
      </p:pic>
      <p:sp>
        <p:nvSpPr>
          <p:cNvPr id="168" name="FooterSimple"/>
          <p:cNvSpPr/>
          <p:nvPr/>
        </p:nvSpPr>
        <p:spPr>
          <a:xfrm>
            <a:off x="505800" y="6529320"/>
            <a:ext cx="28843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d4d4d"/>
                </a:solidFill>
                <a:latin typeface="Arial"/>
              </a:rPr>
              <a:t>17</a:t>
            </a:r>
            <a:r>
              <a:rPr b="0" lang="en-US" sz="800" spc="-1" strike="noStrike" baseline="30000">
                <a:solidFill>
                  <a:srgbClr val="4d4d4d"/>
                </a:solidFill>
                <a:latin typeface="Arial"/>
              </a:rPr>
              <a:t>th</a:t>
            </a:r>
            <a:r>
              <a:rPr b="0" lang="en-US" sz="800" spc="-1" strike="noStrike">
                <a:solidFill>
                  <a:srgbClr val="4d4d4d"/>
                </a:solidFill>
                <a:latin typeface="Arial"/>
              </a:rPr>
              <a:t> Coordinating Board Meeting | Geneva | 5-6 November 200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5" descr="the_global_fund"/>
          <p:cNvPicPr/>
          <p:nvPr/>
        </p:nvPicPr>
        <p:blipFill>
          <a:blip r:embed="rId3"/>
          <a:stretch/>
        </p:blipFill>
        <p:spPr>
          <a:xfrm>
            <a:off x="7620120" y="228600"/>
            <a:ext cx="1309680" cy="1309680"/>
          </a:xfrm>
          <a:prstGeom prst="rect">
            <a:avLst/>
          </a:prstGeom>
          <a:ln w="0">
            <a:noFill/>
          </a:ln>
        </p:spPr>
      </p:pic>
      <p:sp>
        <p:nvSpPr>
          <p:cNvPr id="170" name="Rounded Rectangle 10"/>
          <p:cNvSpPr/>
          <p:nvPr/>
        </p:nvSpPr>
        <p:spPr>
          <a:xfrm>
            <a:off x="7620120" y="914400"/>
            <a:ext cx="1371600" cy="304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0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artners Constituenc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5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5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142850"/>
                </a:solidFill>
                <a:latin typeface="Arial"/>
              </a:rPr>
              <a:t>Agenda</a:t>
            </a:r>
            <a:endParaRPr b="1" lang="en-US" sz="32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500720" y="1771560"/>
            <a:ext cx="4038480" cy="505080"/>
          </a:xfrm>
          <a:prstGeom prst="rect">
            <a:avLst/>
          </a:prstGeom>
          <a:solidFill>
            <a:srgbClr val="fce6d8"/>
          </a:solidFill>
          <a:ln w="25560">
            <a:solidFill>
              <a:srgbClr val="c61c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33520" y="9493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58a0"/>
                </a:solidFill>
                <a:latin typeface="Arial"/>
              </a:rPr>
              <a:t>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58a0"/>
                </a:solidFill>
                <a:latin typeface="Arial"/>
                <a:ea typeface="ヒラギノ角ゴ Pro W3"/>
              </a:rPr>
              <a:t>Nove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876920" y="949320"/>
            <a:ext cx="3504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58a0"/>
                </a:solidFill>
                <a:latin typeface="Arial"/>
                <a:ea typeface="ヒラギノ角ゴ Pro W3"/>
              </a:rPr>
              <a:t>6 Nove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952880" y="1330200"/>
            <a:ext cx="3505320" cy="0"/>
          </a:xfrm>
          <a:prstGeom prst="line">
            <a:avLst/>
          </a:prstGeom>
          <a:ln w="19080">
            <a:solidFill>
              <a:srgbClr val="0058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57200" y="1330200"/>
            <a:ext cx="3505320" cy="0"/>
          </a:xfrm>
          <a:prstGeom prst="line">
            <a:avLst/>
          </a:prstGeom>
          <a:ln w="19080">
            <a:solidFill>
              <a:srgbClr val="0058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95280" y="1482840"/>
            <a:ext cx="42670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rmAutofit fontScale="90000"/>
          </a:bodyPr>
          <a:p>
            <a:pPr>
              <a:spcAft>
                <a:spcPts val="1500"/>
              </a:spcAft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09.00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Administrative Ses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0"/>
              </a:spcAft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09.15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Opening Ceremon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0"/>
              </a:spcAft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10.30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Coffee Brea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0"/>
              </a:spcAft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11.00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Strengthening Performance 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0"/>
              </a:spcAft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12.30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Lunch (IL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0"/>
              </a:spcAft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14.00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Partnership Work Plan 2010/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0"/>
              </a:spcAft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15.00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Advocacy Framework 20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0"/>
              </a:spcAft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1" lang="en-GB" sz="1600" spc="-1" strike="noStrike">
                <a:solidFill>
                  <a:srgbClr val="5f5f5f"/>
                </a:solidFill>
                <a:latin typeface="Arial"/>
              </a:rPr>
              <a:t>16.00</a:t>
            </a:r>
            <a:r>
              <a:rPr b="1" lang="en-GB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5f5f5f"/>
                </a:solidFill>
                <a:latin typeface="Arial"/>
              </a:rPr>
              <a:t>Coffee Brea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0"/>
              </a:spcAft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1" lang="en-GB" sz="1600" spc="-1" strike="noStrike">
                <a:solidFill>
                  <a:srgbClr val="5f5f5f"/>
                </a:solidFill>
                <a:latin typeface="Arial"/>
              </a:rPr>
              <a:t>16.30</a:t>
            </a:r>
            <a:r>
              <a:rPr b="1" lang="en-GB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5f5f5f"/>
                </a:solidFill>
                <a:latin typeface="Arial"/>
              </a:rPr>
              <a:t>M/XDR-TB Follow-U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0"/>
              </a:spcAft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1" lang="en-GB" sz="1600" spc="-1" strike="noStrike">
                <a:solidFill>
                  <a:srgbClr val="5f5f5f"/>
                </a:solidFill>
                <a:latin typeface="Arial"/>
              </a:rPr>
              <a:t>18.30 </a:t>
            </a:r>
            <a:r>
              <a:rPr b="1" lang="en-GB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5f5f5f"/>
                </a:solidFill>
                <a:latin typeface="Arial"/>
              </a:rPr>
              <a:t>Cocktail Reception (IL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495680" y="1482840"/>
            <a:ext cx="44197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rmAutofit/>
          </a:bodyPr>
          <a:p>
            <a:pPr>
              <a:spcAft>
                <a:spcPts val="1500"/>
              </a:spcAft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08.30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Engaging the Private S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0"/>
              </a:spcAft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09.30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Engaging the Global Fu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0"/>
              </a:spcAft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10.30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Coffee Brea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0"/>
              </a:spcAft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11.00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Rio Recommend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0"/>
              </a:spcAft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12.30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Lun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0"/>
              </a:spcAft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1" lang="en-GB" sz="1600" spc="-1" strike="noStrike">
                <a:solidFill>
                  <a:srgbClr val="5f5f5f"/>
                </a:solidFill>
                <a:latin typeface="Arial"/>
              </a:rPr>
              <a:t>14.30 </a:t>
            </a:r>
            <a:r>
              <a:rPr b="1" lang="en-GB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Research Mov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0"/>
              </a:spcAft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15.30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Coffee Brea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0"/>
              </a:spcAft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16.00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Impact Assessment Task For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0"/>
              </a:spcAft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1" lang="en-GB" sz="1600" spc="-1" strike="noStrike">
                <a:solidFill>
                  <a:srgbClr val="5f5f5f"/>
                </a:solidFill>
                <a:latin typeface="Arial"/>
              </a:rPr>
              <a:t>17.00 </a:t>
            </a:r>
            <a:r>
              <a:rPr b="1" lang="en-GB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5f5f5f"/>
                </a:solidFill>
                <a:latin typeface="Arial"/>
              </a:rPr>
              <a:t>Clos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0"/>
              </a:spcAft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 hidden="1"/>
          <p:cNvSpPr/>
          <p:nvPr/>
        </p:nvSpPr>
        <p:spPr>
          <a:xfrm>
            <a:off x="-648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3"/>
          <p:cNvSpPr/>
          <p:nvPr/>
        </p:nvSpPr>
        <p:spPr>
          <a:xfrm>
            <a:off x="631800" y="1494000"/>
            <a:ext cx="8021520" cy="19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ngaging the Global Fu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20000"/>
                </a:solidFill>
                <a:latin typeface="Arial"/>
              </a:rPr>
              <a:t>Partners Constitu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Dr. Jorge Bermudez, Executive Secretary, UNITA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4"/>
          <p:cNvSpPr/>
          <p:nvPr/>
        </p:nvSpPr>
        <p:spPr>
          <a:xfrm>
            <a:off x="689040" y="4241880"/>
            <a:ext cx="556416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d4d4d"/>
                </a:solidFill>
                <a:latin typeface="Arial"/>
              </a:rPr>
              <a:t>Geneva, </a:t>
            </a: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5-6 November 20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42850"/>
                </a:solidFill>
                <a:latin typeface="Arial"/>
              </a:rPr>
              <a:t>Origins of the GF Partners Constituency (PC)</a:t>
            </a: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81946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5f5f5f"/>
                </a:solidFill>
                <a:latin typeface="Arial"/>
              </a:rPr>
              <a:t>19</a:t>
            </a:r>
            <a:r>
              <a:rPr b="1" lang="en-GB" sz="2000" spc="-1" strike="noStrike" baseline="30000">
                <a:solidFill>
                  <a:srgbClr val="5f5f5f"/>
                </a:solidFill>
                <a:latin typeface="Arial"/>
              </a:rPr>
              <a:t>th</a:t>
            </a:r>
            <a:r>
              <a:rPr b="1" lang="en-GB" sz="2000" spc="-1" strike="noStrike">
                <a:solidFill>
                  <a:srgbClr val="5f5f5f"/>
                </a:solidFill>
                <a:latin typeface="Arial"/>
              </a:rPr>
              <a:t> GF Board (May 2009) approved creation of the Partners Constituency (non-voting Board member seat) made up of</a:t>
            </a:r>
            <a:endParaRPr b="1" lang="en-US" sz="2000" spc="-1" strike="noStrike">
              <a:solidFill>
                <a:srgbClr val="5f5f5f"/>
              </a:solidFill>
              <a:latin typeface="Arial"/>
            </a:endParaRPr>
          </a:p>
          <a:p>
            <a:pPr lvl="2" marL="914400" indent="-228600">
              <a:spcBef>
                <a:spcPts val="451"/>
              </a:spcBef>
              <a:buClr>
                <a:srgbClr val="164e6a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5f5f5f"/>
                </a:solidFill>
                <a:latin typeface="Arial"/>
              </a:rPr>
              <a:t>Stop TB Partnership, 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lvl="2" marL="914400" indent="-228600">
              <a:spcBef>
                <a:spcPts val="451"/>
              </a:spcBef>
              <a:buClr>
                <a:srgbClr val="164e6a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5f5f5f"/>
                </a:solidFill>
                <a:latin typeface="Arial"/>
              </a:rPr>
              <a:t>RBM, and 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lvl="2" marL="914400" indent="-228600">
              <a:spcBef>
                <a:spcPts val="451"/>
              </a:spcBef>
              <a:buClr>
                <a:srgbClr val="164e6a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5f5f5f"/>
                </a:solidFill>
                <a:latin typeface="Arial"/>
              </a:rPr>
              <a:t>UNITAID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5f5f5f"/>
                </a:solidFill>
                <a:uFillTx/>
                <a:latin typeface="Arial"/>
              </a:rPr>
              <a:t>Purpose</a:t>
            </a:r>
            <a:r>
              <a:rPr b="1" lang="en-GB" sz="2000" spc="-1" strike="noStrike">
                <a:solidFill>
                  <a:srgbClr val="5f5f5f"/>
                </a:solidFill>
                <a:latin typeface="Arial"/>
              </a:rPr>
              <a:t>:</a:t>
            </a:r>
            <a:r>
              <a:rPr b="1" lang="en-GB" sz="1800" spc="-1" strike="noStrike">
                <a:solidFill>
                  <a:srgbClr val="5f5f5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5f5f5f"/>
                </a:solidFill>
                <a:latin typeface="Arial"/>
              </a:rPr>
              <a:t>to represent key partners whose mission is directly related to the Global Fund and who are not currently represented on the Board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227" name="Picture 5" descr="RBM-logo"/>
          <p:cNvPicPr/>
          <p:nvPr/>
        </p:nvPicPr>
        <p:blipFill>
          <a:blip r:embed="rId1"/>
          <a:stretch/>
        </p:blipFill>
        <p:spPr>
          <a:xfrm>
            <a:off x="6300720" y="6021360"/>
            <a:ext cx="723960" cy="52380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6" descr="unitaid"/>
          <p:cNvPicPr/>
          <p:nvPr/>
        </p:nvPicPr>
        <p:blipFill>
          <a:blip r:embed="rId2"/>
          <a:stretch/>
        </p:blipFill>
        <p:spPr>
          <a:xfrm>
            <a:off x="4788000" y="6021360"/>
            <a:ext cx="1119240" cy="59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7720" y="681120"/>
            <a:ext cx="776628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42850"/>
                </a:solidFill>
                <a:latin typeface="Arial"/>
              </a:rPr>
              <a:t>Partners Constituency (PC) representation </a:t>
            </a:r>
            <a:r>
              <a:rPr b="1" lang="en-US" sz="2400" spc="-1" strike="noStrike">
                <a:solidFill>
                  <a:srgbClr val="142850"/>
                </a:solidFill>
                <a:latin typeface="Arial"/>
              </a:rPr>
              <a:t>–</a:t>
            </a:r>
            <a:r>
              <a:rPr b="1" lang="en-GB" sz="2400" spc="-1" strike="noStrike">
                <a:solidFill>
                  <a:srgbClr val="142850"/>
                </a:solidFill>
                <a:latin typeface="Arial"/>
              </a:rPr>
              <a:t> </a:t>
            </a:r>
            <a:br>
              <a:rPr sz="2400"/>
            </a:br>
            <a:r>
              <a:rPr b="1" lang="en-GB" sz="2400" spc="-1" strike="noStrike">
                <a:solidFill>
                  <a:srgbClr val="142850"/>
                </a:solidFill>
                <a:latin typeface="Arial"/>
              </a:rPr>
              <a:t>rotation arrangements</a:t>
            </a: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pic>
        <p:nvPicPr>
          <p:cNvPr id="230" name="Diagram 3" descr=""/>
          <p:cNvPicPr/>
          <p:nvPr/>
        </p:nvPicPr>
        <p:blipFill>
          <a:blip r:embed="rId1"/>
          <a:stretch/>
        </p:blipFill>
        <p:spPr>
          <a:xfrm>
            <a:off x="480960" y="2023920"/>
            <a:ext cx="4645080" cy="290844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5" descr="RBM-logo"/>
          <p:cNvPicPr/>
          <p:nvPr/>
        </p:nvPicPr>
        <p:blipFill>
          <a:blip r:embed="rId2"/>
          <a:stretch/>
        </p:blipFill>
        <p:spPr>
          <a:xfrm>
            <a:off x="6300720" y="6021360"/>
            <a:ext cx="723960" cy="52380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6" descr="unitaid"/>
          <p:cNvPicPr/>
          <p:nvPr/>
        </p:nvPicPr>
        <p:blipFill>
          <a:blip r:embed="rId3"/>
          <a:stretch/>
        </p:blipFill>
        <p:spPr>
          <a:xfrm>
            <a:off x="4788000" y="6021360"/>
            <a:ext cx="1119240" cy="593640"/>
          </a:xfrm>
          <a:prstGeom prst="rect">
            <a:avLst/>
          </a:prstGeom>
          <a:ln w="0">
            <a:noFill/>
          </a:ln>
        </p:spPr>
      </p:pic>
      <p:sp>
        <p:nvSpPr>
          <p:cNvPr id="233" name="Rounded Rectangle 6"/>
          <p:cNvSpPr/>
          <p:nvPr/>
        </p:nvSpPr>
        <p:spPr>
          <a:xfrm>
            <a:off x="5943600" y="2666880"/>
            <a:ext cx="2743200" cy="914400"/>
          </a:xfrm>
          <a:prstGeom prst="roundRect">
            <a:avLst>
              <a:gd name="adj" fmla="val 16667"/>
            </a:avLst>
          </a:prstGeom>
          <a:solidFill>
            <a:srgbClr val="e8f1f9"/>
          </a:solidFill>
          <a:ln w="9360">
            <a:solidFill>
              <a:srgbClr val="e8f1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0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ortfolio and Implementation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mmitte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PI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BM representing PC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2009-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ounded Rectangle 7"/>
          <p:cNvSpPr/>
          <p:nvPr/>
        </p:nvSpPr>
        <p:spPr>
          <a:xfrm>
            <a:off x="5257800" y="2209680"/>
            <a:ext cx="3429000" cy="304920"/>
          </a:xfrm>
          <a:prstGeom prst="roundRect">
            <a:avLst>
              <a:gd name="adj" fmla="val 16667"/>
            </a:avLst>
          </a:prstGeom>
          <a:solidFill>
            <a:srgbClr val="e8f1f9"/>
          </a:solidFill>
          <a:ln w="9360">
            <a:solidFill>
              <a:srgbClr val="e8f1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0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ther PC representation arrang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ounded Rectangle 8"/>
          <p:cNvSpPr/>
          <p:nvPr/>
        </p:nvSpPr>
        <p:spPr>
          <a:xfrm>
            <a:off x="5943600" y="3733920"/>
            <a:ext cx="2743200" cy="685800"/>
          </a:xfrm>
          <a:prstGeom prst="roundRect">
            <a:avLst>
              <a:gd name="adj" fmla="val 16667"/>
            </a:avLst>
          </a:prstGeom>
          <a:solidFill>
            <a:srgbClr val="e8f1f9"/>
          </a:solidFill>
          <a:ln w="9360">
            <a:solidFill>
              <a:srgbClr val="e8f1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0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C 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minated by Board Memb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ach y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Curved Up Arrow 11"/>
          <p:cNvSpPr/>
          <p:nvPr/>
        </p:nvSpPr>
        <p:spPr>
          <a:xfrm flipV="1" rot="10800000">
            <a:off x="4800600" y="5028120"/>
            <a:ext cx="2666880" cy="762120"/>
          </a:xfrm>
          <a:custGeom>
            <a:avLst/>
            <a:gdLst>
              <a:gd name="textAreaLeft" fmla="*/ 595080 w 2666880"/>
              <a:gd name="textAreaRight" fmla="*/ 1976400 w 26668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643" hR="21600" stAng="10800000" swAng="-5400000"/>
                <a:lnTo>
                  <a:pt x="11185" y="21600"/>
                </a:lnTo>
                <a:arcTo wR="9643" hR="21600" stAng="5400000" swAng="-3597406"/>
                <a:lnTo>
                  <a:pt x="21294" y="5400"/>
                </a:lnTo>
                <a:lnTo>
                  <a:pt x="20057" y="0"/>
                </a:lnTo>
                <a:lnTo>
                  <a:pt x="18208" y="5400"/>
                </a:lnTo>
                <a:lnTo>
                  <a:pt x="18980" y="5400"/>
                </a:lnTo>
                <a:arcTo wR="9643" hR="21600" stAng="1802594" swAng="3474356"/>
                <a:lnTo>
                  <a:pt x="10414" y="21531"/>
                </a:lnTo>
                <a:arcTo wR="9643" hR="21600" stAng="5523050" swAng="5276950"/>
                <a:close/>
              </a:path>
              <a:path fill="darkenLess" w="21600" h="21600">
                <a:moveTo>
                  <a:pt x="0" y="0"/>
                </a:moveTo>
                <a:arcTo wR="9643" hR="21600" stAng="10800000" swAng="-5400000"/>
                <a:lnTo>
                  <a:pt x="11185" y="21600"/>
                </a:lnTo>
                <a:arcTo wR="9643" hR="21600" stAng="5400000" swAng="123050"/>
                <a:lnTo>
                  <a:pt x="10414" y="21531"/>
                </a:lnTo>
                <a:arcTo wR="9643" hR="21600" stAng="5523050" swAng="5276950"/>
                <a:close/>
              </a:path>
            </a:pathLst>
          </a:custGeom>
          <a:solidFill>
            <a:srgbClr val="80c3e5"/>
          </a:solidFill>
          <a:ln w="9360">
            <a:solidFill>
              <a:srgbClr val="164e6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0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Curved Up Arrow 13"/>
          <p:cNvSpPr/>
          <p:nvPr/>
        </p:nvSpPr>
        <p:spPr>
          <a:xfrm>
            <a:off x="1981080" y="5029200"/>
            <a:ext cx="2514600" cy="762120"/>
          </a:xfrm>
          <a:custGeom>
            <a:avLst/>
            <a:gdLst>
              <a:gd name="textAreaLeft" fmla="*/ 556920 w 2514600"/>
              <a:gd name="textAreaRight" fmla="*/ 1862280 w 251460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573" hR="21600" stAng="10800000" swAng="-5400000"/>
                <a:lnTo>
                  <a:pt x="11210" y="21600"/>
                </a:lnTo>
                <a:arcTo wR="9573" hR="21600" stAng="5400000" swAng="-3586453"/>
                <a:lnTo>
                  <a:pt x="21296" y="5400"/>
                </a:lnTo>
                <a:lnTo>
                  <a:pt x="19964" y="0"/>
                </a:lnTo>
                <a:lnTo>
                  <a:pt x="18023" y="5400"/>
                </a:lnTo>
                <a:lnTo>
                  <a:pt x="18841" y="5400"/>
                </a:lnTo>
                <a:arcTo wR="9573" hR="21600" stAng="1813547" swAng="3455769"/>
                <a:lnTo>
                  <a:pt x="10391" y="21521"/>
                </a:lnTo>
                <a:arcTo wR="9573" hR="21600" stAng="5530684" swAng="5269316"/>
                <a:close/>
              </a:path>
              <a:path fill="darkenLess" w="21600" h="21600">
                <a:moveTo>
                  <a:pt x="0" y="0"/>
                </a:moveTo>
                <a:arcTo wR="9573" hR="21600" stAng="10800000" swAng="-5400000"/>
                <a:lnTo>
                  <a:pt x="11210" y="21600"/>
                </a:lnTo>
                <a:arcTo wR="9573" hR="21600" stAng="5400000" swAng="130684"/>
                <a:lnTo>
                  <a:pt x="10391" y="21521"/>
                </a:lnTo>
                <a:arcTo wR="9573" hR="21600" stAng="5530684" swAng="5269316"/>
                <a:close/>
              </a:path>
            </a:pathLst>
          </a:custGeom>
          <a:solidFill>
            <a:srgbClr val="80c3e5"/>
          </a:solidFill>
          <a:ln w="9360">
            <a:solidFill>
              <a:srgbClr val="164e6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0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42850"/>
                </a:solidFill>
                <a:latin typeface="Arial"/>
              </a:rPr>
              <a:t>Process for developing constituency positions</a:t>
            </a: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239" name="Rounded Rectangle 6"/>
          <p:cNvSpPr/>
          <p:nvPr/>
        </p:nvSpPr>
        <p:spPr>
          <a:xfrm>
            <a:off x="152280" y="2895480"/>
            <a:ext cx="2286000" cy="2057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164e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0000" anchor="t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s review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lligence gathe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l positions discussed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draf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ounded Rectangle 8"/>
          <p:cNvSpPr/>
          <p:nvPr/>
        </p:nvSpPr>
        <p:spPr>
          <a:xfrm>
            <a:off x="533520" y="4419720"/>
            <a:ext cx="2133360" cy="761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27cbf"/>
              </a:gs>
              <a:gs pos="100000">
                <a:srgbClr val="c0e1f2"/>
              </a:gs>
            </a:gsLst>
            <a:lin ang="15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0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orking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ounded Rectangle 9"/>
          <p:cNvSpPr/>
          <p:nvPr/>
        </p:nvSpPr>
        <p:spPr>
          <a:xfrm>
            <a:off x="3276720" y="2895480"/>
            <a:ext cx="2286000" cy="2057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164e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0000" anchor="t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e tune pos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ensus principle on an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entious iss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on for th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ituency not individual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orting b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ounded Rectangle 15"/>
          <p:cNvSpPr/>
          <p:nvPr/>
        </p:nvSpPr>
        <p:spPr>
          <a:xfrm>
            <a:off x="6248520" y="2895480"/>
            <a:ext cx="2361960" cy="2057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164e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0000" anchor="t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documents shared f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edback and inpu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 statement shared f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mited number of badges f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mbers to attend the Boar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part of Partners Constitu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Curved Up Arrow 16"/>
          <p:cNvSpPr/>
          <p:nvPr/>
        </p:nvSpPr>
        <p:spPr>
          <a:xfrm flipH="1" rot="10800000">
            <a:off x="5257800" y="1980720"/>
            <a:ext cx="2666880" cy="838440"/>
          </a:xfrm>
          <a:custGeom>
            <a:avLst/>
            <a:gdLst>
              <a:gd name="textAreaLeft" fmla="*/ 588240 w 2666880"/>
              <a:gd name="textAreaRight" fmla="*/ 1974600 w 2666880"/>
              <a:gd name="textAreaTop" fmla="*/ 112320 h 838440"/>
              <a:gd name="textAreaBottom" fmla="*/ 72612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527" hR="21600" stAng="10800000" swAng="-5400000"/>
                <a:lnTo>
                  <a:pt x="11225" y="21600"/>
                </a:lnTo>
                <a:arcTo wR="9527" hR="21600" stAng="5400000" swAng="-3579320"/>
                <a:lnTo>
                  <a:pt x="21297" y="5400"/>
                </a:lnTo>
                <a:lnTo>
                  <a:pt x="19903" y="0"/>
                </a:lnTo>
                <a:lnTo>
                  <a:pt x="17903" y="5400"/>
                </a:lnTo>
                <a:lnTo>
                  <a:pt x="18751" y="5400"/>
                </a:lnTo>
                <a:arcTo wR="9527" hR="21600" stAng="1820680" swAng="3443728"/>
                <a:lnTo>
                  <a:pt x="10376" y="21514"/>
                </a:lnTo>
                <a:arcTo wR="9527" hR="21600" stAng="5535592" swAng="5264408"/>
                <a:close/>
              </a:path>
              <a:path fill="darkenLess" w="21600" h="21600">
                <a:moveTo>
                  <a:pt x="0" y="0"/>
                </a:moveTo>
                <a:arcTo wR="9527" hR="21600" stAng="10800000" swAng="-5400000"/>
                <a:lnTo>
                  <a:pt x="11225" y="21600"/>
                </a:lnTo>
                <a:arcTo wR="9527" hR="21600" stAng="5400000" swAng="135592"/>
                <a:lnTo>
                  <a:pt x="10376" y="21514"/>
                </a:lnTo>
                <a:arcTo wR="9527" hR="21600" stAng="5535592" swAng="5264408"/>
                <a:close/>
              </a:path>
            </a:pathLst>
          </a:custGeom>
          <a:solidFill>
            <a:srgbClr val="80c3e5"/>
          </a:solidFill>
          <a:ln w="9360">
            <a:solidFill>
              <a:srgbClr val="164e6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0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ounded Rectangle 17"/>
          <p:cNvSpPr/>
          <p:nvPr/>
        </p:nvSpPr>
        <p:spPr>
          <a:xfrm>
            <a:off x="4114800" y="2286000"/>
            <a:ext cx="213372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27cbf"/>
              </a:gs>
              <a:gs pos="100000">
                <a:srgbClr val="c0e1f2"/>
              </a:gs>
            </a:gsLst>
            <a:lin ang="15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0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ounded Rectangle 14"/>
          <p:cNvSpPr/>
          <p:nvPr/>
        </p:nvSpPr>
        <p:spPr>
          <a:xfrm>
            <a:off x="6781680" y="4419720"/>
            <a:ext cx="2133720" cy="761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27cbf"/>
              </a:gs>
              <a:gs pos="100000">
                <a:srgbClr val="c0e1f2"/>
              </a:gs>
            </a:gsLst>
            <a:lin ang="15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0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mmitt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5" descr="RBM-logo"/>
          <p:cNvPicPr/>
          <p:nvPr/>
        </p:nvPicPr>
        <p:blipFill>
          <a:blip r:embed="rId1"/>
          <a:stretch/>
        </p:blipFill>
        <p:spPr>
          <a:xfrm>
            <a:off x="6300720" y="6021360"/>
            <a:ext cx="723960" cy="5238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6" descr="unitaid"/>
          <p:cNvPicPr/>
          <p:nvPr/>
        </p:nvPicPr>
        <p:blipFill>
          <a:blip r:embed="rId2"/>
          <a:stretch/>
        </p:blipFill>
        <p:spPr>
          <a:xfrm>
            <a:off x="4788000" y="6021360"/>
            <a:ext cx="1119240" cy="59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42850"/>
                </a:solidFill>
                <a:latin typeface="Arial"/>
              </a:rPr>
              <a:t>Regular PC Executive Heads meetings</a:t>
            </a: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81946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5f5f5f"/>
                </a:solidFill>
                <a:latin typeface="Arial"/>
              </a:rPr>
              <a:t>1 month before major GF Board related meetings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5f5f5f"/>
                </a:solidFill>
                <a:latin typeface="Arial"/>
              </a:rPr>
              <a:t>1 week before major meetings to discuss details of GF Board and Committee agenda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5f5f5f"/>
                </a:solidFill>
                <a:latin typeface="Arial"/>
              </a:rPr>
              <a:t>PC Heads update the night before Board meetings to agree on PC consensus positions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5f5f5f"/>
                </a:solidFill>
                <a:latin typeface="Arial"/>
              </a:rPr>
              <a:t>Post-mortem/follow-up (as agreed)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5f5f5f"/>
                </a:solidFill>
                <a:latin typeface="Arial"/>
              </a:rPr>
              <a:t>Others as required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250" name="Picture 5" descr="RBM-logo"/>
          <p:cNvPicPr/>
          <p:nvPr/>
        </p:nvPicPr>
        <p:blipFill>
          <a:blip r:embed="rId1"/>
          <a:stretch/>
        </p:blipFill>
        <p:spPr>
          <a:xfrm>
            <a:off x="6300720" y="6021360"/>
            <a:ext cx="723960" cy="52380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6" descr="unitaid"/>
          <p:cNvPicPr/>
          <p:nvPr/>
        </p:nvPicPr>
        <p:blipFill>
          <a:blip r:embed="rId2"/>
          <a:stretch/>
        </p:blipFill>
        <p:spPr>
          <a:xfrm>
            <a:off x="4788000" y="6021360"/>
            <a:ext cx="1119240" cy="59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6T07:38:35Z</dcterms:created>
  <dc:creator>Alan Esser</dc:creator>
  <dc:description/>
  <dc:language>en-US</dc:language>
  <cp:lastModifiedBy>Alan Esser</cp:lastModifiedBy>
  <dcterms:modified xsi:type="dcterms:W3CDTF">2009-11-06T07:38:49Z</dcterms:modified>
  <cp:revision>1</cp:revision>
  <dc:subject/>
  <dc:title>Agenda</dc:title>
</cp:coreProperties>
</file>